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E77-C409-4934-99C8-C50F22AE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081-F50A-44E4-9943-03ED37D1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5A0-13CA-48E0-9941-4CDBBE5F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B2B-BC66-4AB0-9E9F-6B3CD6A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15A3-CF39-40C5-B339-51AD1F83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C54B-1084-4B39-89BE-2DA947AD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FC13-908F-42C9-BB11-646FD95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8C3C-F08C-43EF-BDE6-41199FB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5AF-4F4B-49C3-90E3-B901D3CE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AF6-B123-4AAD-BB4E-9F71EFF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0CA6-966A-4715-9E1D-A9532F8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5E0-3944-447C-9BAB-513C8AB8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914C-0E80-481A-B14A-A4918F1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B852-1A96-4152-B1D1-4CE080B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A879-266E-42E0-941E-517418D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1F7-A1AC-4619-8581-42650381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6DA-CDD3-4F33-8491-8879456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413-4B5B-46DD-B02F-C4A0444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F1F-C91F-4AF0-A5E5-9F66EE7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8AB-60EC-4D4B-97EB-BD1128F1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9F0-C1BF-438F-B4FE-6E71FFA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7F6-D584-4A63-8B9A-8038C04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754-593D-4363-8CFC-51B1B82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183-A205-4D4D-8BCC-2B426AB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D66-4ABA-4CA7-86A1-70FB42234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B56-A80F-4D85-99AE-2C71EB67D5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00045317"/>
          <p:cNvPicPr/>
          <p:nvPr/>
        </p:nvPicPr>
        <p:blipFill>
          <a:blip r:embed="rId1"/>
          <a:stretch/>
        </p:blipFill>
        <p:spPr>
          <a:xfrm>
            <a:off x="6089760" y="2276640"/>
            <a:ext cx="305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5" descr="neft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untitled"/>
          <p:cNvPicPr/>
          <p:nvPr/>
        </p:nvPicPr>
        <p:blipFill>
          <a:blip r:embed="rId1"/>
          <a:stretch/>
        </p:blipFill>
        <p:spPr>
          <a:xfrm>
            <a:off x="5749920" y="1773360"/>
            <a:ext cx="3394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посмотреть, нет ли людей в 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IMG_0036_01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5" descr="IMG_0029_01"/>
          <p:cNvPicPr/>
          <p:nvPr/>
        </p:nvPicPr>
        <p:blipFill>
          <a:blip r:embed="rId1"/>
          <a:stretch/>
        </p:blipFill>
        <p:spPr>
          <a:xfrm>
            <a:off x="5815080" y="1844640"/>
            <a:ext cx="3328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 метательные 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p16_imga1268"/>
          <p:cNvPicPr/>
          <p:nvPr/>
        </p:nvPicPr>
        <p:blipFill>
          <a:blip r:embed="rId1"/>
          <a:stretch/>
        </p:blipFill>
        <p:spPr>
          <a:xfrm>
            <a:off x="5805360" y="1844640"/>
            <a:ext cx="3338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1" descr="IMG_0046_01"/>
          <p:cNvPicPr/>
          <p:nvPr/>
        </p:nvPicPr>
        <p:blipFill>
          <a:blip r:embed="rId1"/>
          <a:stretch/>
        </p:blipFill>
        <p:spPr>
          <a:xfrm>
            <a:off x="5958000" y="2060640"/>
            <a:ext cx="3186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5" descr="127039_image_large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11" descr="tanci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00045188"/>
          <p:cNvPicPr/>
          <p:nvPr/>
        </p:nvPicPr>
        <p:blipFill>
          <a:blip r:embed="rId1"/>
          <a:stretch/>
        </p:blipFill>
        <p:spPr>
          <a:xfrm>
            <a:off x="5770440" y="1844640"/>
            <a:ext cx="3373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Кабинет</cp:lastModifiedBy>
  <dcterms:modified xsi:type="dcterms:W3CDTF">2019-05-08T11:51:1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