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1BC-6315-49C1-9354-F06B2A7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C54-1D57-4905-9707-6A44F6C6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AB0-1B6D-4D72-84C8-981AA508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D74-7615-4553-B39B-5E7BC949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E2AD-BC93-4CCB-AC01-AFBD3AE8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CA6F-4715-4C73-BADE-0F8E63DF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47D2-87D4-410C-9893-FBE94A4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1729-2039-4A98-BBE7-B68F35CF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58EF-216B-4CF6-BC56-2C9030C2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1BE-16E1-4D03-88BD-FD8482BE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29CC-9BCB-4078-8D66-03CD089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E8F-9447-49A2-BF2C-F6F05F03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6160-98C4-4FBB-9597-3309A64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09DF-F011-4EB6-9310-5455FCB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0CE-B2E1-46B1-898B-F4893EE3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DBC2-D10F-4B02-89D1-6AF3980A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3738-B99A-4D53-AEF1-0B85E1C1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7AC-03A0-4606-836D-302EC52A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A4A-1FC8-428C-9B67-0A5A8B4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7CC-8008-4C53-9CC8-8C6A171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CF7-9BAD-4EC7-B1A3-B7C0DB8E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94E-E37B-4038-804D-31F55D7B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23E-335E-462A-90B1-FB9FBAFF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F25-0708-494C-A6F6-03F5E6B9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6DB2-95AC-4FE6-B293-554BCD70B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F9F7-A9D2-4A42-8D9E-4CCF39CA92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Техника безопасности при занятиях легкой атлетикой</a:t>
            </a:r>
            <a:r>
              <a:rPr b="1" lang="ru-RU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00045099"/>
          <p:cNvPicPr/>
          <p:nvPr/>
        </p:nvPicPr>
        <p:blipFill>
          <a:blip r:embed="rId1"/>
          <a:stretch/>
        </p:blipFill>
        <p:spPr>
          <a:xfrm>
            <a:off x="0" y="3645000"/>
            <a:ext cx="2141640" cy="321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39937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9. Не перебегать (пересекать) дорожку во время бега «соревнующихся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0. При групповом старте не толкаться локтями, не наступать на пятки впереди бегущег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5" descr="00045000"/>
          <p:cNvPicPr/>
          <p:nvPr/>
        </p:nvPicPr>
        <p:blipFill>
          <a:blip r:embed="rId1"/>
          <a:stretch/>
        </p:blipFill>
        <p:spPr>
          <a:xfrm>
            <a:off x="1476360" y="1828800"/>
            <a:ext cx="76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1. Во время бега на длинные дистанции уметь правильно распределять силы по дистанции (не начинать быстро)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00045317"/>
          <p:cNvPicPr/>
          <p:nvPr/>
        </p:nvPicPr>
        <p:blipFill>
          <a:blip r:embed="rId1"/>
          <a:stretch/>
        </p:blipFill>
        <p:spPr>
          <a:xfrm>
            <a:off x="6089760" y="2276640"/>
            <a:ext cx="305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2. После финиша следует перейти на ходьбу до полного восстановления дыхания, нельзя резко останавливаться, садиться или ложитьс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5" descr="00044998"/>
          <p:cNvPicPr/>
          <p:nvPr/>
        </p:nvPicPr>
        <p:blipFill>
          <a:blip r:embed="rId1"/>
          <a:stretch/>
        </p:blipFill>
        <p:spPr>
          <a:xfrm>
            <a:off x="3492360" y="3125880"/>
            <a:ext cx="5651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3. Не выполнять прыжки на неровный, рыхлый или скользкий грунт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5" descr="07272006132401"/>
          <p:cNvPicPr/>
          <p:nvPr/>
        </p:nvPicPr>
        <p:blipFill>
          <a:blip r:embed="rId1"/>
          <a:stretch/>
        </p:blipFill>
        <p:spPr>
          <a:xfrm>
            <a:off x="406404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4. Соблюдать очередность выполнения попыток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5" descr="neft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5. Не переходить места, на которых проводятся занятия по мета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5" descr="big_1219130183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6. Выполнять метания только по команде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5" descr="untitled"/>
          <p:cNvPicPr/>
          <p:nvPr/>
        </p:nvPicPr>
        <p:blipFill>
          <a:blip r:embed="rId1"/>
          <a:stretch/>
        </p:blipFill>
        <p:spPr>
          <a:xfrm>
            <a:off x="5749920" y="1773360"/>
            <a:ext cx="3394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7. Перед выполнением метания посмотреть, нет ли людей в зоне приземления снаря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IMG_0036_01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8. Не стоять рядом с метающи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5" descr="IMG_0029_01"/>
          <p:cNvPicPr/>
          <p:nvPr/>
        </p:nvPicPr>
        <p:blipFill>
          <a:blip r:embed="rId1"/>
          <a:stretch/>
        </p:blipFill>
        <p:spPr>
          <a:xfrm>
            <a:off x="5815080" y="1844640"/>
            <a:ext cx="3328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. Соблюдать дисциплину в ходе занят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8" descr="25202"/>
          <p:cNvPicPr/>
          <p:nvPr/>
        </p:nvPicPr>
        <p:blipFill>
          <a:blip r:embed="rId1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9. Не стоять в поле (коридоре), где приземляются метательные снаря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29791"/>
          <p:cNvPicPr/>
          <p:nvPr/>
        </p:nvPicPr>
        <p:blipFill>
          <a:blip r:embed="rId1"/>
          <a:stretch/>
        </p:blipFill>
        <p:spPr>
          <a:xfrm>
            <a:off x="3564000" y="1849320"/>
            <a:ext cx="558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0. Не ловить метательные снаря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5" descr="B-sp-005-vl"/>
          <p:cNvPicPr/>
          <p:nvPr/>
        </p:nvPicPr>
        <p:blipFill>
          <a:blip r:embed="rId1"/>
          <a:stretch/>
        </p:blipFill>
        <p:spPr>
          <a:xfrm>
            <a:off x="2987640" y="1933560"/>
            <a:ext cx="6156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1. Не передавать метательные снаряды брос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p16_imga1268"/>
          <p:cNvPicPr/>
          <p:nvPr/>
        </p:nvPicPr>
        <p:blipFill>
          <a:blip r:embed="rId1"/>
          <a:stretch/>
        </p:blipFill>
        <p:spPr>
          <a:xfrm>
            <a:off x="5805360" y="1844640"/>
            <a:ext cx="3338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2. Не выходить в поле (коридор) за метательными снарядами без разрешения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11" descr="IMG_0046_01"/>
          <p:cNvPicPr/>
          <p:nvPr/>
        </p:nvPicPr>
        <p:blipFill>
          <a:blip r:embed="rId1"/>
          <a:stretch/>
        </p:blipFill>
        <p:spPr>
          <a:xfrm>
            <a:off x="5958000" y="2060640"/>
            <a:ext cx="3186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3. При падении сгруппироваться во избежание получения травм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5" descr="foto"/>
          <p:cNvPicPr/>
          <p:nvPr/>
        </p:nvPicPr>
        <p:blipFill>
          <a:blip r:embed="rId1"/>
          <a:stretch/>
        </p:blipFill>
        <p:spPr>
          <a:xfrm>
            <a:off x="5830920" y="1916280"/>
            <a:ext cx="3313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24. При плохом самочувствии или травме немедленно сообщить учител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10" descr="00045020"/>
          <p:cNvPicPr/>
          <p:nvPr/>
        </p:nvPicPr>
        <p:blipFill>
          <a:blip r:embed="rId1"/>
          <a:stretch/>
        </p:blipFill>
        <p:spPr>
          <a:xfrm>
            <a:off x="0" y="376092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15183"/>
          <p:cNvPicPr/>
          <p:nvPr/>
        </p:nvPicPr>
        <p:blipFill>
          <a:blip r:embed="rId2"/>
          <a:stretch/>
        </p:blipFill>
        <p:spPr>
          <a:xfrm>
            <a:off x="5076720" y="1628640"/>
            <a:ext cx="392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. Заниматься в спортивной обуви и форме, соответствующей погодным условия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15" descr="00045450"/>
          <p:cNvPicPr/>
          <p:nvPr/>
        </p:nvPicPr>
        <p:blipFill>
          <a:blip r:embed="rId1"/>
          <a:stretch/>
        </p:blipFill>
        <p:spPr>
          <a:xfrm>
            <a:off x="5769000" y="1844640"/>
            <a:ext cx="3375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3. Заниматься легкой атлетикой только в местах, названных учителем, в поле его зр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5" descr="127039_image_large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4. Приступать к выполнению легкоатлетических упражнений только после разминк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11" descr="tanci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5. Не бежать навстречу общему движению учащихся на беговой дорожке (бег по кругу стадиона осуществлять только в направлении против часовой стрелк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5" descr="1022533_1198833106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6. Бежать короткие (спринтерские дистанции) только по своей дорож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00045132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7. Во время бега не смотреть под ноги, на своего соперник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00045188"/>
          <p:cNvPicPr/>
          <p:nvPr/>
        </p:nvPicPr>
        <p:blipFill>
          <a:blip r:embed="rId1"/>
          <a:stretch/>
        </p:blipFill>
        <p:spPr>
          <a:xfrm>
            <a:off x="5770440" y="1844640"/>
            <a:ext cx="3373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8. Не допускать стопорящей (резкой) остановки после финиш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00044968"/>
          <p:cNvPicPr/>
          <p:nvPr/>
        </p:nvPicPr>
        <p:blipFill>
          <a:blip r:embed="rId1"/>
          <a:stretch/>
        </p:blipFill>
        <p:spPr>
          <a:xfrm>
            <a:off x="5457960" y="1844640"/>
            <a:ext cx="3686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42:24Z</dcterms:created>
  <dc:creator>user</dc:creator>
  <dc:description/>
  <dc:language>en-US</dc:language>
  <cp:lastModifiedBy>Кабинет</cp:lastModifiedBy>
  <dcterms:modified xsi:type="dcterms:W3CDTF">2019-05-08T11:51:1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50300207f7000400038000</vt:lpwstr>
  </property>
</Properties>
</file>