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8FE-5980-4425-BEFE-AE83309D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4A9-5039-45D4-A744-7C11A34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AA6-30E9-4C60-A595-E64235D5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BF4-5B96-4102-AA18-A37711D7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57B-DB02-4A80-B376-84911F0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0A0-8CB2-446D-B564-49AAF0E4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20-190B-43B0-8DA4-83F88A1B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258-2578-41BD-A7F1-322E17B8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DBF-4132-45A6-ABB3-88507097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078-4349-4F76-90D9-8CA9B06F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7C0-50F1-428C-85EC-759ABF6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A77-85D5-47FE-B949-E3F7941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142-84DE-4DF3-AC22-4D898687A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71560" y="801720"/>
            <a:ext cx="1121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лективная система обуче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В.К. Дьяч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546200" y="1608120"/>
            <a:ext cx="5178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виток: горизонтальный 1"/>
          <p:cNvSpPr/>
          <p:nvPr/>
        </p:nvSpPr>
        <p:spPr>
          <a:xfrm>
            <a:off x="1012680" y="0"/>
            <a:ext cx="10255320" cy="2954160"/>
          </a:xfrm>
          <a:prstGeom prst="horizontalScroll">
            <a:avLst>
              <a:gd name="adj" fmla="val 12500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щение в паре — это основная и первоначальная ячейка, простейшая и важнейшая форма взаимодействия человека с другими людьми, благодаря которой человек приобщается к знаниям и опыту других людей, а через них — к знаниям и опыту всего человечества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.К. Дьячен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2846520" y="2475000"/>
            <a:ext cx="6499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1"/>
          <p:cNvSpPr/>
          <p:nvPr/>
        </p:nvSpPr>
        <p:spPr>
          <a:xfrm>
            <a:off x="3614760" y="541440"/>
            <a:ext cx="4962600" cy="1266840"/>
          </a:xfrm>
          <a:prstGeom prst="ellipse">
            <a:avLst/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ение по В.К. Дьяч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: скругленные углы 2"/>
          <p:cNvSpPr/>
          <p:nvPr/>
        </p:nvSpPr>
        <p:spPr>
          <a:xfrm>
            <a:off x="5143680" y="2025720"/>
            <a:ext cx="1904760" cy="84456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: скругленные углы 3"/>
          <p:cNvSpPr/>
          <p:nvPr/>
        </p:nvSpPr>
        <p:spPr>
          <a:xfrm>
            <a:off x="2279520" y="2884320"/>
            <a:ext cx="2892600" cy="6606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ающ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: скругленные углы 4"/>
          <p:cNvSpPr/>
          <p:nvPr/>
        </p:nvSpPr>
        <p:spPr>
          <a:xfrm>
            <a:off x="6986520" y="2884320"/>
            <a:ext cx="2894040" cy="6606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аем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: загнутый угол 5"/>
          <p:cNvSpPr/>
          <p:nvPr/>
        </p:nvSpPr>
        <p:spPr>
          <a:xfrm>
            <a:off x="1562040" y="3981600"/>
            <a:ext cx="9636120" cy="2673360"/>
          </a:xfrm>
          <a:prstGeom prst="foldedCorner">
            <a:avLst>
              <a:gd name="adj" fmla="val 16666"/>
            </a:avLst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 – организация обучения, при которой оно осуществляется путем общения в динамических парах, когда каждый учит каждо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 flipH="1">
            <a:off x="364320" y="2166840"/>
            <a:ext cx="6599160" cy="2501280"/>
          </a:xfrm>
          <a:prstGeom prst="rect">
            <a:avLst/>
          </a:prstGeom>
          <a:solidFill>
            <a:srgbClr val="c5e0b4"/>
          </a:solidFill>
          <a:ln w="936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. Г. Ривин и В. К. Дьяченко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рму динамических (меняющихся) пар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в которых ребенок выступает поочередно то учеником, то уч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7499520" y="1284120"/>
            <a:ext cx="4130640" cy="42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915840" y="1090440"/>
            <a:ext cx="10360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ные формы развития КС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"здоровьесохраняющая" технолог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интеллектуально развивающая технолог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педагогического процесса в контексте деятельностного под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гуманного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демократического способа обучения по способностя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КСО-технология самообучения и самоуправл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2952720" y="2478240"/>
            <a:ext cx="5826240" cy="43797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: скругленные углы 1"/>
          <p:cNvSpPr/>
          <p:nvPr/>
        </p:nvSpPr>
        <p:spPr>
          <a:xfrm>
            <a:off x="679320" y="182520"/>
            <a:ext cx="10833120" cy="289872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Целевое назнач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вышение успеваемости всех учащихся и ускорение темпов продвижения;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спитание у учащихся самостоятельности, коллективизма, ответственности за себя и за других;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витие речи и мышления;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рмирование навыков самообразования, культуры умственного и учебного труда. 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: скругленные углы 1"/>
          <p:cNvSpPr/>
          <p:nvPr/>
        </p:nvSpPr>
        <p:spPr>
          <a:xfrm>
            <a:off x="436680" y="352440"/>
            <a:ext cx="5659200" cy="6175440"/>
          </a:xfrm>
          <a:custGeom>
            <a:avLst/>
            <a:gdLst>
              <a:gd name="textAreaLeft" fmla="*/ 276120 w 5659200"/>
              <a:gd name="textAreaRight" fmla="*/ 5383080 w 5659200"/>
              <a:gd name="textAreaTop" fmla="*/ 276120 h 6175440"/>
              <a:gd name="textAreaBottom" fmla="*/ 5899320 h 6175440"/>
            </a:gdLst>
            <a:ahLst/>
            <a:rect l="textAreaLeft" t="textAreaTop" r="textAreaRight" b="textAreaBottom"/>
            <a:pathLst>
              <a:path w="21600" h="23570">
                <a:moveTo>
                  <a:pt x="3600" y="0"/>
                </a:moveTo>
                <a:arcTo wR="3600" hR="3600" stAng="16200000" swAng="-5400000"/>
                <a:lnTo>
                  <a:pt x="0" y="19970"/>
                </a:lnTo>
                <a:arcTo wR="3600" hR="3600" stAng="10800000" swAng="-5400000"/>
                <a:lnTo>
                  <a:pt x="18000" y="23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.К. Дьяченко выделяет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НЦИПЫ КС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прерывность передачи знаний друг друг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рудничество и взаимопомощ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нообразие тем и зад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учение по способност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дагогизации деятельности каждого участника учебных занят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риентация на конечный резуль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6486480" y="341280"/>
            <a:ext cx="511956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1"/>
          <p:cNvSpPr/>
          <p:nvPr/>
        </p:nvSpPr>
        <p:spPr>
          <a:xfrm>
            <a:off x="7319880" y="266760"/>
            <a:ext cx="4754520" cy="1582560"/>
          </a:xfrm>
          <a:prstGeom prst="ellipse">
            <a:avLst/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ед учителем стоит задача, как правильно сформировать групп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98640" y="288432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: скругленные углы 3"/>
          <p:cNvSpPr/>
          <p:nvPr/>
        </p:nvSpPr>
        <p:spPr>
          <a:xfrm>
            <a:off x="210960" y="450720"/>
            <a:ext cx="6977160" cy="63025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тролирует ход работы в группах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чает на вопрос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гулирует споры, порядок работы и в случае крайней необходимости оказывает помощь отдельным учащимся или группе в цел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рганизатором отношений и взаимоотношений в учебном процессе;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существляет мотивационное управление учением школьников;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создаёт ситуацию успеха, оказывает помощь и поддержку;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демонстрирует полное доверие ребёнку, веру в его возможности;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 откровенно высказывает собственную пози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1"/>
          <a:srcRect l="17826" t="17008" r="3510" b="16041"/>
          <a:stretch/>
        </p:blipFill>
        <p:spPr>
          <a:xfrm>
            <a:off x="8847000" y="1849320"/>
            <a:ext cx="383724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: скругленные углы 1"/>
          <p:cNvSpPr/>
          <p:nvPr/>
        </p:nvSpPr>
        <p:spPr>
          <a:xfrm>
            <a:off x="281160" y="1371600"/>
            <a:ext cx="8272440" cy="313704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   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  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Домашние задания непрерывны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каждый выполняет свою норму, которую определяет себе сам. Каждый может взять индивидуальное задание по теме, чтобы научиться решать задачи на желательном для себя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еред контрольной работой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водится урок-зачёт: классический тест, компьютерное тестирование, программированный контро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6958080" y="1987560"/>
            <a:ext cx="56912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757600" y="422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: загнутый угол 2"/>
          <p:cNvSpPr/>
          <p:nvPr/>
        </p:nvSpPr>
        <p:spPr>
          <a:xfrm>
            <a:off x="6499080" y="210960"/>
            <a:ext cx="5443560" cy="1758960"/>
          </a:xfrm>
          <a:prstGeom prst="foldedCorner">
            <a:avLst>
              <a:gd name="adj" fmla="val 16666"/>
            </a:avLst>
          </a:prstGeom>
          <a:solidFill>
            <a:srgbClr val="fff2cc"/>
          </a:solidFill>
          <a:ln w="12600">
            <a:solidFill>
              <a:srgbClr val="c55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коллективных занятиях каждый ученик становится учите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rcRect l="0" t="22444" r="17796" b="0"/>
          <a:stretch/>
        </p:blipFill>
        <p:spPr>
          <a:xfrm>
            <a:off x="511200" y="2236680"/>
            <a:ext cx="6667560" cy="4199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: скругленные углы 5"/>
          <p:cNvSpPr/>
          <p:nvPr/>
        </p:nvSpPr>
        <p:spPr>
          <a:xfrm>
            <a:off x="7778880" y="2616120"/>
            <a:ext cx="3902040" cy="31305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1260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се обучают всех. При групповом способе обучения учитель все делал сам, при коллективном все делает коллекти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1:59:22Z</dcterms:created>
  <dc:creator>Татьяна</dc:creator>
  <dc:description/>
  <dc:language>en-US</dc:language>
  <cp:lastModifiedBy>admin</cp:lastModifiedBy>
  <dcterms:modified xsi:type="dcterms:W3CDTF">2019-05-16T18:10:19Z</dcterms:modified>
  <cp:revision>9</cp:revision>
  <dc:subject/>
  <dc:title>Презентация PowerPoint</dc:title>
</cp:coreProperties>
</file>