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EC1-973B-49F9-AC2A-7E127CF1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010-AA09-4FDC-B85D-BE089769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344-B976-4222-AAB2-061413E0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6AE-0CE3-485F-9BDA-6507394F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77CD-B668-46F0-BD9A-89167AFF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3111-E502-4517-9F42-CC2C339F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0592-11D3-4B9E-8879-0F096DC5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B6DA-0168-470D-BFB7-5FF8D5B2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9F12-49B8-4E7F-8F7C-51695F0C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BEA1-6BF8-46AF-8713-EF0E0CD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CAFD-C897-4673-ACEE-153515EE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2D8-4641-40F6-832F-F80CCD98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B6DF-BF0D-4C53-8191-A6CB3DE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8FC0-C362-4D0A-A397-6ECFD94F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D81C-7CD8-4B09-A94A-9C525DA5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EC6D-5B82-4F34-9E9B-14FDE110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DD65-824F-41F2-8661-C401E30F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8DA8-80DF-4ABF-9E02-078BC179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4563-7945-4536-B5E0-81A5D704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8112-A229-4B20-AEFC-8CB6C18F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C29D-4ECA-4540-89E7-EE9211D1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8B40-BF37-438E-8676-4E8723D6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F66-B42C-495C-8F37-135F1D7B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EE2F-96EE-4322-AC92-09A0891E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1F2A-9864-4C99-A72B-6D7D8CF4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373E8-CF05-4906-95F5-FD10B1C6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C735-728D-467D-BE5C-D2B0C2DD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F941-FE8E-461E-AEF0-3E4304CA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7C3F-99FB-4C7D-A5A1-349FC2C6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7AEC-F789-4F0D-BA1D-FA15C7B8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C5FF-71CF-49DF-8F1A-EACB2D5B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0EB4-6669-4410-A2F7-857F370A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B7D59-37CF-49A1-B8B3-46DF1156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B9A-7A00-4979-9A4A-E26C6BAA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7DFA-DACD-4740-AC3E-357580E4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CF8F-8123-49A8-8406-12E1B282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B4A2-79BA-4C3B-A32F-8C79C89D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36BB-3856-4DD7-BF72-66A4FCDB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A3B9-CD93-4638-9B29-35305FA4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F5A4-BDC6-4ABD-B592-C6C9CF27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2343F-9649-413F-A7BB-EF3B4CCA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645D9-741F-4513-86A2-B926F716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8759F-C323-45CF-8E4F-6FAF9D10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9ED02-424E-41A4-95A5-D553DADC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B9E-CC07-4A81-B129-DD1DC3A2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B1CE9-24D6-407E-8B73-B31CA8BF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8E05C-71B1-40B1-AAAD-3CA7ED1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2E84C-D81D-4388-A185-FFBDF19C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EC557-E502-4081-B319-DB30F4E8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920B2-484D-4CC7-87A0-A622FDC7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5A69-40A6-4CFE-AB58-302A30B9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10DF0-6624-447F-9A3E-DFF10CBD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3ECF-AABA-425F-9C3F-0E3CF972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46766-7A3B-43D9-9580-CD7E6377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45343-49DD-4DAD-8AB7-7C7ADBF2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188-457B-4D98-AC4A-CF18E0C8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2FD43-D908-4CFD-BB47-45E25AD1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DBFB-5EC3-4EA8-9CD1-652DF0F2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009DF-6111-489A-B2F9-F9142CF3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5AC33-7C53-4544-8CFD-D6B3F20E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CBDC8-4EEB-45B2-BB0C-DBADDFFA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53317-FBC9-4C19-A678-8D26792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A9E5-459A-4139-BDA4-B3B0020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39E2C-CA2C-41AD-A5E9-911FED5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621E7-A33E-44AB-9741-671276D9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EB07-DF0C-4785-8321-6911144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6E8-1166-4C56-9E2E-276287F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11BB-0BF9-4AAD-9F28-8B3D738F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0C302-F06F-4F40-9E59-E47FE96F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B0CB9-CB74-4CDB-BDA9-CB0F4B7A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45E50-5C7D-4576-A3E2-889EE3DA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E447F-20D4-49B4-92EF-061B7B11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06F92-0FA4-4F7A-B616-8AE5E895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56A95-3CA2-42C7-9A70-842CE613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AACEF-D8C7-4967-AF22-6D3BF5B6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3F346-F1D3-4F9D-BBCD-020161F9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C9588-D0D0-4742-B609-5190B13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5FD-4C0B-49F9-9C87-D025D2BB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6E5DF-692B-408E-B7D4-095AB86D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5EB4C-768E-4B6E-80DC-26B0394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260D-3302-4142-8430-BB7108EB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55A80-779C-450A-84D4-DC5D8E04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22211-ADA6-4E96-B711-1F34F40B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97A-8C00-4000-BAE6-220D988E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405B-A969-495C-A4F7-991323CCCB9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0D17-BD53-4DD7-B392-C78896BCAA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BE5-49BB-4956-8FA8-F80435A227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3827-DBAA-458B-9068-095799DE12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7292-6A2C-4B62-B9FA-A77F6B7201CA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2F5B-D0FF-401E-B8BB-C14D6C694A2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7DC-48CE-48E0-A4DD-C8233C9C29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627120"/>
            <a:ext cx="68295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alibri Light"/>
              </a:rPr>
              <a:t>Добрый день!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05" name="Рисунок 3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Берегите эти воды, эти земли,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Даже малую былинку любя,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alibri"/>
              </a:rPr>
              <a:t>Берегите всех зверей внутри себя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«Мы в ответе за тех кого приручили»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Calibri Light"/>
              </a:rPr>
              <a:t>Тема: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96920" y="1846080"/>
            <a:ext cx="10058400" cy="71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Б.С.Жидков «Про обезьянку».Герои произведения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23004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4040"/>
                </a:solidFill>
                <a:latin typeface="Calibri Light"/>
              </a:rPr>
              <a:t>Цели: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видеть и понимать поступки героев;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характеризовать характер и действия героев;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составить рассказ о обезьянке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3" name="Рисунок 4" descr=""/>
          <p:cNvPicPr/>
          <p:nvPr/>
        </p:nvPicPr>
        <p:blipFill>
          <a:blip r:embed="rId2"/>
          <a:stretch/>
        </p:blipFill>
        <p:spPr>
          <a:xfrm>
            <a:off x="5000760" y="0"/>
            <a:ext cx="71913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42800" y="1742760"/>
            <a:ext cx="568656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1.Непоседливы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2.Озорно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3.Злопамятны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4.Сообразительны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5.Смелый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Объект 2"/>
          <p:cNvSpPr/>
          <p:nvPr/>
        </p:nvSpPr>
        <p:spPr>
          <a:xfrm>
            <a:off x="6129360" y="1743120"/>
            <a:ext cx="561024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1.с.85,88,91,9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2.с.91,9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3.с.89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4.с.9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"/>
              </a:rPr>
              <a:t>5.с.95,93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557280"/>
            <a:ext cx="121921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1.Имя героя и его место жительства. (Его зовут … . Он живёт у … .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2.Внешность. Он … . Мордочка … , старушечья, а глазки … . Шерсть … , а лапки … . На ней был надет … 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3.Действия, поступки и основные черты характера. (Яшка …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4.Отношение автора.(Автор к … относится …, потому что … .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5.Личное отношение.( Он … , больше всего мне нравится в нём то, что он … , потому что он … . Я бы хотел/не хотел такую же/такого же друга/обезьянку, потому что …)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04040"/>
                </a:solidFill>
                <a:uFillTx/>
                <a:latin typeface="Calibri"/>
              </a:rPr>
              <a:t>Домашнее задание: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Сочинить историю о том, как у вас в доме появилась обезьянка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4T16:42:57Z</dcterms:created>
  <dc:creator>Венера Шарафутдинова</dc:creator>
  <dc:description/>
  <dc:language>en-US</dc:language>
  <cp:lastModifiedBy>Венера Шарафутдинова</cp:lastModifiedBy>
  <dcterms:modified xsi:type="dcterms:W3CDTF">2018-03-06T06:53:19Z</dcterms:modified>
  <cp:revision>5</cp:revision>
  <dc:subject/>
  <dc:title>Добрый день!</dc:title>
</cp:coreProperties>
</file>