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F720-BF63-4DD6-95DB-0E7E88314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AA26-2F00-4529-99AF-52CD2DBB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0672-4E1B-4501-81CE-DDCDACCF1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C287-2E5C-430F-B824-108AC4E4D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EE09-10F8-4310-9527-5E6B3503A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8EFE-CAF9-47A8-92C7-AC0854DB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FD94-709B-44AA-BF40-473417CD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CCA6-99E5-48AE-B1E4-86DBF21E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4D36-008B-4190-BA0B-38CAB11E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694D-7FDC-49FF-A111-75C28826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8ED1-744F-49CF-8CAE-D808B4FB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BDAB-2628-4348-8E37-3D80ADDB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F3F6-173C-4DBE-B054-E2842522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B57C-8F17-4CBF-896D-D6E19371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156A-54C3-4A33-AF10-54B4472A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4B6F-878C-4A4F-B2BC-30ADC787A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A829-2440-4551-8017-65D291402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CF1DD-92CD-49CD-9549-1E3223C57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036BE-BBC5-4F42-8528-A8703161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DA8D9-A28E-4083-9775-E4AA4298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F0FE1-5A88-4669-9809-B8524247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4AEE5-24F2-45AB-AA39-26B197D7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1F09-F7E9-4E48-AFCE-E8E9BF03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D0FA2-9AD1-4162-85B6-EEC0BD9C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A8F47-B6E9-46D9-AF28-D34A3D4C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5CF3E-E003-4EFC-84BE-B780BC3C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1C34D-5828-496A-807B-7CC0C37B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6F8B4-C4B9-494E-8DFE-C6441E33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BD246-150F-4CD5-8A2E-DC93F96F4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176BA-1381-487F-964B-33683D85A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A92F5-CD53-422C-8D1C-5DB83A5C5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56DA8-DDA8-4614-947F-F4287254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7FF65-A6E1-4AB4-80F6-1482A7B8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5AD4-5C35-4BC2-8E7A-F1DEB442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B11F3-F0D8-4B83-860E-CB6C0862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683FF-C8FE-41CC-83E1-4DA7EA41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5BA35-EA62-430C-9E07-0B0FE09F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A1776-246B-4CB0-96E7-607625E0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088EE-75AB-4CBD-A4DC-EA54F7E7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505A9-15AA-410D-944B-EBC18DBF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CDDD9-FFDF-4D0B-9473-8C563F36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95F8E-8793-4293-9D5C-CA6A7AE92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7C763-E519-4595-AC2F-A24DDDD2F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EB70C-6008-4925-8461-203B081EC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93EC-5AFF-42B3-ADED-113DB263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3F1F0-B605-4842-96AD-8778BAB0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5969F-414D-4F12-A751-476011F2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FAC09-E459-4D6D-B6C3-34096C76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BF207-36A0-409C-A665-3E8BF696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7F775-DCDE-420B-A10E-011311E3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1F7CB-C8F6-474A-BC0E-8FF41433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C58D5-FEB2-49CE-BF1E-E1D7000D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EDBBE-842F-43C7-A9CE-54DE13B8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4A235-20D8-436F-8969-8F18717D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B5470-7468-47A5-B761-806B7A056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CC6C-4949-4B6E-9CDE-56E7DACE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67DE2-A683-41BE-BEC2-007B5E851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113F3-1B3C-49CF-B9E5-8FE5A1754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DFF90-EB28-4B5B-BCD3-F6E3A441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433CE-A968-482C-9D48-410E023D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C831E-301D-4674-94AB-8ED72AF1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F0F64-AADE-4491-A4E4-452EA660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975E0-5787-4671-B2AC-9698AA6C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A3A2D-1C44-4A39-8CDB-7DCD2796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860B5-5979-4262-9A58-59C8B093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53D2A-7267-474D-B75A-CF323AA0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D775-A0C4-4362-8BDA-88625795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FB3B2-F58C-4D39-AB06-DBA87E89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49CB7-2CB0-40DF-8058-95FD2D17A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EBCFB-247C-4D32-93F3-E7EA0A13C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3940A-DF29-4A6A-8CF6-CCA58FC4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0AC39-DD85-4D18-8461-B45F5D60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B3725-60D3-4F81-B561-F4CB2670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8D2E4-BE0A-4D6C-BA36-330EA4E0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B2064-BE91-42AF-8204-DDFD8074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21C9F-E7D8-400A-9DC5-AF4A8D73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5BF93-2F5A-4F8F-9B9C-1C09AE5B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5458-9CB3-4E55-87DB-73DB1ACF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75322-A740-484D-B318-8287230D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3ED58-FA15-4F8D-BDB9-1884A6C1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DD78B-5A1A-4450-BB12-351E498F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7DCD9-3DD0-48FD-9BEE-ACEA40E65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BCC5C-8F8A-45F7-A3F8-65F1EB7CC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18A5-44F2-42D3-BACA-8BDF45D1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52C6-9D43-4F6C-8589-BF662FA9F5E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EBEF-809A-46CE-82C3-4A54ED11704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8367-90DC-4155-BF2B-577089B4E1A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DA75-3009-4065-912C-3F77ED8DF3F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405144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040280" y="0"/>
            <a:ext cx="6336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65120" y="6459480"/>
            <a:ext cx="261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4800600" y="6459480"/>
            <a:ext cx="464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7129-FDBD-49AA-A715-A669448CAC2A}" type="slidenum">
              <a:rPr b="0" lang="ru-RU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1218888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239B-F792-46AA-9E6B-A4DE584CDCA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6C37-8FC9-460D-8A53-68F984974FD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627120"/>
            <a:ext cx="682956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262626"/>
                </a:solidFill>
                <a:latin typeface="Calibri Light"/>
              </a:rPr>
              <a:t>Добрый день!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05" name="Рисунок 3" descr=""/>
          <p:cNvPicPr/>
          <p:nvPr/>
        </p:nvPicPr>
        <p:blipFill>
          <a:blip r:embed="rId1"/>
          <a:stretch/>
        </p:blipFill>
        <p:spPr>
          <a:xfrm>
            <a:off x="6095880" y="0"/>
            <a:ext cx="60962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Calibri"/>
              </a:rPr>
              <a:t>Берегите эти воды, эти земли,</a:t>
            </a:r>
            <a:endParaRPr b="0" lang="en-US" sz="4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Calibri"/>
              </a:rPr>
              <a:t>Даже малую былинку любя,</a:t>
            </a:r>
            <a:endParaRPr b="0" lang="en-US" sz="4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Calibri"/>
              </a:rPr>
              <a:t>Берегите всех зверей внутри себя</a:t>
            </a:r>
            <a:endParaRPr b="0" lang="en-US" sz="4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Calibri"/>
              </a:rPr>
              <a:t>«Мы в ответе за тех кого приручили».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04040"/>
                </a:solidFill>
                <a:latin typeface="Calibri Light"/>
              </a:rPr>
              <a:t>Тема:</a:t>
            </a:r>
            <a:endParaRPr b="0" lang="en-US" sz="5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096920" y="1846080"/>
            <a:ext cx="10058400" cy="711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89280" indent="-8928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Calibri"/>
              </a:rPr>
              <a:t>Б.С.Жидков «Про обезьянку».Герои произведения.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96920" y="23004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04040"/>
                </a:solidFill>
                <a:latin typeface="Calibri Light"/>
              </a:rPr>
              <a:t>Цели:</a:t>
            </a:r>
            <a:endParaRPr b="0" lang="en-US" sz="6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Calibri"/>
              </a:rPr>
              <a:t>видеть и понимать поступки героев;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Calibri"/>
              </a:rPr>
              <a:t>характеризовать характер и действия героев;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Calibri"/>
              </a:rPr>
              <a:t>составить рассказ о обезьянке.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500076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13" name="Рисунок 4" descr=""/>
          <p:cNvPicPr/>
          <p:nvPr/>
        </p:nvPicPr>
        <p:blipFill>
          <a:blip r:embed="rId2"/>
          <a:stretch/>
        </p:blipFill>
        <p:spPr>
          <a:xfrm>
            <a:off x="5000760" y="0"/>
            <a:ext cx="719136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42800" y="1742760"/>
            <a:ext cx="568656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Calibri"/>
              </a:rPr>
              <a:t>1.Непоседливый.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Calibri"/>
              </a:rPr>
              <a:t>2.Озорной.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Calibri"/>
              </a:rPr>
              <a:t>3.Злопамятный.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Calibri"/>
              </a:rPr>
              <a:t>4.Сообразительный.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Calibri"/>
              </a:rPr>
              <a:t>5.Смелый.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Объект 2"/>
          <p:cNvSpPr/>
          <p:nvPr/>
        </p:nvSpPr>
        <p:spPr>
          <a:xfrm>
            <a:off x="6129360" y="1743120"/>
            <a:ext cx="561024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Calibri"/>
              </a:rPr>
              <a:t>1.с.85,88,91,92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Calibri"/>
              </a:rPr>
              <a:t>2.с.91,92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Calibri"/>
              </a:rPr>
              <a:t>3.с.89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Calibri"/>
              </a:rPr>
              <a:t>4.с.95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Calibri"/>
              </a:rPr>
              <a:t>5.с.95,93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-360" y="557280"/>
            <a:ext cx="1219212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Calibri"/>
              </a:rPr>
              <a:t>1.Имя героя и его место жительства. (Его зовут … . Он живёт у … .)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Calibri"/>
              </a:rPr>
              <a:t>2.Внешность. Он … . Мордочка … , старушечья, а глазки … . Шерсть … , а лапки … . На ней был надет … .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Calibri"/>
              </a:rPr>
              <a:t>3.Действия, поступки и основные черты характера. (Яшка …)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Calibri"/>
              </a:rPr>
              <a:t>4.Отношение автора.(Автор к … относится …, потому что … .)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Calibri"/>
              </a:rPr>
              <a:t>5.Личное отношение.( Он … , больше всего мне нравится в нём то, что он … , потому что он … . Я бы хотел/не хотел такую же/такого же друга/обезьянку, потому что …).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404040"/>
                </a:solidFill>
                <a:uFillTx/>
                <a:latin typeface="Calibri"/>
              </a:rPr>
              <a:t>Домашнее задание: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Calibri"/>
              </a:rPr>
              <a:t>Сочинить историю о том, как у вас в доме появилась обезьянка.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4T16:42:57Z</dcterms:created>
  <dc:creator>Венера Шарафутдинова</dc:creator>
  <dc:description/>
  <dc:language>en-US</dc:language>
  <cp:lastModifiedBy>Венера Шарафутдинова</cp:lastModifiedBy>
  <dcterms:modified xsi:type="dcterms:W3CDTF">2018-03-06T06:53:19Z</dcterms:modified>
  <cp:revision>5</cp:revision>
  <dc:subject/>
  <dc:title>Добрый день!</dc:title>
</cp:coreProperties>
</file>