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892-92D3-4695-BE76-B1AD63F3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161-4A83-401F-8B62-F28B545D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10A-A382-4AC1-8AEF-3FE51561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76D-F77C-4690-830A-09267DA3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E26-58F3-4F17-B4C3-91092977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A41-6008-4B12-9DDE-0261BCE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5C9-BAED-46AF-A684-6CB6BAD5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F47-8BC6-4BE3-8062-176B847C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A55-90CF-4C65-B926-B41308EA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E49-EDC8-4657-8111-AA8F80E8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A95-1FF7-487B-8AD5-77145C37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524-B23F-4CEF-9FF1-223C369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CED1-5B92-45AB-9DF4-CF1C52121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160" y="0"/>
            <a:ext cx="9801000" cy="650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фметический диктант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56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3 00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4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9 999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4 мину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1(остаток 2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3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21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360" y="0"/>
            <a:ext cx="1219212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ва пловца спрыгнули одновременно с лодки и поплыли по реке в противоположных направлениях. Скорость 2 пловца равна 40 м/мин, скорость 1 90 м/мин. Сколько метров проплывёт первый пловец, когда второй проплывёт 120 м/мин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0" y="3009960"/>
            <a:ext cx="1219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120:40=3 (м/мин.)- столько минут плыл каждый пловец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90·3=270 (м)- проплывёт 1 пловец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270 мет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8240" y="1279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2900160"/>
            <a:ext cx="10515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32 номера 123, 124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деление на числа, оканчивающиеся нулям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нироваться в делении на числа, оканчивающиеся нулям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09560" y="1243080"/>
            <a:ext cx="105156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425 400: 600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28500 : 30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43600 : 40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rcRect l="0" t="22313" r="66324" b="0"/>
          <a:stretch/>
        </p:blipFill>
        <p:spPr>
          <a:xfrm>
            <a:off x="871560" y="414360"/>
            <a:ext cx="5371920" cy="6443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5214" t="25704" r="65370" b="0"/>
          <a:stretch/>
        </p:blipFill>
        <p:spPr>
          <a:xfrm>
            <a:off x="6243480" y="414360"/>
            <a:ext cx="59486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rcRect l="29249" t="19747" r="39515" b="11650"/>
          <a:stretch/>
        </p:blipFill>
        <p:spPr>
          <a:xfrm>
            <a:off x="185760" y="185760"/>
            <a:ext cx="5100480" cy="5824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2"/>
          <a:srcRect l="35261" t="22922" r="37416" b="0"/>
          <a:stretch/>
        </p:blipFill>
        <p:spPr>
          <a:xfrm>
            <a:off x="5529240" y="225360"/>
            <a:ext cx="64105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rcRect l="61155" t="18039" r="2289" b="0"/>
          <a:stretch/>
        </p:blipFill>
        <p:spPr>
          <a:xfrm>
            <a:off x="385920" y="0"/>
            <a:ext cx="5800680" cy="6761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rcRect l="65927" t="17358" r="7790" b="0"/>
          <a:stretch/>
        </p:blipFill>
        <p:spPr>
          <a:xfrm>
            <a:off x="6186600" y="157320"/>
            <a:ext cx="54306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360" y="-360"/>
            <a:ext cx="1219212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ва пловца спрыгнули одновременно с лодки и поплыли по реке в противоположных направлениях. Второй пловец проплыл 120 метров со скорость 40 м/мин, когда первый проплывёт 270 метров. С какой скоростью проплывёт первый пловец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бъект 2"/>
          <p:cNvSpPr/>
          <p:nvPr/>
        </p:nvSpPr>
        <p:spPr>
          <a:xfrm>
            <a:off x="237960" y="3157560"/>
            <a:ext cx="1219212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76040" y="2968560"/>
            <a:ext cx="10682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)120:40=3 (мин) – столько минут плыл каждый пловец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)270:3=90(м/мин) -  скорость 2 пловц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90 м/ми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5T20:35:49Z</dcterms:created>
  <dc:creator>Венера Шарафутдинова</dc:creator>
  <dc:description/>
  <dc:language>en-US</dc:language>
  <cp:lastModifiedBy>Венера Шарафутдинова</cp:lastModifiedBy>
  <dcterms:modified xsi:type="dcterms:W3CDTF">2018-02-19T19:33:34Z</dcterms:modified>
  <cp:revision>5</cp:revision>
  <dc:subject/>
  <dc:title>Арифметический диктант:  1)564 2)10 3)3 000 4)40 5)9 999  6)4 минуты 7)1(остаток 2) 8)33 9)210</dc:title>
</cp:coreProperties>
</file>