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B2E-8AA1-44BA-91AA-29E6D07C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7AF-15DA-4D1D-9A2B-8ACB83C5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464-9CFB-4585-8D05-6815288A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AAE-3F57-4CC6-8827-95F299F8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E57-4B08-4632-987E-F5934408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FB6-0E97-45DC-967A-0C01732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0A0-9FE7-4406-B52A-3A7DC75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1D3-C40D-40C1-AF8D-D735DE05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D67-40A2-467A-AA61-5413774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133-0AFC-416C-929A-6878C18E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AEA-42DF-460B-88ED-B94C371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270-8D11-41B5-8DE2-EDFD3DCD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AF35-8258-45B6-A1E6-3DB9F7D5A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160" y="0"/>
            <a:ext cx="9801000" cy="650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метический диктант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56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3 00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4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9 999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4 мин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1(остаток 2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33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2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0"/>
            <a:ext cx="1219212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а пловца спрыгнули одновременно с лодки и поплыли по реке в противоположных направлениях. Скорость 2 пловца равна 40 м/мин, скорость 1 90 м/мин. Сколько метров проплывёт первый пловец, когда второй проплывёт 120 м/мин.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0" y="3009960"/>
            <a:ext cx="1219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120:40=3 (м/мин.)- столько минут плыл каждый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90·3=270 (м)- проплывёт 1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270 мет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1279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2900160"/>
            <a:ext cx="10515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32 номера 123, 124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е деление на числа, оканчивающиеся нуля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нироваться в делении на числа, оканчивающиеся нулям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09560" y="1243080"/>
            <a:ext cx="105156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425 400: 60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28500 : 3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43600 : 4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rcRect l="0" t="22313" r="66324" b="0"/>
          <a:stretch/>
        </p:blipFill>
        <p:spPr>
          <a:xfrm>
            <a:off x="871560" y="414360"/>
            <a:ext cx="5371920" cy="6443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5214" t="25704" r="65370" b="0"/>
          <a:stretch/>
        </p:blipFill>
        <p:spPr>
          <a:xfrm>
            <a:off x="6243480" y="414360"/>
            <a:ext cx="59486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rcRect l="29249" t="19747" r="39515" b="11650"/>
          <a:stretch/>
        </p:blipFill>
        <p:spPr>
          <a:xfrm>
            <a:off x="185760" y="185760"/>
            <a:ext cx="5100480" cy="58244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2"/>
          <a:srcRect l="35261" t="22922" r="37416" b="0"/>
          <a:stretch/>
        </p:blipFill>
        <p:spPr>
          <a:xfrm>
            <a:off x="5529240" y="225360"/>
            <a:ext cx="64105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rcRect l="61155" t="18039" r="2289" b="0"/>
          <a:stretch/>
        </p:blipFill>
        <p:spPr>
          <a:xfrm>
            <a:off x="385920" y="0"/>
            <a:ext cx="5800680" cy="6761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rcRect l="65927" t="17358" r="7790" b="0"/>
          <a:stretch/>
        </p:blipFill>
        <p:spPr>
          <a:xfrm>
            <a:off x="6186600" y="157320"/>
            <a:ext cx="54306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360" y="-360"/>
            <a:ext cx="1219212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а пловца спрыгнули одновременно с лодки и поплыли по реке в противоположных направлениях. Второй пловец проплыл 120 метров со скорость 40 м/мин, когда первый проплывёт 270 метров. С какой скоростью проплывёт первый пловец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ъект 2"/>
          <p:cNvSpPr/>
          <p:nvPr/>
        </p:nvSpPr>
        <p:spPr>
          <a:xfrm>
            <a:off x="237960" y="3157560"/>
            <a:ext cx="1219212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76040" y="2968560"/>
            <a:ext cx="1068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)120:40=3 (мин) – столько минут плыл каждый пловец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)270:3=90(м/мин) -  скорость 2 пловц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0 м/ми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5T20:35:49Z</dcterms:created>
  <dc:creator>Венера Шарафутдинова</dc:creator>
  <dc:description/>
  <dc:language>en-US</dc:language>
  <cp:lastModifiedBy>Венера Шарафутдинова</cp:lastModifiedBy>
  <dcterms:modified xsi:type="dcterms:W3CDTF">2018-02-19T19:33:34Z</dcterms:modified>
  <cp:revision>5</cp:revision>
  <dc:subject/>
  <dc:title>Арифметический диктант:  1)564 2)10 3)3 000 4)40 5)9 999  6)4 минуты 7)1(остаток 2) 8)33 9)210</dc:title>
</cp:coreProperties>
</file>