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22.png" ContentType="image/png"/>
  <Override PartName="/ppt/media/image21.jpeg" ContentType="image/jpeg"/>
  <Override PartName="/ppt/media/image6.gif" ContentType="image/gif"/>
  <Override PartName="/ppt/media/image19.jpeg" ContentType="image/jpeg"/>
  <Override PartName="/ppt/media/image42.jpeg" ContentType="image/jpeg"/>
  <Override PartName="/ppt/media/%D0%B2%D0%BE%D1%80%D0%BE%D0%B1%D0%B5%D0%B9.wav" ContentType="audio/x-wav"/>
  <Override PartName="/ppt/media/image37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9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30.gif" ContentType="image/gif"/>
  <Override PartName="/ppt/media/image9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BCE-955C-4AF0-9479-4E627EF9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A19-769A-4567-AE54-15D1AAB7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B87-F206-4943-8CC9-EA9483CA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4A2-F2B1-4E67-91EC-92EE2A6A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75C-55F8-4C05-9EFE-40B4795D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FE3C-5F58-4E25-8BA6-1BFB1710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9F4-7A7A-4F5F-B317-BF466DDE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557-5942-469E-931A-C121437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40B2-6F09-412D-99AE-52E540B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3BD0-BE40-4D43-835D-DEB4EA3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83ED-C34B-4E42-B271-B8FA8D1B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6B0-D044-4DBA-A37E-5AF44A8F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1854-7109-4D3E-A311-0BA22EC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150-123C-4E30-9A91-EA47AAD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92D5-7D5F-408D-8913-3C70A49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481C-31C9-4447-BCE3-DC9D4152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D38-752F-488E-8968-2CF0B507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341-B1A4-4365-80BD-00304592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D11-CDF4-4B05-91C1-979E967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FED-AB29-44E6-960F-87711C70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839-B0A4-4F5A-A5B2-6CB2FD21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D64-C619-4696-B228-86E146E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1E5-AE15-47F8-B8C4-47904BB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C62-3DE3-41C2-B9A0-0FD7E52D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1986-AFA2-451E-94FB-45100AB7B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536-4D46-4D99-912A-2BFF3DF04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&#1074;&#1086;&#1088;&#1086;&#1073;&#1077;&#1081;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" Target="slide2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Укажи искусственный водо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озеро 2) река 3) пруд 4) оке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)Закончи опреде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глубление, по которому течет река, называется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истоком 2) руслом 3) устьем 4) прито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Winter_229"/>
          <p:cNvPicPr/>
          <p:nvPr/>
        </p:nvPicPr>
        <p:blipFill>
          <a:blip r:embed="rId1"/>
          <a:stretch/>
        </p:blipFill>
        <p:spPr>
          <a:xfrm>
            <a:off x="428760" y="1214280"/>
            <a:ext cx="8351640" cy="5402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290680" y="333360"/>
            <a:ext cx="46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 Black"/>
              </a:rPr>
              <a:t>Апрель -водо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половодье 6"/>
          <p:cNvPicPr/>
          <p:nvPr/>
        </p:nvPicPr>
        <p:blipFill>
          <a:blip r:embed="rId1"/>
          <a:stretch/>
        </p:blipFill>
        <p:spPr>
          <a:xfrm>
            <a:off x="250920" y="115920"/>
            <a:ext cx="8604000" cy="6188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611880" y="64008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5280" y="4797360"/>
            <a:ext cx="5148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5050"/>
                </a:solidFill>
                <a:latin typeface="Arial"/>
              </a:rPr>
              <a:t>ВОРОБЕЙ</a:t>
            </a:r>
            <a:endParaRPr b="1" lang="en-US" sz="6900" spc="-1" strike="noStrike">
              <a:solidFill>
                <a:srgbClr val="339933"/>
              </a:solidFill>
              <a:latin typeface="Arial"/>
            </a:endParaRPr>
          </a:p>
        </p:txBody>
      </p:sp>
      <p:pic>
        <p:nvPicPr>
          <p:cNvPr id="169" name="Picture 3" descr="vorob"/>
          <p:cNvPicPr/>
          <p:nvPr/>
        </p:nvPicPr>
        <p:blipFill>
          <a:blip r:embed="rId1"/>
          <a:stretch/>
        </p:blipFill>
        <p:spPr>
          <a:xfrm>
            <a:off x="5148360" y="184464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2843280" y="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гадки от Мудрой Со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50920" y="1889280"/>
            <a:ext cx="3816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аленький маль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 сером ярмячиш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По дворам шныря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Крохи собир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bimage0045"/>
          <p:cNvPicPr/>
          <p:nvPr/>
        </p:nvPicPr>
        <p:blipFill>
          <a:blip r:embed="rId2"/>
          <a:stretch/>
        </p:blipFill>
        <p:spPr>
          <a:xfrm rot="500400">
            <a:off x="394920" y="306000"/>
            <a:ext cx="144000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2%D0%BE%D1%80%D0%BE%D0%B1%D0%B5%D0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612720" y="5084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ятел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Я  по  дереву  стуч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Червячка  добыть  хоч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Хоть  и  скрылся  под  корой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38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Все  равно  он  будет  м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f_0439"/>
          <p:cNvPicPr/>
          <p:nvPr/>
        </p:nvPicPr>
        <p:blipFill>
          <a:blip r:embed="rId1"/>
          <a:stretch/>
        </p:blipFill>
        <p:spPr>
          <a:xfrm>
            <a:off x="4932360" y="1844640"/>
            <a:ext cx="3887640" cy="4248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3635280" y="1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дяте10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894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360" y="1052640"/>
            <a:ext cx="5688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Ворона сер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ерая  воровка  села  на  ве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орким  глазом  коси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9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красть  норов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f_0457"/>
          <p:cNvPicPr/>
          <p:nvPr/>
        </p:nvPicPr>
        <p:blipFill>
          <a:blip r:embed="rId1"/>
          <a:stretch/>
        </p:blipFill>
        <p:spPr>
          <a:xfrm>
            <a:off x="4859280" y="242100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3348000" y="260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воро57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952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657960" y="93600"/>
            <a:ext cx="17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М а 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424240" y="90792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травень</a:t>
            </a:r>
            <a:r>
              <a:rPr b="1" lang="ru-RU" sz="2800" spc="-1" strike="noStrike">
                <a:solidFill>
                  <a:srgbClr val="333399"/>
                </a:solidFill>
                <a:latin typeface="Arial Black"/>
              </a:rPr>
              <a:t> –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 Black"/>
              </a:rPr>
              <a:t>цвет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Nature_314"/>
          <p:cNvPicPr/>
          <p:nvPr/>
        </p:nvPicPr>
        <p:blipFill>
          <a:blip r:embed="rId1"/>
          <a:stretch/>
        </p:blipFill>
        <p:spPr>
          <a:xfrm>
            <a:off x="1116000" y="2295360"/>
            <a:ext cx="691200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ormal_DSCN7640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583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ni_19"/>
          <p:cNvPicPr/>
          <p:nvPr/>
        </p:nvPicPr>
        <p:blipFill>
          <a:blip r:embed="rId2"/>
          <a:stretch/>
        </p:blipFill>
        <p:spPr>
          <a:xfrm>
            <a:off x="4356000" y="3068640"/>
            <a:ext cx="4600800" cy="3625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4591440" y="217440"/>
            <a:ext cx="45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Май-месяц первой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первых цветов,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весенних г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85435ed910a89086e844166fd42433f8"/>
          <p:cNvPicPr/>
          <p:nvPr/>
        </p:nvPicPr>
        <p:blipFill>
          <a:blip r:embed="rId3"/>
          <a:stretch/>
        </p:blipFill>
        <p:spPr>
          <a:xfrm>
            <a:off x="1258920" y="4941720"/>
            <a:ext cx="1871640" cy="1689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prir51"/>
          <p:cNvPicPr/>
          <p:nvPr/>
        </p:nvPicPr>
        <p:blipFill>
          <a:blip r:embed="rId4"/>
          <a:stretch/>
        </p:blipFill>
        <p:spPr>
          <a:xfrm>
            <a:off x="7164360" y="1413000"/>
            <a:ext cx="166068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rir732"/>
          <p:cNvPicPr/>
          <p:nvPr/>
        </p:nvPicPr>
        <p:blipFill>
          <a:blip r:embed="rId5"/>
          <a:stretch/>
        </p:blipFill>
        <p:spPr>
          <a:xfrm>
            <a:off x="468360" y="3971880"/>
            <a:ext cx="1295280" cy="93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lick?url=http%3A%2F%2Fwww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48000" y="620640"/>
            <a:ext cx="2502000" cy="302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p20-4-2"/>
          <p:cNvPicPr/>
          <p:nvPr/>
        </p:nvPicPr>
        <p:blipFill>
          <a:blip r:embed="rId2"/>
          <a:stretch/>
        </p:blipFill>
        <p:spPr>
          <a:xfrm>
            <a:off x="6370560" y="620640"/>
            <a:ext cx="2773440" cy="302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flowers_43"/>
          <p:cNvPicPr/>
          <p:nvPr/>
        </p:nvPicPr>
        <p:blipFill>
          <a:blip r:embed="rId3"/>
          <a:stretch/>
        </p:blipFill>
        <p:spPr>
          <a:xfrm>
            <a:off x="250920" y="620640"/>
            <a:ext cx="2806560" cy="3024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38564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356000" y="609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7434000" y="6083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835280" y="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тавь по поряд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85 -0.31468 L -0.33368 0.44694 E">
                                      <p:cBhvr>
                                        <p:cTn id="17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0.30428 L -0.34045 0.45734 E">
                                      <p:cBhvr>
                                        <p:cTn id="17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6 -0.16255 L 0.64983 0.44578 E">
                                      <p:cBhvr>
                                        <p:cTn id="18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 родители"/>
          <p:cNvPicPr/>
          <p:nvPr/>
        </p:nvPicPr>
        <p:blipFill>
          <a:blip r:embed="rId1"/>
          <a:stretch/>
        </p:blipFill>
        <p:spPr>
          <a:xfrm>
            <a:off x="5651640" y="1916280"/>
            <a:ext cx="3743280" cy="54003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539640" y="189000"/>
            <a:ext cx="5400720" cy="2160360"/>
          </a:xfrm>
          <a:prstGeom prst="cloudCallout">
            <a:avLst>
              <a:gd name="adj1" fmla="val 70194"/>
              <a:gd name="adj2" fmla="val 67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50160" y="496800"/>
            <a:ext cx="359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а кто зн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тречают вес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042056"/>
          <p:cNvPicPr/>
          <p:nvPr/>
        </p:nvPicPr>
        <p:blipFill>
          <a:blip r:embed="rId2"/>
          <a:stretch/>
        </p:blipFill>
        <p:spPr>
          <a:xfrm>
            <a:off x="0" y="4797360"/>
            <a:ext cx="2916360" cy="206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f_0568"/>
          <p:cNvPicPr/>
          <p:nvPr/>
        </p:nvPicPr>
        <p:blipFill>
          <a:blip r:embed="rId3"/>
          <a:stretch/>
        </p:blipFill>
        <p:spPr>
          <a:xfrm>
            <a:off x="3059280" y="4768920"/>
            <a:ext cx="2374560" cy="208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f_0572"/>
          <p:cNvPicPr/>
          <p:nvPr/>
        </p:nvPicPr>
        <p:blipFill>
          <a:blip r:embed="rId4"/>
          <a:stretch/>
        </p:blipFill>
        <p:spPr>
          <a:xfrm>
            <a:off x="2627280" y="2781360"/>
            <a:ext cx="2521080" cy="1969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animals_10"/>
          <p:cNvPicPr/>
          <p:nvPr/>
        </p:nvPicPr>
        <p:blipFill>
          <a:blip r:embed="rId5"/>
          <a:stretch/>
        </p:blipFill>
        <p:spPr>
          <a:xfrm>
            <a:off x="0" y="2492280"/>
            <a:ext cx="2592360" cy="21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ЛИСА~1"/>
          <p:cNvPicPr/>
          <p:nvPr/>
        </p:nvPicPr>
        <p:blipFill>
          <a:blip r:embed="rId6"/>
          <a:stretch/>
        </p:blipFill>
        <p:spPr>
          <a:xfrm>
            <a:off x="6299280" y="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МЕДВЕД~1"/>
          <p:cNvPicPr/>
          <p:nvPr/>
        </p:nvPicPr>
        <p:blipFill>
          <a:blip r:embed="rId1"/>
          <a:stretch/>
        </p:blipFill>
        <p:spPr>
          <a:xfrm>
            <a:off x="0" y="0"/>
            <a:ext cx="4140360" cy="3500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ЛИСА~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Заяц-русак"/>
          <p:cNvPicPr/>
          <p:nvPr/>
        </p:nvPicPr>
        <p:blipFill>
          <a:blip r:embed="rId3"/>
          <a:stretch/>
        </p:blipFill>
        <p:spPr>
          <a:xfrm>
            <a:off x="2627280" y="3573360"/>
            <a:ext cx="345600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Определи, что «лишне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исток 2) канал 3) берег 4) у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Что относится к естественным водоем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пруд  2) озеро 3) водохранилище 4) 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) Куда не может впадать ре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пруд 2) озеро 3)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arany39"/>
          <p:cNvPicPr/>
          <p:nvPr/>
        </p:nvPicPr>
        <p:blipFill>
          <a:blip r:embed="rId1"/>
          <a:stretch/>
        </p:blipFill>
        <p:spPr>
          <a:xfrm>
            <a:off x="4932360" y="260280"/>
            <a:ext cx="3960720" cy="316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arany81"/>
          <p:cNvPicPr/>
          <p:nvPr/>
        </p:nvPicPr>
        <p:blipFill>
          <a:blip r:embed="rId2"/>
          <a:stretch/>
        </p:blipFill>
        <p:spPr>
          <a:xfrm>
            <a:off x="1000080" y="21420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ears32"/>
          <p:cNvPicPr/>
          <p:nvPr/>
        </p:nvPicPr>
        <p:blipFill>
          <a:blip r:embed="rId3"/>
          <a:stretch/>
        </p:blipFill>
        <p:spPr>
          <a:xfrm>
            <a:off x="4932360" y="364500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bears20"/>
          <p:cNvPicPr/>
          <p:nvPr/>
        </p:nvPicPr>
        <p:blipFill>
          <a:blip r:embed="rId4"/>
          <a:stretch/>
        </p:blipFill>
        <p:spPr>
          <a:xfrm>
            <a:off x="971640" y="3573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>
            <a:hlinkClick r:id="rId5" action="ppaction://hlinksldjump"/>
          </p:cNvPr>
          <p:cNvSpPr/>
          <p:nvPr/>
        </p:nvSpPr>
        <p:spPr>
          <a:xfrm>
            <a:off x="0" y="5778360"/>
            <a:ext cx="1332000" cy="1079640"/>
          </a:xfrm>
          <a:prstGeom prst="leftArrow">
            <a:avLst>
              <a:gd name="adj1" fmla="val 50000"/>
              <a:gd name="adj2" fmla="val 30844"/>
            </a:avLst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608760" y="2253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entury Gothic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019120" y="18900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entury Gothic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474720" y="40766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99"/>
                </a:solidFill>
                <a:uFillTx/>
                <a:latin typeface="Comic Sans MS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430880" y="515772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82520" y="5862600"/>
            <a:ext cx="2847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83240" y="4316400"/>
            <a:ext cx="28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ри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74880" y="582768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ервые 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6230520" y="5877000"/>
            <a:ext cx="22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83240" y="5324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таивание поч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659480" y="4581360"/>
            <a:ext cx="44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явление насеко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287960" y="6278400"/>
            <a:ext cx="40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ветение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6518520" y="5035680"/>
            <a:ext cx="2320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326880" y="4892760"/>
            <a:ext cx="27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яние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-0.13241 L 0.0401 -0.5419 E">
                                      <p:cBhvr>
                                        <p:cTn id="21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10092 L 0.54115 -0.62592 E">
                                      <p:cBhvr>
                                        <p:cTn id="21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9028 L 0.5434 -0.6257 E">
                                      <p:cBhvr>
                                        <p:cTn id="21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9514 L 0.0408 -0.71458 E">
                                      <p:cBhvr>
                                        <p:cTn id="22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13218 L 0.27135 -0.63612 E">
                                      <p:cBhvr>
                                        <p:cTn id="22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65 -0.09017 L 0.08421 -0.45734 E">
                                      <p:cBhvr>
                                        <p:cTn id="22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49 -0.08972 L -0.65469 -0.46451 E">
                                      <p:cBhvr>
                                        <p:cTn id="226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-0.0911 L -0.44167 -0.51121 E">
                                      <p:cBhvr>
                                        <p:cTn id="2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8 -0.1007 L -0.47518 -0.18473 E">
                                      <p:cBhvr>
                                        <p:cTn id="23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-0.16393 L -0.1165 -0.50358 E">
                                      <p:cBhvr>
                                        <p:cTn id="23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viewImage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611280" y="549360"/>
            <a:ext cx="7657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    г о с т и  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</a:t>
            </a:r>
            <a:r>
              <a:rPr b="1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    в е с н е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3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e4404eced2f23a5fde3f48c7232c2b30 - копия"/>
          <p:cNvPicPr/>
          <p:nvPr/>
        </p:nvPicPr>
        <p:blipFill>
          <a:blip r:embed="rId2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7h"/>
          <p:cNvPicPr/>
          <p:nvPr/>
        </p:nvPicPr>
        <p:blipFill>
          <a:blip r:embed="rId10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7h"/>
          <p:cNvPicPr/>
          <p:nvPr/>
        </p:nvPicPr>
        <p:blipFill>
          <a:blip r:embed="rId11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7h"/>
          <p:cNvPicPr/>
          <p:nvPr/>
        </p:nvPicPr>
        <p:blipFill>
          <a:blip r:embed="rId12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822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37r3"/>
          <p:cNvPicPr/>
          <p:nvPr/>
        </p:nvPicPr>
        <p:blipFill>
          <a:blip r:embed="rId2"/>
          <a:stretch/>
        </p:blipFill>
        <p:spPr>
          <a:xfrm>
            <a:off x="7308720" y="2565360"/>
            <a:ext cx="1435320" cy="144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96720" y="5589720"/>
            <a:ext cx="200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Arial"/>
              </a:rPr>
              <a:t>м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89 L -0.76372 -0.31445 E">
                                      <p:cBhvr>
                                        <p:cTn id="14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март"/>
          <p:cNvPicPr/>
          <p:nvPr/>
        </p:nvPicPr>
        <p:blipFill>
          <a:blip r:embed="rId1"/>
          <a:stretch/>
        </p:blipFill>
        <p:spPr>
          <a:xfrm>
            <a:off x="179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10840" y="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тал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20untitled"/>
          <p:cNvPicPr/>
          <p:nvPr/>
        </p:nvPicPr>
        <p:blipFill>
          <a:blip r:embed="rId2"/>
          <a:stretch/>
        </p:blipFill>
        <p:spPr>
          <a:xfrm>
            <a:off x="4572000" y="83664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5728680" y="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теп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untitlу55ed"/>
          <p:cNvPicPr/>
          <p:nvPr/>
        </p:nvPicPr>
        <p:blipFill>
          <a:blip r:embed="rId1"/>
          <a:stretch/>
        </p:blipFill>
        <p:spPr>
          <a:xfrm>
            <a:off x="0" y="1773360"/>
            <a:ext cx="3924360" cy="5084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756360" y="9079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п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щ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5652360" y="90792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до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7956720" y="2565360"/>
            <a:ext cx="936360" cy="86508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6720 h 865080"/>
              <a:gd name="textAreaBottom" fmla="*/ 7383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ni_17"/>
          <p:cNvPicPr/>
          <p:nvPr/>
        </p:nvPicPr>
        <p:blipFill>
          <a:blip r:embed="rId1"/>
          <a:stretch/>
        </p:blipFill>
        <p:spPr>
          <a:xfrm>
            <a:off x="1116000" y="54936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мать и мачеха"/>
          <p:cNvPicPr/>
          <p:nvPr/>
        </p:nvPicPr>
        <p:blipFill>
          <a:blip r:embed="rId2"/>
          <a:stretch/>
        </p:blipFill>
        <p:spPr>
          <a:xfrm>
            <a:off x="4643280" y="549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хохлатка"/>
          <p:cNvPicPr/>
          <p:nvPr/>
        </p:nvPicPr>
        <p:blipFill>
          <a:blip r:embed="rId3"/>
          <a:stretch/>
        </p:blipFill>
        <p:spPr>
          <a:xfrm>
            <a:off x="1042920" y="342900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медуница2"/>
          <p:cNvPicPr/>
          <p:nvPr/>
        </p:nvPicPr>
        <p:blipFill>
          <a:blip r:embed="rId4"/>
          <a:stretch/>
        </p:blipFill>
        <p:spPr>
          <a:xfrm>
            <a:off x="4788000" y="342900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1510920" y="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ветр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777200" y="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ать-и-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543320" y="292428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хохл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5425920" y="292428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omic Sans MS"/>
              </a:rPr>
              <a:t>меду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 rot="5400000">
            <a:off x="4139280" y="2348280"/>
            <a:ext cx="720720" cy="7345440"/>
          </a:xfrm>
          <a:custGeom>
            <a:avLst/>
            <a:gdLst>
              <a:gd name="textAreaLeft" fmla="*/ 0 w 720720"/>
              <a:gd name="textAreaRight" fmla="*/ 260280 w 720720"/>
              <a:gd name="textAreaTop" fmla="*/ 191520 h 7345440"/>
              <a:gd name="textAreaBottom" fmla="*/ 7153920 h 734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63"/>
                </a:lnTo>
                <a:cubicBezTo>
                  <a:pt x="10800" y="9363"/>
                  <a:pt x="16200" y="10263"/>
                  <a:pt x="21600" y="10263"/>
                </a:cubicBezTo>
                <a:cubicBezTo>
                  <a:pt x="16200" y="10263"/>
                  <a:pt x="10800" y="11163"/>
                  <a:pt x="10800" y="1206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цикломен косский"/>
          <p:cNvPicPr/>
          <p:nvPr/>
        </p:nvPicPr>
        <p:blipFill>
          <a:blip r:embed="rId1"/>
          <a:stretch/>
        </p:blipFill>
        <p:spPr>
          <a:xfrm>
            <a:off x="6300720" y="1557360"/>
            <a:ext cx="2843280" cy="2781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777720" y="443700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ИКЛО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bimage000j"/>
          <p:cNvPicPr/>
          <p:nvPr/>
        </p:nvPicPr>
        <p:blipFill>
          <a:blip r:embed="rId2"/>
          <a:srcRect l="2483" t="11338" r="2055" b="10752"/>
          <a:stretch/>
        </p:blipFill>
        <p:spPr>
          <a:xfrm>
            <a:off x="250920" y="0"/>
            <a:ext cx="2050920" cy="14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первоцвет воронова"/>
          <p:cNvPicPr/>
          <p:nvPr/>
        </p:nvPicPr>
        <p:blipFill>
          <a:blip r:embed="rId3"/>
          <a:stretch/>
        </p:blipFill>
        <p:spPr>
          <a:xfrm>
            <a:off x="0" y="1557360"/>
            <a:ext cx="3059280" cy="2781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294840" y="443700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ерво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оро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подснежник воронова"/>
          <p:cNvPicPr/>
          <p:nvPr/>
        </p:nvPicPr>
        <p:blipFill>
          <a:blip r:embed="rId4"/>
          <a:stretch/>
        </p:blipFill>
        <p:spPr>
          <a:xfrm>
            <a:off x="3203640" y="2852640"/>
            <a:ext cx="2916000" cy="2890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203640" y="57340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дсне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оро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45:41Z</dcterms:created>
  <dc:creator>*</dc:creator>
  <dc:description/>
  <dc:language>en-US</dc:language>
  <cp:lastModifiedBy>Пользователь</cp:lastModifiedBy>
  <dcterms:modified xsi:type="dcterms:W3CDTF">2019-04-11T12:33:15Z</dcterms:modified>
  <cp:revision>34</cp:revision>
  <dc:subject/>
  <dc:title>Слайд 1</dc:title>
</cp:coreProperties>
</file>