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20.jpeg" ContentType="image/jpeg"/>
  <Override PartName="/ppt/media/image115.jpeg" ContentType="image/jpeg"/>
  <Override PartName="/ppt/media/image67.png" ContentType="image/png"/>
  <Override PartName="/ppt/media/image114.jpeg" ContentType="image/jpeg"/>
  <Override PartName="/ppt/media/image113.jpeg" ContentType="image/jpeg"/>
  <Override PartName="/ppt/media/image99.jpeg" ContentType="image/jpeg"/>
  <Override PartName="/ppt/media/image98.jpeg" ContentType="image/jpeg"/>
  <Override PartName="/ppt/media/image97.jpeg" ContentType="image/jpeg"/>
  <Override PartName="/ppt/media/image26.jpeg" ContentType="image/jpeg"/>
  <Override PartName="/ppt/media/image105.jpeg" ContentType="image/jpeg"/>
  <Override PartName="/ppt/media/image85.jpeg" ContentType="image/jpeg"/>
  <Override PartName="/ppt/media/image5.jpeg" ContentType="image/jpeg"/>
  <Override PartName="/ppt/media/image29.jpeg" ContentType="image/jpeg"/>
  <Override PartName="/ppt/media/image88.jpeg" ContentType="image/jpeg"/>
  <Override PartName="/ppt/media/image12.jpeg" ContentType="image/jpeg"/>
  <Override PartName="/ppt/media/image108.jpeg" ContentType="image/jpeg"/>
  <Override PartName="/ppt/media/image52.jpeg" ContentType="image/jpeg"/>
  <Override PartName="/ppt/media/image131.jpeg" ContentType="image/jpeg"/>
  <Override PartName="/ppt/media/image8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87.jpeg" ContentType="image/jpeg"/>
  <Override PartName="/ppt/media/image11.jpeg" ContentType="image/jpeg"/>
  <Override PartName="/ppt/media/image107.jpeg" ContentType="image/jpeg"/>
  <Override PartName="/ppt/media/image28.jpeg" ContentType="image/jpeg"/>
  <Override PartName="/ppt/media/image4.png" ContentType="image/png"/>
  <Override PartName="/ppt/media/image7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9.jpeg" ContentType="image/jpeg"/>
  <Override PartName="/ppt/media/image129.jpeg" ContentType="image/jpeg"/>
  <Override PartName="/ppt/media/image55.jpeg" ContentType="image/jpeg"/>
  <Override PartName="/ppt/media/image134.jpeg" ContentType="image/jpeg"/>
  <Override PartName="/ppt/media/image132.jpeg" ContentType="image/jpeg"/>
  <Override PartName="/ppt/media/image53.jpeg" ContentType="image/jpeg"/>
  <Override PartName="/ppt/media/image6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139.png" ContentType="image/png"/>
  <Override PartName="/ppt/media/image94.jpeg" ContentType="image/jpeg"/>
  <Override PartName="/ppt/media/image49.jpeg" ContentType="image/jpeg"/>
  <Override PartName="/ppt/media/image130.jpeg" ContentType="image/jpeg"/>
  <Override PartName="/ppt/media/image51.jpeg" ContentType="image/jpeg"/>
  <Override PartName="/ppt/media/image140.png" ContentType="image/png"/>
  <Override PartName="/ppt/media/image69.jpeg" ContentType="image/jpeg"/>
  <Override PartName="/ppt/media/image57.jpeg" ContentType="image/jpeg"/>
  <Override PartName="/ppt/media/image136.jpeg" ContentType="image/jpeg"/>
  <Override PartName="/ppt/media/image141.jpeg" ContentType="image/jpeg"/>
  <Override PartName="/ppt/media/image142.jpeg" ContentType="image/jpeg"/>
  <Override PartName="/ppt/media/image59.jpeg" ContentType="image/jpeg"/>
  <Override PartName="/ppt/media/image42.jpeg" ContentType="image/jpeg"/>
  <Override PartName="/ppt/media/image36.png" ContentType="image/png"/>
  <Override PartName="/ppt/media/image138.jpeg" ContentType="image/jpeg"/>
  <Override PartName="/ppt/media/image58.jpeg" ContentType="image/jpeg"/>
  <Override PartName="/ppt/media/image137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135.jpeg" ContentType="image/jpeg"/>
  <Override PartName="/ppt/media/image44.jpeg" ContentType="image/jpeg"/>
  <Override PartName="/ppt/media/image56.jpeg" ContentType="image/jpeg"/>
  <Override PartName="/ppt/media/image38.png" ContentType="image/png"/>
  <Override PartName="/ppt/media/image43.jpeg" ContentType="image/jpeg"/>
  <Override PartName="/ppt/media/image41.png" ContentType="image/png"/>
  <Override PartName="/ppt/media/image40.jpeg" ContentType="image/jpeg"/>
  <Override PartName="/ppt/media/image13.jpeg" ContentType="image/jpeg"/>
  <Override PartName="/ppt/media/image3.png" ContentType="image/png"/>
  <Override PartName="/ppt/media/image112.jpeg" ContentType="image/jpeg"/>
  <Override PartName="/ppt/media/image37.png" ContentType="image/png"/>
  <Override PartName="/ppt/media/image2.png" ContentType="image/png"/>
  <Override PartName="/ppt/media/image72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64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14.jpeg" ContentType="image/jpeg"/>
  <Override PartName="/ppt/media/image15.jpeg" ContentType="image/jpeg"/>
  <Override PartName="/ppt/media/image50.png" ContentType="image/png"/>
  <Override PartName="/ppt/media/image16.jpeg" ContentType="image/jpeg"/>
  <Override PartName="/ppt/media/image92.jpeg" ContentType="image/jpeg"/>
  <Override PartName="/ppt/media/image19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39.png" ContentType="image/png"/>
  <Override PartName="/ppt/media/image119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5.jpeg" ContentType="image/jpeg"/>
  <Override PartName="/ppt/media/image66.jpeg" ContentType="image/jpeg"/>
  <Override PartName="/ppt/media/image68.jpeg" ContentType="image/jpeg"/>
  <Override PartName="/ppt/media/image70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93.jpeg" ContentType="image/jpeg"/>
  <Override PartName="/ppt/media/image95.jpeg" ContentType="image/jpeg"/>
  <Override PartName="/ppt/media/image9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E719-6CD2-424D-A109-4E04D3C0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FCA5-4BF7-4AE8-BD85-914E4BA2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9E0-053D-4CC1-B783-2B5A70EB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A467-AF4C-45BA-B671-80393B9F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F0E7-4C8B-4CE1-A271-57340B47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79FC-AC87-453C-8BAE-271633E0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41CC-DA2C-4484-BD89-61AE585C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B304-7569-4B57-A78A-D83CBD94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F54F-3232-49AB-A654-5DDA7AAA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6709-EE8B-4EDA-83D5-687CF21F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33DC-CAC6-456C-8747-C3E27731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420-9633-4F6D-A0D9-4C96D6F2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2756-B11F-4E51-9E0B-2D9475FF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A549-7F93-4628-9D60-0DC131D0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513C-575B-4671-8956-D7D27BB3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B794-15F6-45E0-9817-1A0A0071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5B3A-1CDF-4445-B28B-5BF23D9C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FFD-E584-4893-9EE3-009F2E6C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084-D11A-4950-86AD-3597D075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72D-6B8B-40DD-AC29-566A8D61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7F6A-F4BC-4692-BE77-C10C601D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155-D37F-4610-8E44-EF9392AA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AC4-2EDF-411E-B49A-F43D645D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BA7-3D46-4CE2-9C94-292908E9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17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60A4-D2A6-4550-A341-4093A2B259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ccff"/>
                </a:gs>
                <a:gs pos="100000">
                  <a:srgbClr val="17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7BEA-9391-4E56-BDCD-8513C372C2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lympic.webteka.com/s1916.htm" TargetMode="External"/><Relationship Id="rId2" Type="http://schemas.openxmlformats.org/officeDocument/2006/relationships/hyperlink" Target="http://olympic.webteka.com/s1920.htm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nci.ru/19_&#1080;&#1102;&#1083;&#1103;" TargetMode="External"/><Relationship Id="rId2" Type="http://schemas.openxmlformats.org/officeDocument/2006/relationships/hyperlink" Target="http://www.enci.ru/1980" TargetMode="External"/><Relationship Id="rId3" Type="http://schemas.openxmlformats.org/officeDocument/2006/relationships/hyperlink" Target="http://www.enci.ru/&#1057;&#1090;&#1072;&#1076;&#1080;&#1086;&#1085;_&#1051;&#1091;&#1078;&#1085;&#1080;&#1082;&#1080;" TargetMode="External"/><Relationship Id="rId4" Type="http://schemas.openxmlformats.org/officeDocument/2006/relationships/hyperlink" Target="http://www.enci.ru/&#1057;&#1090;&#1072;&#1076;&#1080;&#1086;&#1085;_&#1051;&#1091;&#1078;&#1085;&#1080;&#1082;&#1080;" TargetMode="External"/><Relationship Id="rId5" Type="http://schemas.openxmlformats.org/officeDocument/2006/relationships/hyperlink" Target="http://www.enci.ru/&#1057;&#1072;&#1085;&#1077;&#1077;&#1074;,_&#1042;&#1080;&#1082;&#1090;&#1086;&#1088;_&#1044;&#1072;&#1085;&#1080;&#1083;&#1086;&#1074;&#1080;&#1095;" TargetMode="External"/><Relationship Id="rId6" Type="http://schemas.openxmlformats.org/officeDocument/2006/relationships/hyperlink" Target="http://www.enci.ru/&#1057;&#1072;&#1085;&#1077;&#1077;&#1074;,_&#1042;&#1080;&#1082;&#1090;&#1086;&#1088;_&#1044;&#1072;&#1085;&#1080;&#1083;&#1086;&#1074;&#1080;&#1095;" TargetMode="External"/><Relationship Id="rId7" Type="http://schemas.openxmlformats.org/officeDocument/2006/relationships/hyperlink" Target="http://www.enci.ru/&#1054;&#1083;&#1080;&#1084;&#1087;&#1080;&#1081;&#1089;&#1082;&#1080;&#1081;_&#1086;&#1075;&#1086;&#1085;&#1100;" TargetMode="External"/><Relationship Id="rId8" Type="http://schemas.openxmlformats.org/officeDocument/2006/relationships/hyperlink" Target="http://www.enci.ru/&#1041;&#1072;&#1089;&#1082;&#1077;&#1090;&#1073;&#1086;&#1083;" TargetMode="External"/><Relationship Id="rId9" Type="http://schemas.openxmlformats.org/officeDocument/2006/relationships/hyperlink" Target="http://www.enci.ru/&#1041;&#1077;&#1083;&#1086;&#1074;,_&#1057;&#1077;&#1088;&#1075;&#1077;&#1081;_&#1040;&#1083;&#1077;&#1082;&#1089;&#1072;&#1085;&#1076;&#1088;&#1086;&#1074;&#1080;&#1095;" TargetMode="External"/><Relationship Id="rId10" Type="http://schemas.openxmlformats.org/officeDocument/2006/relationships/hyperlink" Target="http://www.enci.ru/&#1041;&#1077;&#1083;&#1086;&#1074;,_&#1057;&#1077;&#1088;&#1075;&#1077;&#1081;_&#1040;&#1083;&#1077;&#1082;&#1089;&#1072;&#1085;&#1076;&#1088;&#1086;&#1074;&#1080;&#1095;" TargetMode="External"/><Relationship Id="rId11" Type="http://schemas.openxmlformats.org/officeDocument/2006/relationships/hyperlink" Target="http://www.enci.ru/&#1054;&#1083;&#1080;&#1084;&#1087;&#1080;&#1081;&#1089;&#1082;&#1072;&#1103;_&#1082;&#1083;&#1103;&#1090;&#1074;&#1072;" TargetMode="External"/><Relationship Id="rId12" Type="http://schemas.openxmlformats.org/officeDocument/2006/relationships/hyperlink" Target="http://www.enci.ru/&#1051;&#1077;&#1090;&#1085;&#1080;&#1077;_&#1054;&#1083;&#1080;&#1084;&#1087;&#1080;&#1081;&#1089;&#1082;&#1080;&#1077;_&#1080;&#1075;&#1088;&#1099;_1976" TargetMode="External"/><Relationship Id="rId13" Type="http://schemas.openxmlformats.org/officeDocument/2006/relationships/hyperlink" Target="http://www.enci.ru/&#1040;&#1085;&#1076;&#1088;&#1080;&#1072;&#1085;&#1086;&#1074;,_&#1053;&#1080;&#1082;&#1086;&#1083;&#1072;&#1081;_&#1045;&#1092;&#1080;&#1084;&#1086;&#1074;&#1080;&#1095;" TargetMode="External"/><Relationship Id="rId14" Type="http://schemas.openxmlformats.org/officeDocument/2006/relationships/hyperlink" Target="http://www.enci.ru/&#1050;&#1086;&#1089;&#1084;&#1086;&#1085;&#1072;&#1074;&#1090;" TargetMode="External"/><Relationship Id="rId15" Type="http://schemas.openxmlformats.org/officeDocument/2006/relationships/hyperlink" Target="http://www.enci.ru/&#1055;&#1086;&#1087;&#1086;&#1074;,_&#1051;&#1077;&#1086;&#1085;&#1080;&#1076;_&#1048;&#1074;&#1072;&#1085;&#1086;&#1074;&#1080;&#1095;" TargetMode="External"/><Relationship Id="rId16" Type="http://schemas.openxmlformats.org/officeDocument/2006/relationships/hyperlink" Target="http://www.enci.ru/&#1056;&#1102;&#1084;&#1080;&#1085;,_&#1042;&#1072;&#1083;&#1077;&#1088;&#1080;&#1081;_&#1042;&#1080;&#1082;&#1090;&#1086;&#1088;&#1086;&#1074;&#1080;&#1095;" TargetMode="External"/><Relationship Id="rId17" Type="http://schemas.openxmlformats.org/officeDocument/2006/relationships/image" Target="../media/image63.jpeg"/><Relationship Id="rId18" Type="http://schemas.openxmlformats.org/officeDocument/2006/relationships/image" Target="../media/image64.jpeg"/><Relationship Id="rId19" Type="http://schemas.openxmlformats.org/officeDocument/2006/relationships/image" Target="../media/image65.jpeg"/><Relationship Id="rId20" Type="http://schemas.openxmlformats.org/officeDocument/2006/relationships/image" Target="../media/image66.jpeg"/><Relationship Id="rId21" Type="http://schemas.openxmlformats.org/officeDocument/2006/relationships/image" Target="../media/image67.png"/><Relationship Id="rId2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hyperlink" Target="http://www.enci.ru/&#1048;&#1079;&#1086;&#1073;&#1088;&#1072;&#1078;&#1077;&#1085;&#1080;&#1077;:Olympicmedal1900.jpg" TargetMode="External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nci.ru/&#1048;&#1079;&#1086;&#1073;&#1088;&#1072;&#1078;&#1077;&#1085;&#1080;&#1077;:Silver_medal_of_1904_Summer_Olympics.jpg" TargetMode="External"/><Relationship Id="rId2" Type="http://schemas.openxmlformats.org/officeDocument/2006/relationships/image" Target="../media/image73.jpeg"/><Relationship Id="rId3" Type="http://schemas.openxmlformats.org/officeDocument/2006/relationships/hyperlink" Target="http://www.enci.ru/&#1048;&#1079;&#1086;&#1073;&#1088;&#1072;&#1078;&#1077;&#1085;&#1080;&#1077;:London_1908_Medals.jpg" TargetMode="External"/><Relationship Id="rId4" Type="http://schemas.openxmlformats.org/officeDocument/2006/relationships/image" Target="../media/image74.jpeg"/><Relationship Id="rId5" Type="http://schemas.openxmlformats.org/officeDocument/2006/relationships/hyperlink" Target="http://www.enci.ru/&#1048;&#1079;&#1086;&#1073;&#1088;&#1072;&#1078;&#1077;&#1085;&#1080;&#1077;:Olympicmedal1912.jpg" TargetMode="External"/><Relationship Id="rId6" Type="http://schemas.openxmlformats.org/officeDocument/2006/relationships/image" Target="../media/image75.jpeg"/><Relationship Id="rId7" Type="http://schemas.openxmlformats.org/officeDocument/2006/relationships/image" Target="../media/image76.jpeg"/><Relationship Id="rId8" Type="http://schemas.openxmlformats.org/officeDocument/2006/relationships/hyperlink" Target="http://www.enci.ru/&#1048;&#1079;&#1086;&#1073;&#1088;&#1072;&#1078;&#1077;&#1085;&#1080;&#1077;:Olympicmedal1924.jpg" TargetMode="External"/><Relationship Id="rId9" Type="http://schemas.openxmlformats.org/officeDocument/2006/relationships/image" Target="../media/image77.jpe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Olympicmedal1928.jpg" TargetMode="External"/><Relationship Id="rId2" Type="http://schemas.openxmlformats.org/officeDocument/2006/relationships/image" Target="../media/image78.jpeg"/><Relationship Id="rId3" Type="http://schemas.openxmlformats.org/officeDocument/2006/relationships/hyperlink" Target="http://www.enci.ru/&#1048;&#1079;&#1086;&#1073;&#1088;&#1072;&#1078;&#1077;&#1085;&#1080;&#1077;:1932S_medal_b.jpg" TargetMode="External"/><Relationship Id="rId4" Type="http://schemas.openxmlformats.org/officeDocument/2006/relationships/image" Target="../media/image79.jpeg"/><Relationship Id="rId5" Type="http://schemas.openxmlformats.org/officeDocument/2006/relationships/hyperlink" Target="http://www.enci.ru/&#1048;&#1079;&#1086;&#1073;&#1088;&#1072;&#1078;&#1077;&#1085;&#1080;&#1077;:1952S_medal_b.jpg" TargetMode="External"/><Relationship Id="rId6" Type="http://schemas.openxmlformats.org/officeDocument/2006/relationships/image" Target="../media/image80.jpeg"/><Relationship Id="rId7" Type="http://schemas.openxmlformats.org/officeDocument/2006/relationships/hyperlink" Target="http://www.enci.ru/&#1048;&#1079;&#1086;&#1073;&#1088;&#1072;&#1078;&#1077;&#1085;&#1080;&#1077;:1956S_medal_b.jpg" TargetMode="External"/><Relationship Id="rId8" Type="http://schemas.openxmlformats.org/officeDocument/2006/relationships/image" Target="../media/image81.jpe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hyperlink" Target="http://www.enci.ru/&#1048;&#1079;&#1086;&#1073;&#1088;&#1072;&#1078;&#1077;&#1085;&#1080;&#1077;:1964S_medal_b.jpg" TargetMode="External"/><Relationship Id="rId3" Type="http://schemas.openxmlformats.org/officeDocument/2006/relationships/image" Target="../media/image83.jpeg"/><Relationship Id="rId4" Type="http://schemas.openxmlformats.org/officeDocument/2006/relationships/hyperlink" Target="http://www.enci.ru/&#1048;&#1079;&#1086;&#1073;&#1088;&#1072;&#1078;&#1077;&#1085;&#1080;&#1077;:1968S_medal_b.jpg" TargetMode="External"/><Relationship Id="rId5" Type="http://schemas.openxmlformats.org/officeDocument/2006/relationships/image" Target="../media/image84.jpeg"/><Relationship Id="rId6" Type="http://schemas.openxmlformats.org/officeDocument/2006/relationships/hyperlink" Target="http://www.enci.ru/&#1048;&#1079;&#1086;&#1073;&#1088;&#1072;&#1078;&#1077;&#1085;&#1080;&#1077;:1972S_medal_b.jpg" TargetMode="External"/><Relationship Id="rId7" Type="http://schemas.openxmlformats.org/officeDocument/2006/relationships/image" Target="../media/image85.jpe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hyperlink" Target="http://www.enci.ru/&#1048;&#1079;&#1086;&#1073;&#1088;&#1072;&#1078;&#1077;&#1085;&#1080;&#1077;:1976S_medal_b.jpg" TargetMode="External"/><Relationship Id="rId4" Type="http://schemas.openxmlformats.org/officeDocument/2006/relationships/image" Target="../media/image8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image" Target="../media/image100.jpeg"/><Relationship Id="rId5" Type="http://schemas.openxmlformats.org/officeDocument/2006/relationships/image" Target="../media/image101.jpe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image" Target="../media/image109.jpeg"/><Relationship Id="rId4" Type="http://schemas.openxmlformats.org/officeDocument/2006/relationships/image" Target="../media/image110.jpe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image" Target="../media/image116.jpeg"/><Relationship Id="rId3" Type="http://schemas.openxmlformats.org/officeDocument/2006/relationships/image" Target="../media/image117.jpeg"/><Relationship Id="rId4" Type="http://schemas.openxmlformats.org/officeDocument/2006/relationships/image" Target="../media/image118.jpe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image" Target="../media/image121.jpeg"/><Relationship Id="rId4" Type="http://schemas.openxmlformats.org/officeDocument/2006/relationships/image" Target="../media/image122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image" Target="../media/image12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&#1074;&#1086;&#1077;&#1076;&#1080;&#1085;&#1086;.xml"/><Relationship Id="rId2" Type="http://schemas.openxmlformats.org/officeDocument/2006/relationships/slide" Target="slide9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image" Target="../media/image128.jpeg"/><Relationship Id="rId3" Type="http://schemas.openxmlformats.org/officeDocument/2006/relationships/image" Target="../media/image129.jpeg"/><Relationship Id="rId4" Type="http://schemas.openxmlformats.org/officeDocument/2006/relationships/image" Target="../media/image130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1.jpeg"/><Relationship Id="rId2" Type="http://schemas.openxmlformats.org/officeDocument/2006/relationships/image" Target="../media/image132.jpeg"/><Relationship Id="rId3" Type="http://schemas.openxmlformats.org/officeDocument/2006/relationships/image" Target="../media/image133.jpeg"/><Relationship Id="rId4" Type="http://schemas.openxmlformats.org/officeDocument/2006/relationships/image" Target="../media/image134.jpe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38.jpe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image" Target="../media/image140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142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enci.ru/&#1051;&#1077;&#1090;&#1085;&#1080;&#1077;_&#1054;&#1083;&#1080;&#1084;&#1087;&#1080;&#1081;&#1089;&#1082;&#1080;&#1077;_&#1080;&#1075;&#1088;&#1099;_1916" TargetMode="External"/><Relationship Id="rId2" Type="http://schemas.openxmlformats.org/officeDocument/2006/relationships/hyperlink" Target="http://www.enci.ru/&#1055;&#1077;&#1088;&#1074;&#1072;&#1103;_&#1084;&#1080;&#1088;&#1086;&#1074;&#1072;&#1103;_&#1074;&#1086;&#1081;&#1085;&#1072;" TargetMode="External"/><Relationship Id="rId3" Type="http://schemas.openxmlformats.org/officeDocument/2006/relationships/hyperlink" Target="http://www.enci.ru/&#1051;&#1077;&#1090;&#1085;&#1080;&#1077;_&#1054;&#1083;&#1080;&#1084;&#1087;&#1080;&#1081;&#1089;&#1082;&#1080;&#1077;_&#1080;&#1075;&#1088;&#1099;_1940" TargetMode="External"/><Relationship Id="rId4" Type="http://schemas.openxmlformats.org/officeDocument/2006/relationships/hyperlink" Target="http://www.enci.ru/&#1051;&#1077;&#1090;&#1085;&#1080;&#1077;_&#1054;&#1083;&#1080;&#1084;&#1087;&#1080;&#1081;&#1089;&#1082;&#1080;&#1077;_&#1080;&#1075;&#1088;&#1099;_1944" TargetMode="External"/><Relationship Id="rId5" Type="http://schemas.openxmlformats.org/officeDocument/2006/relationships/hyperlink" Target="http://www.enci.ru/&#1042;&#1090;&#1086;&#1088;&#1072;&#1103;_&#1084;&#1080;&#1088;&#1086;&#1074;&#1072;&#1103;_&#1074;&#1086;&#1081;&#1085;&#1072;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3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hyperlink" Target="http://www.enci.ru/&#1048;&#1079;&#1086;&#1073;&#1088;&#1072;&#1078;&#1077;&#1085;&#1080;&#1077;:Large-pink-white.gif" TargetMode="External"/><Relationship Id="rId10" Type="http://schemas.openxmlformats.org/officeDocument/2006/relationships/image" Target="../media/image36.png"/><Relationship Id="rId11" Type="http://schemas.openxmlformats.org/officeDocument/2006/relationships/hyperlink" Target="http://www.enci.ru/&#1048;&#1079;&#1086;&#1073;&#1088;&#1072;&#1078;&#1077;&#1085;&#1080;&#1077;:Sochi_2014_logo.svg" TargetMode="External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 rot="20352600">
            <a:off x="468000" y="1699920"/>
            <a:ext cx="71280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9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лимпийские игры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5280" y="5516640"/>
            <a:ext cx="4252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символика и ритуа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04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Monotype Corsiva"/>
              </a:rPr>
              <a:t>       </a:t>
            </a:r>
            <a:r>
              <a:rPr b="1" lang="ru-RU" sz="4800" spc="-1" strike="noStrike">
                <a:solidFill>
                  <a:srgbClr val="990099"/>
                </a:solidFill>
                <a:latin typeface="Monotype Corsiva"/>
              </a:rPr>
              <a:t>Цвета олимпийских колец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Синий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–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 Европ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Черный – Афр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расный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мер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Желтый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Аз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Зеленый 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– </a:t>
            </a: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Австрал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0560" y="333360"/>
            <a:ext cx="54723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Олимпийский девиз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лимпийский дев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остоит из трех латинских слов – Citius, Altius, Fortius. Дословно это значит «Быстрее, выше, храбрее». Однако более распространенным является перевод «Быстрее, выше, сильнее» (по-английски – Faster, higher, stronger). Фраза из трех слов впервые была сказана французским священником Анри Мартином Дидоном (Henri Martin Dideon) на открытии спортивных соревнований в своем колледже. Эти слова понравились Кубертену и он посчитал, что именно эти слова отражают цель атлетов всего ми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681800" cy="93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68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68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48243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Олимпийский флаг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2492280"/>
            <a:ext cx="8675640" cy="4221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фициальный фла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лимпийских Игр представляет собой изображение олимпийского логотипа на белом фоне. Белый цвет символизирует мир во время Игр. Флаг планировалось впервые использовать на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Играх 1916 год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но они не состоялись из-за войны, поэтому впервые флаг появился на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Олимпийских играх 1920 года в Антверпене (Бельгия)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лимпийский флаг используется в церемониях открытия и закрытия каждой Олимпиады. На церемонии закрытия мэр города-хозяина прошедших Игр передает флаг мэру города-хозяина следующих Игр. В течение четырех лет флаг остается в здании мэрии города, который готовится к очередным Олимпийским играм. Флаг МОК представляет собой сочетание олимпийского логотипа и олимпийского девиза. Флаги национальных олимпийских комитетов обязательно содержат эмблему из пяти колец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796000" y="333360"/>
            <a:ext cx="2628720" cy="196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68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68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6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68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5040360" cy="15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Олимпийский огонь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итуал зажжения священного огня происходит от древних греков и был возобновлен Кубертеном в 1912 году. Факел зажигают в Олимпии направленным пучком солнечных лучей, образованных вогнутым зеркалом. Олимпийский огонь символизирует чистоту, попытку совершенствования и борьбу за победу, а также мир и дружбу. Традиция зажигать огонь на стадионах была начата в 1928 году (на зимних Играх – в 1952 году). Эстафета по доставке факела в город-хозяин Игр впервые состоялась в 1936 году. Олимпийский факел доставляется на главный стадион Игр во время церемонии открытия, где с помощью него зажигается огонь в специальной чаше на стадионе. Олимпийский огонь горит до закрытия Олимпи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1317600" cy="137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768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768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998"/>
                            </p:stCondLst>
                            <p:childTnLst>
                              <p:par>
                                <p:cTn id="2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604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Олимпийский талисман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520" y="20606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600280" y="199872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4280" y="351936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8360" y="450648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Poor Richard"/>
              </a:rPr>
              <a:t>	</a:t>
            </a:r>
            <a:r>
              <a:rPr b="1" i="1" lang="en-US" sz="2400" spc="-1" strike="noStrike">
                <a:solidFill>
                  <a:srgbClr val="ff9933"/>
                </a:solidFill>
                <a:latin typeface="Poor Richard"/>
              </a:rPr>
              <a:t>Олимпийский</a:t>
            </a:r>
            <a:r>
              <a:rPr b="0" i="1" lang="en-US" sz="2400" spc="-1" strike="noStrike">
                <a:solidFill>
                  <a:srgbClr val="ff9933"/>
                </a:solidFill>
                <a:latin typeface="Poor Richard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Poor Richard"/>
              </a:rPr>
              <a:t>талисман</a:t>
            </a:r>
            <a:r>
              <a:rPr b="0" i="1" lang="en-US" sz="2400" spc="-1" strike="noStrike">
                <a:solidFill>
                  <a:srgbClr val="ffffff"/>
                </a:solidFill>
                <a:latin typeface="Poor Richard"/>
              </a:rPr>
              <a:t> - это самая популярная фигурка всех Олимпийских игр, которая является плодом творческого национального воображения и воплощения олимпийских ценност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93888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9933"/>
                </a:solidFill>
                <a:latin typeface="Poor Richard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Poor Richard"/>
              </a:rPr>
              <a:t>Понятие </a:t>
            </a:r>
            <a:r>
              <a:rPr b="0" i="1" lang="ru-RU" sz="2400" spc="-1" strike="noStrike">
                <a:solidFill>
                  <a:srgbClr val="ff9933"/>
                </a:solidFill>
                <a:latin typeface="Poor Richard"/>
              </a:rPr>
              <a:t>"</a:t>
            </a:r>
            <a:r>
              <a:rPr b="1" i="1" lang="ru-RU" sz="2400" spc="-1" strike="noStrike">
                <a:solidFill>
                  <a:srgbClr val="ff9933"/>
                </a:solidFill>
                <a:latin typeface="Poor Richard"/>
              </a:rPr>
              <a:t>олимпийский</a:t>
            </a:r>
            <a:r>
              <a:rPr b="0" i="1" lang="ru-RU" sz="2400" spc="-1" strike="noStrike">
                <a:solidFill>
                  <a:srgbClr val="ff9933"/>
                </a:solidFill>
                <a:latin typeface="Poor Richard"/>
              </a:rPr>
              <a:t> </a:t>
            </a:r>
            <a:r>
              <a:rPr b="1" i="1" lang="ru-RU" sz="2400" spc="-1" strike="noStrike">
                <a:solidFill>
                  <a:srgbClr val="ff9933"/>
                </a:solidFill>
                <a:latin typeface="Poor Richard"/>
              </a:rPr>
              <a:t>талисман</a:t>
            </a:r>
            <a:r>
              <a:rPr b="0" i="1" lang="ru-RU" sz="2400" spc="-1" strike="noStrike">
                <a:solidFill>
                  <a:srgbClr val="ff9933"/>
                </a:solidFill>
                <a:latin typeface="Poor Richard"/>
              </a:rPr>
              <a:t>"</a:t>
            </a:r>
            <a:r>
              <a:rPr b="0" i="1" lang="ru-RU" sz="2400" spc="-1" strike="noStrike">
                <a:solidFill>
                  <a:srgbClr val="ffffff"/>
                </a:solidFill>
                <a:latin typeface="Poor Richard"/>
              </a:rPr>
              <a:t> официально было утверждено летом 1972 года на сессии МОКа, проходившей в рамках игр XX Олимпиады в Мюнхене (ФРГ). Колобок-лыжник по имени Щусс настолько успешно продавался организаторами в виде значков и маленьких фигурок, что заставил Международный </a:t>
            </a:r>
            <a:r>
              <a:rPr b="1" i="1" lang="ru-RU" sz="2400" spc="-1" strike="noStrike">
                <a:solidFill>
                  <a:srgbClr val="ffffff"/>
                </a:solidFill>
                <a:latin typeface="Poor Richard"/>
              </a:rPr>
              <a:t>олимпийский</a:t>
            </a:r>
            <a:r>
              <a:rPr b="0" i="1" lang="ru-RU" sz="2400" spc="-1" strike="noStrike">
                <a:solidFill>
                  <a:srgbClr val="ffffff"/>
                </a:solidFill>
                <a:latin typeface="Poor Richard"/>
              </a:rPr>
              <a:t> комитет всерьез задуматься о введении в обиход понятия </a:t>
            </a:r>
            <a:r>
              <a:rPr b="0" i="1" lang="ru-RU" sz="2400" spc="-1" strike="noStrike">
                <a:solidFill>
                  <a:srgbClr val="ff9933"/>
                </a:solidFill>
                <a:latin typeface="Poor Richard"/>
              </a:rPr>
              <a:t>"</a:t>
            </a:r>
            <a:r>
              <a:rPr b="1" i="1" lang="ru-RU" sz="2400" spc="-1" strike="noStrike">
                <a:solidFill>
                  <a:srgbClr val="ff9933"/>
                </a:solidFill>
                <a:latin typeface="Poor Richard"/>
              </a:rPr>
              <a:t>олимпийский</a:t>
            </a:r>
            <a:r>
              <a:rPr b="0" i="1" lang="ru-RU" sz="2400" spc="-1" strike="noStrike">
                <a:solidFill>
                  <a:srgbClr val="ff9933"/>
                </a:solidFill>
                <a:latin typeface="Poor Richard"/>
              </a:rPr>
              <a:t> </a:t>
            </a:r>
            <a:r>
              <a:rPr b="1" i="1" lang="ru-RU" sz="2400" spc="-1" strike="noStrike">
                <a:solidFill>
                  <a:srgbClr val="ff9933"/>
                </a:solidFill>
                <a:latin typeface="Poor Richard"/>
              </a:rPr>
              <a:t>талисман</a:t>
            </a:r>
            <a:r>
              <a:rPr b="0" i="1" lang="ru-RU" sz="2400" spc="-1" strike="noStrike">
                <a:solidFill>
                  <a:srgbClr val="ff9933"/>
                </a:solidFill>
                <a:latin typeface="Poor Richard"/>
              </a:rPr>
              <a:t>".</a:t>
            </a:r>
            <a:r>
              <a:rPr b="0" i="1" lang="ru-RU" sz="2400" spc="-1" strike="noStrike">
                <a:solidFill>
                  <a:srgbClr val="ffffff"/>
                </a:solidFill>
                <a:latin typeface="Poor Richard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68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68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68360" y="404640"/>
            <a:ext cx="582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. „le schuss“: неофициальный талисма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Зимних Олимпийских игр 1968 в Гренобле, Фран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1942920" cy="2089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63640" y="1484280"/>
            <a:ext cx="471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2. Такса Вальди: талисман Лет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 1972 года 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Мюнхене, Германия. </a:t>
            </a:r>
            <a:r>
              <a:rPr b="0" lang="ru-RU" sz="2000" spc="-1" strike="noStrike">
                <a:solidFill>
                  <a:srgbClr val="ffff00"/>
                </a:solidFill>
                <a:latin typeface="Arial Narrow"/>
              </a:rPr>
              <a:t>Первый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Narrow"/>
              </a:rPr>
              <a:t>            </a:t>
            </a:r>
            <a:r>
              <a:rPr b="0" lang="ru-RU" sz="2000" spc="-1" strike="noStrike">
                <a:solidFill>
                  <a:srgbClr val="ffff00"/>
                </a:solidFill>
                <a:latin typeface="Arial Narrow"/>
              </a:rPr>
              <a:t>официальный  Олимпийский талисм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516720" y="1557360"/>
            <a:ext cx="2448000" cy="1243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635280" y="3528000"/>
            <a:ext cx="52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3. Бобер Амик: талисман Летних Олимпийских иг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976 года в Монреале, Канада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50920" y="3284640"/>
            <a:ext cx="3244680" cy="1654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71640" y="5486040"/>
            <a:ext cx="4680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. Шнееман (Снеговик): талисман Зимних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1976 в Инсбруке, Австр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580000" y="4344840"/>
            <a:ext cx="2737080" cy="216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995640" y="333000"/>
            <a:ext cx="52992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5. Миша: талисман Летних Олимпийских иг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1980 года в Москве, Росс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654200" cy="2881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51280" y="2781000"/>
            <a:ext cx="3440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6. Енот Рони: талисман Зим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1980 года в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Лейк Плесиде, СШ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093080" y="1844640"/>
            <a:ext cx="1636560" cy="2082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340000" y="4076280"/>
            <a:ext cx="36003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7. Адлер Сэм: талисман Лет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Олимпийских игр 1984 года 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Лос-Анджелесе, СШ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1784520" cy="2298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843280" y="5444640"/>
            <a:ext cx="37576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8. Вучко: талисман Зим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1984 года в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араеве, Югославия              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227640" y="4221000"/>
            <a:ext cx="2457720" cy="2241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195640" y="260280"/>
            <a:ext cx="1428480" cy="2457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140360" y="907920"/>
            <a:ext cx="377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игри: талисман соревнований по парусному спорту, проходивших в Таллин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24000" y="475920"/>
            <a:ext cx="49752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9. Ходори: талисман Летних Олимпийских игр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988 года в Сеуле, Южная Коре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717560" cy="2658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68360" y="1988640"/>
            <a:ext cx="38880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0.Хайди и Хоуди: талисманы Зим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1988 года 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алгари, Канад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156360" y="1052640"/>
            <a:ext cx="265104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56000" y="3347280"/>
            <a:ext cx="482436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1. Коби: талисман Летних Олимпийских иг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992 года в Барселоне, Испания  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           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2160360" cy="1905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195640" y="5444640"/>
            <a:ext cx="45432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2. Magique (Магия): талисман Зим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1992 год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 Альбертвилле, Франц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799320" y="4221000"/>
            <a:ext cx="1762200" cy="229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411280" y="259920"/>
            <a:ext cx="44643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3. Иззи: талисман Летних Олимпийских иг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996 года в Атланте, США  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           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017440" cy="1577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11280" y="2204640"/>
            <a:ext cx="57592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4. Хокон и Кристин : талисманы Зимних Олимпийских иг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994 года в Лиллехаммере, Норве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443640" y="765000"/>
            <a:ext cx="2354400" cy="2156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268360" y="3563280"/>
            <a:ext cx="648180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5. Сукки, Нокки, Лекки и Цукки : талисманы Зим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1998 года в Нагано, Япония 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1920960" cy="2060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5280" y="5733720"/>
            <a:ext cx="5148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6. Олли, Сид и Милли: талисманы Лет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2000 года в Сиднее, Австрал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580000" y="5003640"/>
            <a:ext cx="3287880" cy="142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92360" y="260280"/>
            <a:ext cx="5472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7. Паудер, Коппер и Коал: талисманы Зим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2002 года в Солт-Лейк-Сити, СШ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51440" cy="1859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71640" y="2565000"/>
            <a:ext cx="57132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8. Афина и Фивос: талисманы Летних Олимпийских иг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2004 года в Афинах, Грец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804000" y="1052640"/>
            <a:ext cx="2129040" cy="2226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700360" y="3715920"/>
            <a:ext cx="61196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19. Неве и Глиц (снежок и кубик льда) : талисманы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Зимних Олимпийских игр 2006 года в Турине Италия  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2373480" cy="2027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5949720"/>
            <a:ext cx="4824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20. Фува (дети удачи): талисманы Лет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лимпийских игр 2008 года в Пекине, Кита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716360" y="4869000"/>
            <a:ext cx="4237200" cy="1211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38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Олимпийская хартия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216240" cy="4619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76720" y="3933720"/>
            <a:ext cx="5616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11640" y="1484280"/>
            <a:ext cx="4464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9933"/>
                </a:solidFill>
                <a:latin typeface="Times New Roman"/>
              </a:rPr>
              <a:t>Олимпийская харт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- это своего рода конституция олимпийского движения, свод основных законов, по которым живёт мир современного олимпийского спорта. В ней изложены принципы олимпизма, правила организации и проведения Олимпийских игр, устройство олимпийского движения и т.д. Основы хартии были разработаны в конце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 Пьером де Кубертеном и утверждены на первом конгрессе МОК в 1894 году в Париж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84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384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384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384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Ритуал  Олимпийских  игр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181080" y="1125360"/>
            <a:ext cx="9506160" cy="539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итуал Олимпийских игр предусматривает особый порядок их проведения. Начинается с зажжения Олимпийского огня, доставления его к месту проведения Олимпиады. Согласно олимпийской традиции сама Олимпиада начинается с торжественного парада участников, который открывается делегация Греции – страны, подарившей миру Олимпийские игры, а завершает шествие делегация страны – организатора Иг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ступающие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дседатель оргкомитета проводящей стран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зидент Международного Олимпийского комитета (МОК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д стадионом раздаются торжественные звуки фанфар. Восемь спортсменов в сопровождении почётного эскорта вносят развёрнутый олимпийский флаг. Исполняется олимпийский гимн, флаг поднимается над стадионом. После этого на арене стадиона появляется спортсмен  с пылающим факелом, который передаёт пылающую эстафету другому, и тот зажигает традиционный огонь в специальной чаше. Над стадионом звучит «Ода спорту», написанная П. де Кубертен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дин из лучших спортсменов от имени всех участников Игр произносит клятву выступать в честных соревнованиях, уважая правила. Клятву произносит и представитель от судей (олимпийская клятва от судей была включена в ритуал Олимпиад в 1968 году по предложению Олимпийского комитета СССР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чинаются массовые выступления спортсмен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последний день проводится торжественное закрытие Олимпиад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69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69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69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69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52560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Олимпийская клятва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181080" y="1196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самом деле клятвы две. Первая от имени участников. Текст этой клятвы предложил Пьер де Кубертен, впоследствии он несколько изменился и сейчас звучит так: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«От имени всех участников соревнований, я обещаю что мы будем участвовать в этих Олимпийских Играх, уважая и соблюдая правила, по которым они проводятся, в истинно спортивном духе, во славу спорта и чести наших команд»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лятву принимают также тренеры и официальные лица команд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торая клятва – для спортивных арбитров. Впервые олимпийская клятва прозвучала в 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19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году, а клятва арбитров – 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в 1968 году в Мехик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Этой олимпийской традицией нам стоит гордиться особо, так как предложил ее наш Олимпийский комитет! Текст клятвы таков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«От имени всех судей и официальных лиц я обещаю, что мы будем выполнять наши обязанности во время этих Олимпийских игр со всей беспристрастностью, уважая и соблюдая правила, по которым они проводятся в подлинно спортивном духе»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2000 году на Олимпиаде в Сиднее впервые в тексте клятвы появились слова о не использовании допинга в соревнования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0805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XXII 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Олимпийские игры в Москв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252720" y="907920"/>
            <a:ext cx="6119640" cy="612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рытие Игр XXII Олимпиады состоялось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19 июл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198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г.  Местом проведения церемонии открытия была выбрана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Большая спортивная арена Центрального стадиона имени В.И. Ленин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Первым на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Олимпийском стадион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оявился трёхкратный олимпийский чемпион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Виктор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Санее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который внес на стадион факел с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7"/>
              </a:rPr>
              <a:t>олимпийским огнё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делав круг по дорожке стадиона, он передал факел советскому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8"/>
              </a:rPr>
              <a:t>баскетболисту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олимпийскому чемпиону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9"/>
              </a:rPr>
              <a:t>Сергею Белову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Над рядами Восточной трибуны возникла импровизированная дорожка из белоснежных щитов.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0"/>
              </a:rPr>
              <a:t>Бел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обежал по ней, подняв пылающий факел высоко над головой. От имени всех участников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1"/>
              </a:rPr>
              <a:t>олимпийскую клятву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оизнёс герой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2"/>
              </a:rPr>
              <a:t>Игр в Монреал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гимнаст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3"/>
              </a:rPr>
              <a:t>Николай Андриан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На информационном табло стадиона появилось изображение советских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4"/>
              </a:rPr>
              <a:t>космонав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5"/>
              </a:rPr>
              <a:t>Леонида Попов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6"/>
              </a:rPr>
              <a:t>Валерия Рюмин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Они из космоса обратились с приветствием к олимпийцам и пожелали им счастливых старт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многим позже Генеральный секретарь ЦК КПСС Леонид Ильич Брежнев объявил XXII Летние Олимпийские Игры открытыми. Одна за другой национальные олимпийские команды проследовали по беговой дорожке стадиона, в традиционном марше приветствия. В танцевальных и спортивных сюжетах церемонии открытия, длившейся около 3 часов, участвовало свыше 16 тысяч спортсменов, самодеятельных и профессиональных артист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7"/>
          <a:stretch/>
        </p:blipFill>
        <p:spPr>
          <a:xfrm>
            <a:off x="5940360" y="1052640"/>
            <a:ext cx="1544760" cy="1728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8"/>
          <a:stretch/>
        </p:blipFill>
        <p:spPr>
          <a:xfrm>
            <a:off x="7740720" y="1052640"/>
            <a:ext cx="1103400" cy="1726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9"/>
          <a:stretch/>
        </p:blipFill>
        <p:spPr>
          <a:xfrm>
            <a:off x="6659640" y="2852640"/>
            <a:ext cx="1330200" cy="187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0"/>
          <a:stretch/>
        </p:blipFill>
        <p:spPr>
          <a:xfrm>
            <a:off x="7740720" y="4797360"/>
            <a:ext cx="1116000" cy="1871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1"/>
          <a:srcRect l="7332" t="-190" r="0" b="0"/>
          <a:stretch/>
        </p:blipFill>
        <p:spPr>
          <a:xfrm>
            <a:off x="5940360" y="5013360"/>
            <a:ext cx="1727280" cy="148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68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68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6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6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-181080" y="26028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ржественное закрытие Игр XXII Олимпиады состоялось 3 августа на Олимпийском стадионе «Лужники». Белый Олимпийский флаг был медленно опущен под звуки Олимпийского гимна. К чаше с Олимпийским огнем подошли девушки в туниках и образовали композицию, напоминающую древнегреческую фреску. Олимпийский огонь в чаше медленно угас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экране художественного фона, выполненного из цветных щитов, возник образ Миши, символа Олимпиады-80. Появилась надпись «Доброго пути!», и из глаза медведя покатилась слеза. На арену стадиона вступил оркестр, выполнивший под звуки марша ряд перестроений. Затем на поле стадиона вышли спортсмены, которые синхронно выполнили упражнения, каждый из своего вида спор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самом конце церемонии закрытия гостей и телезрителей ждал сюрприз, который все помнят до сих пор. На середину стадиона, ухватившись за разноцветные воздушные шары, выплыл огромный «Миша». Он помахал на прощание лапой и стал медленно подниматься над стадионом до тех пор, пока не исчез в небе. Одновременно с подъёмом медведя в небо, звучала песня композитора Александры Пахмутовой и поэта Николая Добронравова «До свиданья, Москва!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 время исполнения песни многие зрители плака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4392360" cy="2575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o03007i"/>
          <p:cNvPicPr/>
          <p:nvPr/>
        </p:nvPicPr>
        <p:blipFill>
          <a:blip r:embed="rId2"/>
          <a:stretch/>
        </p:blipFill>
        <p:spPr>
          <a:xfrm>
            <a:off x="5867280" y="3933720"/>
            <a:ext cx="2327400" cy="259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3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5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16360" y="259920"/>
            <a:ext cx="5256000" cy="14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Олимпийские медали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бедитель получает золотую медаль (на самом деле эта медаль серебряная, но покрытая относительно толстым слоем золота). За второе место вручают серебряную медаль, за третье – бронзовую. Вручение медалей происходит на специальной церемонии после соревнований. Победители располагаются на подиуме в соответствии с завоеванными местами. Поднимаются флаги стран, представителями которых являются победители. Играется гимн страны, представителем которой является обладатель золотой меда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1692360" cy="16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768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6" dur="768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8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0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998"/>
                            </p:stCondLst>
                            <p:childTnLst>
                              <p:par>
                                <p:cTn id="5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808020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Times New Roman"/>
              </a:rPr>
              <a:t>Медали Летних Олимпийских игр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57520" cy="2197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87600" y="98100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896 г. - I Летние Олимпийские Игры, Афины, Грец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Медаль Олимпийских Игр 1900 года квадратной формы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4724280"/>
            <a:ext cx="3587760" cy="179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0880" y="4005360"/>
            <a:ext cx="76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1900 г. -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I Летние Олимпийские Игры,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Париж, Франц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Серебряная медаль за бег на 800 м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836640"/>
            <a:ext cx="2303280" cy="1190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36240" y="189000"/>
            <a:ext cx="362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04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Сент-Луис, СШ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54080" y="189000"/>
            <a:ext cx="36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08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V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Лондон, Великобрит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Серебряные медали Игр; сверху в для спортсменов, снизу в для организаторов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836640"/>
            <a:ext cx="3117960" cy="3429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62080" y="2349360"/>
            <a:ext cx="36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12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V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Стокгольм, Швец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Медаль Олимпийских Игр 1912 год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3068640"/>
            <a:ext cx="2293920" cy="1147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62800" y="4581360"/>
            <a:ext cx="375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20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VI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Антверпен, Бельг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971640" y="5300640"/>
            <a:ext cx="2303280" cy="1152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Медаль Олимпийских Игр 1924 года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92720" y="5373720"/>
            <a:ext cx="2303640" cy="1152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622760" y="4581360"/>
            <a:ext cx="382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24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VII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Париж, Франц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97880" y="333360"/>
            <a:ext cx="372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28 г. –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IX 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Амстердам, Нидерланд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24800" y="333360"/>
            <a:ext cx="350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32 г.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 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Лос-Анджелес, СШ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0080" y="2997360"/>
            <a:ext cx="372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36 г. –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I 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Берлин, Герм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0080" y="4076640"/>
            <a:ext cx="37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52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V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Хельсинки, Финлянд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27520" y="2997360"/>
            <a:ext cx="383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48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IV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Лондон, Великобрит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27520" y="3860640"/>
            <a:ext cx="383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56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V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Мельбурн, Австрал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Стокгольм, Швец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Медаль IX Летних Олимпийских Игр 1928 год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981000"/>
            <a:ext cx="2857320" cy="1476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Медаль X Летних Олимпийских иг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981000"/>
            <a:ext cx="2857680" cy="1409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Медаль XV Летних Олимпийских игр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4797360"/>
            <a:ext cx="2857680" cy="1457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Медаль XVI Летних Олимпийских игр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4795920"/>
            <a:ext cx="2881440" cy="145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06440" y="3573360"/>
            <a:ext cx="383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68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IV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Мехико, Мексика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65320" y="333360"/>
            <a:ext cx="397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64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VII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Токио, Япо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440" y="333360"/>
            <a:ext cx="390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60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VII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Рим, Итал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98440" y="3573360"/>
            <a:ext cx="376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1972 г. -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XX</a:t>
            </a: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Times New Roman"/>
              </a:rPr>
              <a:t>Мюнхен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529080" cy="18655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Медаль XVIII Летних Олимпийских игр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125360"/>
            <a:ext cx="3578400" cy="1849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Медаль XIX Летних Олимпийских игр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4437000"/>
            <a:ext cx="3600360" cy="1812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Медаль XX Летних Олимпийских игр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03640" y="4398840"/>
            <a:ext cx="3456000" cy="18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1600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979640" y="4149720"/>
            <a:ext cx="2370240" cy="23702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788000" y="414972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89400" y="3429000"/>
            <a:ext cx="77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980 г. - XXII Летние Олимпийские Игры, Москва, ССС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1634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1976 г. -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XI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Монреаль, Кана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Медаль XXI Летних Олимпийских иг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836640"/>
            <a:ext cx="4452840" cy="230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633708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Олимпийский принцип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640" y="19890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Олимпийский принци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ыл определен в 1896 году основателем современных Игр Пьером де Кубертен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«Самое важное в Олимпийских играх – не победа, а участие, также как в жизни самое главное – не триумф, а борьб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050920" y="4149720"/>
            <a:ext cx="2298960" cy="2298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788000" y="414972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680" y="3429000"/>
            <a:ext cx="90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988 г. - XXIV Летние Олимпийские Игры, Сеул, Республики Коре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050920" y="765000"/>
            <a:ext cx="2298960" cy="22989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4788000" y="765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83240" y="115920"/>
            <a:ext cx="86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1984 г. - XXIII Летние Олимпийские Игры, Лос-Анджелес, СШ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050920" y="4148280"/>
            <a:ext cx="2298960" cy="2298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788000" y="41418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46480" y="3573360"/>
            <a:ext cx="78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996 г. - XXVI Летние Олимпийские Игры, Атланта, СШ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2050920" y="907920"/>
            <a:ext cx="2298960" cy="22989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4788000" y="90792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54880" y="26028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992 г. - XXV Летние Олимпийские Игры, Барселона, Исп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2046240" cy="20462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663640" cy="19954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516720" y="436572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73040" y="3789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004 г. - XXVIII Летние Олимпийские Игры, Афины, Гре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1979640" y="836640"/>
            <a:ext cx="2370240" cy="23702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4859280" y="83664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77560" y="139680"/>
            <a:ext cx="85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000 г. - XXVII Летние Олимпийские Игры, Сидней, Австрал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276360" y="1989000"/>
            <a:ext cx="5538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 выглядят медал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кинской Олимпиад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 Диаметр каждой из трех медалей составляет 70 мм, толщина - 6 мм. С оборотной стороны медалей вставлено нефритовое кольцо, в центре медали - изображение значка Олимпиады-2008. Как поясняют дизайнеры, медали с нефритом - это новшество в истории Олимпийских игр. Оно отражает приветствие олимпийскому духу и уважение китайского народа к спортсмен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857320" cy="3219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087200" y="569880"/>
            <a:ext cx="69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2008 г. – XX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X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Летние Олимпийские Игр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екин, Кита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0802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I Зимние Олимпийские Игры, Шамони, Франция,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1924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2087640" cy="2087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24000" y="0"/>
            <a:ext cx="85122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Медали Зимних Олимпийских иг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716280"/>
            <a:ext cx="8764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II Зимние Олимпийские Игры, Санкт-Мориц, Швейцария, 1928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212400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4643280" y="4365720"/>
            <a:ext cx="2089440" cy="208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0805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III Зимние Олимпийские Игры, Лэйк-Плэсид, США, 1932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2089440" cy="2089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643280" y="1052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755640" y="3284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IV Зимние Олимпийские Игры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Гармиш - Партенкирхен, Германия, 19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2050920" y="429264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4643280" y="4286160"/>
            <a:ext cx="2089440" cy="208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407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V Зимние Олимпийские Игры, Санкт-Мориц, Швейцария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1948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788000" y="90792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2195640" y="90792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4360" y="350028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I Зимние Олимпийские Игры, Осло, Норвегия, 195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2124000" y="4149720"/>
            <a:ext cx="2046240" cy="20462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4788000" y="414180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2022480" cy="20224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128680" y="26028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VII Зимние Олимпийские Игры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Кортина Д'Ампеццо, Италия, 19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2124000" y="42940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4716360" y="4314960"/>
            <a:ext cx="2087640" cy="20872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17040" y="3645000"/>
            <a:ext cx="77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VIII Зимние Олимпийские Игры, Скво-Велль, США, 1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8056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X Зимние Олимпийские Игры, Инсбрук, Австрия, 1964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340000" y="907920"/>
            <a:ext cx="2009880" cy="20098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1835280" y="378792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4788000" y="378144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831960" y="3213000"/>
            <a:ext cx="75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 Зимние Олимпийские Игры, Гренобль, Франция, 19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2168280" cy="2168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859280" y="90792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832320" y="26028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I Зимние Олимпийские Игры, Саппоро, Япония, 197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195640" y="421308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4859280" y="421488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832680" y="342900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II Зимние Олимпийские Игры, Инсбрук, Австрия,19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Символика Олимпийских игр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640" y="249228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Олимпийский символ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эмблема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Олимпийский деви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Олимпийский флаг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лимпийский огонь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лимпийский талисм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2152800" cy="2152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15240" y="260280"/>
            <a:ext cx="79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XIII Зимние Олимпийские Игры, Лэйк-Плэсид, США, 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IV Зимние Олимпийские Игры, 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Сараево, Югославия, 1984 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1979640" y="4076640"/>
            <a:ext cx="2451240" cy="24512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4788000" y="4070520"/>
            <a:ext cx="2448000" cy="244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2297160" cy="2297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4788000" y="765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191960" y="21096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V Зимние Олимпийские Игры, Калгари, Канада, 19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2124000" y="4149720"/>
            <a:ext cx="2297160" cy="22971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788000" y="41418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02840" y="3357720"/>
            <a:ext cx="83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XVI Зимние Олимпийские Игры, Альбервилль, Франция,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2154240" cy="21542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716360" y="83664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28680" y="189000"/>
            <a:ext cx="85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XVII Зимние Олимпийские Игры, Лиллехаммер, Норвегия, 19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2124000" y="4221000"/>
            <a:ext cx="2225880" cy="22258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4716360" y="4221000"/>
            <a:ext cx="2232000" cy="22323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61400" y="3429000"/>
            <a:ext cx="76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VIII Зимние Олимпийские Игры, Нагано, Япония,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51280" y="1558800"/>
            <a:ext cx="482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едали для Олимпиады в Солт-Лейк-Сити стали самыми тяжелыми за всю историю современных Игр. Вес каждой золотой или серебряной медали – 0,567 кг, бронзовой – 0,454 кг. Впервые в истории Игр были созданы 16 вариантов оформления медали для каждого из видов спорт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57840" y="404640"/>
            <a:ext cx="449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XI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Зимние Олимпийские Игр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Солт-Лейк-Сити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, США,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3294360" cy="43210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5651640" y="3068640"/>
            <a:ext cx="1944720" cy="1461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361400" y="1484280"/>
            <a:ext cx="43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Зимние Олимпийские Игр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Турин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, Италия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8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90120" y="909360"/>
            <a:ext cx="7538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неочередные Олимпийские игр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водились в Париже в 1906 го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Летние Олимпийские игры 1916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года в Берлин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ыли отменены из-за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Первой мировой войны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етние и Зимние Олимпийские игр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1940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в Токио и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1944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 в Лондон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ыли отменены из-за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Второй мировой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 войн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16360" y="333360"/>
            <a:ext cx="6767280" cy="189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Monotype Corsiva"/>
              </a:rPr>
              <a:t>Олимпийский</a:t>
            </a: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ff0066"/>
                </a:solidFill>
                <a:latin typeface="Monotype Corsiva"/>
              </a:rPr>
              <a:t>символ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фициальный логотип (эмблема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лимпийских Игр состоит из пяти сцепленных между собой колец. Этот символ был разработан основателем современных Олимпийских Игр бароном Пьером де Кубертеном в 1913 году под впечатлением от подобных символов на древнегреческих предметах. Нет подтверждений, что Кубертен связывал число колец с числом континентов, но считается, что пять колец – символ пяти континентов (Европы, Азии, Австралии, Африки и Америки). На флаге любого государства есть по крайней мере один цвет из представленных на олимпийских кольцах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1905120" cy="9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84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384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384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384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5991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Monotype Corsiva"/>
              </a:rPr>
              <a:t>Эмблема </a:t>
            </a:r>
            <a:br>
              <a:rPr sz="4800"/>
            </a:br>
            <a:r>
              <a:rPr b="0" lang="en-US" sz="4800" spc="-1" strike="noStrike">
                <a:solidFill>
                  <a:srgbClr val="ff0066"/>
                </a:solidFill>
                <a:latin typeface="Monotype Corsiva"/>
              </a:rPr>
              <a:t>Московской Олимпиады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76360" y="4941720"/>
            <a:ext cx="6332400" cy="1447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Monotype Corsiva"/>
              </a:rPr>
              <a:t>Эмблема Олимпийского комитета Росси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43640" y="765000"/>
            <a:ext cx="2255760" cy="352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2637000"/>
            <a:ext cx="3095640" cy="206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40000" y="-171720"/>
            <a:ext cx="4610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Monotype Corsiva"/>
              </a:rPr>
              <a:t>Эмблемы  Олимпиад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190008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380360" y="4581360"/>
            <a:ext cx="1149120" cy="2016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580000" y="4941720"/>
            <a:ext cx="99540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08720" y="2997360"/>
            <a:ext cx="1096920" cy="1800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484360" y="2997360"/>
            <a:ext cx="1238400" cy="1800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39640" y="4653000"/>
            <a:ext cx="1241640" cy="1942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2484360" y="907920"/>
            <a:ext cx="1217520" cy="194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2484360" y="4941720"/>
            <a:ext cx="1165320" cy="160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6948360" y="2492280"/>
            <a:ext cx="1952640" cy="1913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0"/>
          <a:stretch/>
        </p:blipFill>
        <p:spPr>
          <a:xfrm>
            <a:off x="25092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1"/>
          <a:stretch/>
        </p:blipFill>
        <p:spPr>
          <a:xfrm>
            <a:off x="3924360" y="907920"/>
            <a:ext cx="1328760" cy="1944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2"/>
          <a:stretch/>
        </p:blipFill>
        <p:spPr>
          <a:xfrm>
            <a:off x="7020000" y="260280"/>
            <a:ext cx="1860480" cy="1944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3"/>
          <a:stretch/>
        </p:blipFill>
        <p:spPr>
          <a:xfrm>
            <a:off x="5508720" y="907920"/>
            <a:ext cx="1146240" cy="190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4"/>
          <a:stretch/>
        </p:blipFill>
        <p:spPr>
          <a:xfrm>
            <a:off x="4067280" y="4869000"/>
            <a:ext cx="1120680" cy="1785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5"/>
          <a:stretch/>
        </p:blipFill>
        <p:spPr>
          <a:xfrm>
            <a:off x="4211640" y="3068640"/>
            <a:ext cx="808200" cy="165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627280" y="4653000"/>
            <a:ext cx="2017800" cy="2017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77080" y="3789360"/>
            <a:ext cx="1857240" cy="2162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859280" y="4653000"/>
            <a:ext cx="1922400" cy="2033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877080" y="765000"/>
            <a:ext cx="1682640" cy="216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539640" y="836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4932360" y="189000"/>
            <a:ext cx="1503360" cy="216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3059280" y="189000"/>
            <a:ext cx="1446120" cy="2160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3635280" y="2492280"/>
            <a:ext cx="2175120" cy="203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33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84720" y="476280"/>
            <a:ext cx="1841760" cy="1582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172728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843280" y="2349360"/>
            <a:ext cx="1698480" cy="1460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84360" y="2637000"/>
            <a:ext cx="1697040" cy="1458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1187280" y="260280"/>
            <a:ext cx="1579680" cy="1944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1692360" y="4365720"/>
            <a:ext cx="1574640" cy="2016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5724360" y="472428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6804000" y="2565360"/>
            <a:ext cx="1655640" cy="1546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Эмблема летних Олимпийских игр 201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64000" y="260280"/>
            <a:ext cx="1622520" cy="1800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Логотип города-кандидата Сочи на проведение зимних Олимпийских игр 2014, используется как логотип Олимпийских игр до объявления официального логотипа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995640" y="3933720"/>
            <a:ext cx="952560" cy="267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4:19:30Z</dcterms:created>
  <dc:creator>Корсакас</dc:creator>
  <dc:description/>
  <dc:language>en-US</dc:language>
  <cp:lastModifiedBy>Customer</cp:lastModifiedBy>
  <dcterms:modified xsi:type="dcterms:W3CDTF">2011-09-17T05:01:07Z</dcterms:modified>
  <cp:revision>29</cp:revision>
  <dc:subject/>
  <dc:title>Обуч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