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image27.jpeg" ContentType="image/jpeg"/>
  <Override PartName="/ppt/media/image21.wmf" ContentType="image/x-wmf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17A-78B8-4A9F-AAE2-DEED1DB6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4466-72B4-45B0-801A-C4E107DC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F617-0B6B-4E69-8BC4-2FB01F0D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9A7-B4B1-4129-B2B7-695B5534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F608-5119-45AE-B837-2DD3822D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67DD-3340-467D-AEBA-C2A95829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06F-C413-4E05-BA53-9B951A81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2C7-EE15-46D6-9A69-036F9935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814-4277-473A-9A60-9D3BB98D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29D-E405-4F20-818C-40228260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866-B792-40E1-88AA-51385D2E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F24-2F72-4B77-8ED8-BB725433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B2AE-E169-438F-9BAC-CD84E663A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" Target="slide2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32.jpeg"/><Relationship Id="rId15" Type="http://schemas.openxmlformats.org/officeDocument/2006/relationships/image" Target="../media/image32.jpeg"/><Relationship Id="rId16" Type="http://schemas.openxmlformats.org/officeDocument/2006/relationships/image" Target="../media/image32.jpeg"/><Relationship Id="rId17" Type="http://schemas.openxmlformats.org/officeDocument/2006/relationships/image" Target="../media/image32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slide" Target="slide2.xml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916280"/>
            <a:ext cx="781992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50000">
                      <a:srgbClr val="cc6600"/>
                    </a:gs>
                    <a:gs pos="100000">
                      <a:srgbClr val="ffcc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ТРОЕНИЕ 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50000">
                    <a:srgbClr val="cc6600"/>
                  </a:gs>
                  <a:gs pos="100000">
                    <a:srgbClr val="ffcc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50000">
                      <a:srgbClr val="cc6600"/>
                    </a:gs>
                    <a:gs pos="100000">
                      <a:srgbClr val="ffcc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ОРОВЬЕСБЕРЕГАЮЩЕЙ 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50000">
                    <a:srgbClr val="cc6600"/>
                  </a:gs>
                  <a:gs pos="100000">
                    <a:srgbClr val="ffcc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50000">
                      <a:srgbClr val="cc6600"/>
                    </a:gs>
                    <a:gs pos="100000">
                      <a:srgbClr val="ffcc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КОЛЫ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50000">
                    <a:srgbClr val="cc6600"/>
                  </a:gs>
                  <a:gs pos="100000">
                    <a:srgbClr val="ffcc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5761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НПК «Шаг в будуще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5472000" cy="4103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780000" y="2690640"/>
            <a:ext cx="5030640" cy="3775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932360" y="609300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Ярмоленко Оксана</a:t>
            </a:r>
            <a:r>
              <a:rPr b="0" lang="en-US" sz="1400" spc="-1" strike="noStrike">
                <a:solidFill>
                  <a:srgbClr val="333333"/>
                </a:solidFill>
                <a:latin typeface="Georgia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93080" y="105264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Мониторинг физической подготовл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Мониторинг физической подготовл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1197000"/>
          <a:ext cx="8964720" cy="480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896472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8101080" y="595800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Спортивные праз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59280" y="3591000"/>
            <a:ext cx="4032360" cy="3024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292720" y="616572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Красны девицы</a:t>
            </a:r>
            <a:r>
              <a:rPr b="0" lang="en-US" sz="1400" spc="-1" strike="noStrike">
                <a:solidFill>
                  <a:srgbClr val="333333"/>
                </a:solidFill>
                <a:latin typeface="Georgia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4174920" cy="3132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71640" y="616572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Азбука Олимпиады</a:t>
            </a:r>
            <a:r>
              <a:rPr b="0" lang="en-US" sz="1400" spc="-1" strike="noStrike">
                <a:solidFill>
                  <a:srgbClr val="333333"/>
                </a:solidFill>
                <a:latin typeface="Georgia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716360" y="1197000"/>
            <a:ext cx="3816360" cy="2873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76720" y="3429000"/>
            <a:ext cx="30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Своё здоровье береги – сам себе ты помоги!</a:t>
            </a:r>
            <a:r>
              <a:rPr b="0" lang="en-US" sz="1400" spc="-1" strike="noStrike">
                <a:solidFill>
                  <a:srgbClr val="333333"/>
                </a:solidFill>
                <a:latin typeface="Georgia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395280" y="1197000"/>
            <a:ext cx="3816360" cy="2863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357336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eorgia"/>
              </a:rPr>
              <a:t>Вперёд, красавицы!</a:t>
            </a:r>
            <a:r>
              <a:rPr b="0" lang="en-US" sz="1400" spc="-1" strike="noStrike">
                <a:solidFill>
                  <a:srgbClr val="333333"/>
                </a:solidFill>
                <a:latin typeface="Georgia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5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5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5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50403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Соревн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48360" y="765000"/>
            <a:ext cx="3620880" cy="4526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19640" y="1628640"/>
            <a:ext cx="4343400" cy="3475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411280" y="2060640"/>
            <a:ext cx="4824720" cy="3619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403280" y="2529000"/>
            <a:ext cx="4753080" cy="3564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68360" y="306864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4211640" y="76500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5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650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95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5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Достижения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1197000"/>
          <a:ext cx="8785440" cy="5321160"/>
        </p:xfrm>
        <a:graphic>
          <a:graphicData uri="http://schemas.openxmlformats.org/drawingml/2006/table">
            <a:tbl>
              <a:tblPr/>
              <a:tblGrid>
                <a:gridCol w="3961080"/>
                <a:gridCol w="1800000"/>
                <a:gridCol w="2087640"/>
                <a:gridCol w="93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амилия, Имя учащего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чебный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рове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Олимпиада по физической культу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акаев Ви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-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униципа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акаев Ви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Ярмоленко Окс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8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Шко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акаев Ви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Ярмоленко Окс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узнецов Ил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9-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Georgia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узнецов Ил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Губернаторские состязания (заоч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Цыценко Ма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риванков И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лас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8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униципа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риванков И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еврюгин Дмит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9-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Georgia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Взаимодействие с организац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0" y="1628640"/>
            <a:ext cx="421488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Детские сады</a:t>
            </a:r>
            <a:endParaRPr b="0" lang="en-US" sz="16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ДЮСШ</a:t>
            </a:r>
            <a:endParaRPr b="0" lang="en-US" sz="16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МЦ "Авангард"</a:t>
            </a:r>
            <a:endParaRPr b="0" lang="en-US" sz="16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Детская библиотека</a:t>
            </a:r>
            <a:endParaRPr b="0" lang="en-US" sz="16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Поликлиника</a:t>
            </a:r>
            <a:endParaRPr b="0" lang="en-US" sz="16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КЦСОН "Фортуна"</a:t>
            </a:r>
            <a:endParaRPr b="0" lang="en-US" sz="16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" name="Homepage"/>
          <p:cNvSpPr/>
          <p:nvPr/>
        </p:nvSpPr>
        <p:spPr>
          <a:xfrm>
            <a:off x="468360" y="1628640"/>
            <a:ext cx="2663640" cy="3816360"/>
          </a:xfrm>
          <a:prstGeom prst="pie">
            <a:avLst/>
          </a:prstGeom>
          <a:gradFill rotWithShape="0">
            <a:gsLst>
              <a:gs pos="0">
                <a:srgbClr val="ffc993"/>
              </a:gs>
              <a:gs pos="100000">
                <a:srgbClr val="febb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03280" y="3933720"/>
            <a:ext cx="1584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Наша </a:t>
            </a:r>
            <a:endParaRPr b="1" lang="en-US" sz="18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школа</a:t>
            </a:r>
            <a:endParaRPr b="1" lang="en-US" sz="18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8" name=""/>
          <p:cNvSpPr/>
          <p:nvPr/>
        </p:nvSpPr>
        <p:spPr>
          <a:xfrm rot="20537400">
            <a:off x="3347640" y="2133720"/>
            <a:ext cx="936720" cy="287280"/>
          </a:xfrm>
          <a:custGeom>
            <a:avLst/>
            <a:gdLst>
              <a:gd name="textAreaLeft" fmla="*/ 146160 w 936720"/>
              <a:gd name="textAreaRight" fmla="*/ 819720 w 93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3429000"/>
            <a:ext cx="936720" cy="287280"/>
          </a:xfrm>
          <a:custGeom>
            <a:avLst/>
            <a:gdLst>
              <a:gd name="textAreaLeft" fmla="*/ 146160 w 936720"/>
              <a:gd name="textAreaRight" fmla="*/ 819720 w 93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164000">
            <a:off x="3347640" y="4797360"/>
            <a:ext cx="936720" cy="287280"/>
          </a:xfrm>
          <a:custGeom>
            <a:avLst/>
            <a:gdLst>
              <a:gd name="textAreaLeft" fmla="*/ 146160 w 936720"/>
              <a:gd name="textAreaRight" fmla="*/ 819720 w 93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8028000" y="595800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500"/>
                            </p:stCondLst>
                            <p:childTnLst>
                              <p:par>
                                <p:cTn id="5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5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Экспертиза системы работы школы </a:t>
            </a:r>
            <a:br>
              <a:rPr sz="3200"/>
            </a:br>
            <a:r>
              <a:rPr b="1" i="1" lang="en-US" sz="3200" spc="-1" strike="noStrike">
                <a:solidFill>
                  <a:srgbClr val="663300"/>
                </a:solidFill>
                <a:latin typeface="Arial"/>
              </a:rPr>
              <a:t>по сохранению и укреплению          здоровь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2061720"/>
            <a:ext cx="784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словия обучения школьников соответствуют среднему уровню, типичному для большинства школ. Вместе с тем при наличии высокого ЗСП школы активизация ЗСД позволит вывести систему здоровьесбережения образовательного учреждения на высокий уровень, соответствующий перспективной модели «школы ближайшего будущего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101080" y="595800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48000" y="4581360"/>
            <a:ext cx="2449440" cy="183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11776800">
            <a:off x="2410920" y="5733360"/>
            <a:ext cx="684360" cy="431640"/>
          </a:xfrm>
          <a:custGeom>
            <a:avLst/>
            <a:gdLst>
              <a:gd name="textAreaLeft" fmla="*/ 106920 w 684360"/>
              <a:gd name="textAreaRight" fmla="*/ 599040 w 684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763600">
            <a:off x="6011640" y="5734080"/>
            <a:ext cx="720720" cy="431640"/>
          </a:xfrm>
          <a:custGeom>
            <a:avLst/>
            <a:gdLst>
              <a:gd name="textAreaLeft" fmla="*/ 112320 w 720720"/>
              <a:gd name="textAreaRight" fmla="*/ 630720 w 7207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8945000">
            <a:off x="6084720" y="3715920"/>
            <a:ext cx="698760" cy="432000"/>
          </a:xfrm>
          <a:custGeom>
            <a:avLst/>
            <a:gdLst>
              <a:gd name="textAreaLeft" fmla="*/ 109080 w 698760"/>
              <a:gd name="textAreaRight" fmla="*/ 611640 w 6987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3765200">
            <a:off x="2303280" y="3680640"/>
            <a:ext cx="647640" cy="432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4676000">
            <a:off x="3204000" y="2851200"/>
            <a:ext cx="1150920" cy="43164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50920" y="3789360"/>
            <a:ext cx="5113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Здоровьесберегающая школа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16000" y="6308640"/>
            <a:ext cx="69771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Здоровьеформирующая школа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0" name=""/>
          <p:cNvSpPr/>
          <p:nvPr/>
        </p:nvSpPr>
        <p:spPr>
          <a:xfrm>
            <a:off x="415080" y="2637000"/>
            <a:ext cx="265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Надо много уч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чтобы зн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хоть немного.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Ш.Монтеск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292640"/>
            <a:ext cx="174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Чем мень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мы зна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тем боль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подозрев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Генри У. Шо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4520" y="765000"/>
            <a:ext cx="435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Book Antiqua"/>
              </a:rPr>
              <a:t>Самая трудная и благородная ц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Book Antiqua"/>
              </a:rPr>
              <a:t>медицины – не в лечении больны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Book Antiqua"/>
              </a:rPr>
              <a:t>а в стремлении научить лю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Book Antiqua"/>
              </a:rPr>
              <a:t>сохранять своё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А.Корнелий-Це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10160" y="765000"/>
            <a:ext cx="303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Одна из основных зад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науки – измерить т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что измеримо, сдел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измеримым то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ещё не измер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Г.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18720" y="2708280"/>
            <a:ext cx="260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Если не бегаеш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пока здор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придётся побег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Book Antiqua"/>
              </a:rPr>
              <a:t>когда заболее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Го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055800">
            <a:off x="4781520" y="2858760"/>
            <a:ext cx="1165320" cy="431640"/>
          </a:xfrm>
          <a:custGeom>
            <a:avLst/>
            <a:gdLst>
              <a:gd name="textAreaLeft" fmla="*/ 181800 w 1165320"/>
              <a:gd name="textAreaRight" fmla="*/ 1019880 w 11653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9800" y="4724280"/>
            <a:ext cx="228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Arial"/>
              </a:rPr>
              <a:t>Нельзя хлопну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Arial"/>
              </a:rPr>
              <a:t>в ладоши од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Arial"/>
              </a:rPr>
              <a:t>рукой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. Наво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Оформительская и просветитель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5472360" cy="4105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987640" y="2060640"/>
            <a:ext cx="561672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Оформительская и просветитель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403280" y="1628640"/>
            <a:ext cx="6480360" cy="4861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7991280" cy="3862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203640" y="1484280"/>
            <a:ext cx="29304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Оформительская и просветитель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44000" y="595800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8551800" cy="3660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411280" y="1773360"/>
            <a:ext cx="4518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201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Повышение квалифик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8360" y="1413000"/>
          <a:ext cx="8229600" cy="4960800"/>
        </p:xfrm>
        <a:graphic>
          <a:graphicData uri="http://schemas.openxmlformats.org/drawingml/2006/table">
            <a:tbl>
              <a:tblPr/>
              <a:tblGrid>
                <a:gridCol w="366840"/>
                <a:gridCol w="4528800"/>
                <a:gridCol w="1152720"/>
                <a:gridCol w="2181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Название курса, семин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Докумен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нформационные технологии в деятельности учителя-предмет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Ноябрь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Удостовер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19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ониторинг физического развития и физической подготовленности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2007 –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Удостовер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278396-14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аскетбольная секция в шко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2008 – 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Удостовер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278396-14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доровьесберегающая шк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Удостовер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278396-15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ика организации и проведения занятий фитнесом в шко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2009 –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Удостовер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101142616-14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днодневный семинар «Педагогический марафон-2010»,     г. Тюм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Апрель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Программа семин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сновы психологии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едагогики здоров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2010 –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Продолжаю учиться</a:t>
                      </a:r>
                      <a:r>
                        <a:rPr b="0" lang="en-US" sz="1600" spc="-1" strike="noStrike">
                          <a:solidFill>
                            <a:srgbClr val="663300"/>
                          </a:solidFill>
                          <a:latin typeface="Georgi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6979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Georgia"/>
              </a:rPr>
              <a:t>Участие в семинарах и педсовет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2008 г, педсовет «</a:t>
            </a:r>
            <a:r>
              <a:rPr b="0" lang="ru-RU" sz="2400" spc="-1" strike="noStrike">
                <a:solidFill>
                  <a:srgbClr val="008080"/>
                </a:solidFill>
                <a:latin typeface="Georgia"/>
              </a:rPr>
              <a:t>Компетентностный подход в обучени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2009 г, августовская районная конфере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дагогов, выступление в группе «</a:t>
            </a:r>
            <a:r>
              <a:rPr b="0" lang="ru-RU" sz="2400" spc="-1" strike="noStrike">
                <a:solidFill>
                  <a:srgbClr val="009999"/>
                </a:solidFill>
                <a:latin typeface="Georgia"/>
              </a:rPr>
              <a:t>Здоровье школьников – важное направление в деятельности образования Кондинского район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2009 г, семинар «Анализ и самоанализ урока»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уководитель группы «</a:t>
            </a:r>
            <a:r>
              <a:rPr b="0" lang="ru-RU" sz="2400" spc="-1" strike="noStrike">
                <a:solidFill>
                  <a:srgbClr val="008080"/>
                </a:solidFill>
                <a:latin typeface="Georgia"/>
              </a:rPr>
              <a:t>Здоровьесбережение на урок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2009 г, семинар «</a:t>
            </a:r>
            <a:r>
              <a:rPr b="0" lang="ru-RU" sz="2400" spc="-1" strike="noStrike">
                <a:solidFill>
                  <a:srgbClr val="008080"/>
                </a:solidFill>
                <a:latin typeface="Georgia"/>
              </a:rPr>
              <a:t>Культура здоровья как фактор формирования здоровьесберегающей среды школ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2010 г, семинар «</a:t>
            </a:r>
            <a:r>
              <a:rPr b="0" lang="ru-RU" sz="2400" spc="-1" strike="noStrike">
                <a:solidFill>
                  <a:srgbClr val="008080"/>
                </a:solidFill>
                <a:latin typeface="Georgia"/>
              </a:rPr>
              <a:t>Здоровье учител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011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, школьная педагогическая конференция: </a:t>
            </a:r>
            <a:r>
              <a:rPr b="0" lang="ru-RU" sz="2400" spc="-1" strike="noStrike">
                <a:solidFill>
                  <a:srgbClr val="009999"/>
                </a:solidFill>
                <a:latin typeface="Georgia"/>
              </a:rPr>
              <a:t>представление профессионального опыт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595800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7760" y="764640"/>
            <a:ext cx="6635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Гимнастика до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1628640"/>
            <a:ext cx="3981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Уроки здоров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349360"/>
            <a:ext cx="418608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Програм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573360"/>
            <a:ext cx="85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c2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c26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4c2600"/>
                </a:solidFill>
                <a:latin typeface="Arial"/>
              </a:rPr>
              <a:t>«Здоровая школа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c2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c26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4c2600"/>
                </a:solidFill>
                <a:latin typeface="Arial"/>
              </a:rPr>
              <a:t>«Фитнес в школе – Калланетик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c2600"/>
                </a:solidFill>
                <a:latin typeface="Arial"/>
              </a:rPr>
              <a:t>- «Мониторинг здоровья учащихся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87280" y="404640"/>
            <a:ext cx="30956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c2600"/>
                </a:solidFill>
                <a:latin typeface="Arial"/>
              </a:rPr>
              <a:t>Каллане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5037120" cy="3778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908000" y="1989000"/>
            <a:ext cx="5077080" cy="380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635280" y="2708280"/>
            <a:ext cx="5145120" cy="3859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404640"/>
            <a:ext cx="7920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c2e00"/>
                </a:solidFill>
                <a:latin typeface="Arial"/>
              </a:rPr>
              <a:t>Мониторинг здоровья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20533200">
            <a:off x="971280" y="1483920"/>
            <a:ext cx="3351240" cy="4824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 rot="1108800">
            <a:off x="4355640" y="1628640"/>
            <a:ext cx="380844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2:26:04Z</dcterms:created>
  <dc:creator>Customer</dc:creator>
  <dc:description/>
  <dc:language>en-US</dc:language>
  <cp:lastModifiedBy>Customer</cp:lastModifiedBy>
  <dcterms:modified xsi:type="dcterms:W3CDTF">2011-09-25T10:27:31Z</dcterms:modified>
  <cp:revision>26</cp:revision>
  <dc:subject/>
  <dc:title>Курсы</dc:title>
</cp:coreProperties>
</file>