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0.jpeg" ContentType="image/jpeg"/>
  <Override PartName="/ppt/media/image19.jpeg" ContentType="image/jpeg"/>
  <Override PartName="/ppt/media/image27.jpeg" ContentType="image/jpeg"/>
  <Override PartName="/ppt/media/image21.wmf" ContentType="image/x-wmf"/>
  <Override PartName="/ppt/media/image6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AE62-6039-48FB-81AC-F3E8BD414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4CEE-F7E1-4245-BD03-C3A842FD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68F0-0CA0-438C-9CB7-63EA43BFE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19EC-C9AB-424C-B55F-A2D704990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1614-0D92-4210-A473-4F8F6BF8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1D80-1B68-4617-A860-E1A32E77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F7A6-D7C8-4510-A20F-AFD99DF1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3E68-0738-4B97-BEA2-37C56060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7F40-EA75-457D-9EB2-2EA6BC0E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46CB-9734-4FB4-A3D1-116DD868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7943-13D1-4AE4-9E9E-2B64E742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8EB9-7089-4DC5-A6F9-6DB45A61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0BC5-91A7-4B7F-9B68-2A86CECE8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" Target="slide2.xml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32.jpeg"/><Relationship Id="rId15" Type="http://schemas.openxmlformats.org/officeDocument/2006/relationships/image" Target="../media/image32.jpeg"/><Relationship Id="rId16" Type="http://schemas.openxmlformats.org/officeDocument/2006/relationships/image" Target="../media/image32.jpeg"/><Relationship Id="rId17" Type="http://schemas.openxmlformats.org/officeDocument/2006/relationships/image" Target="../media/image32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slide" Target="slide2.xml"/><Relationship Id="rId22" Type="http://schemas.openxmlformats.org/officeDocument/2006/relationships/image" Target="../media/image10.png"/><Relationship Id="rId2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3.jpeg"/><Relationship Id="rId1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4360" y="1916280"/>
            <a:ext cx="781992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3300"/>
                  </a:solidFill>
                  <a:miter/>
                </a:ln>
                <a:gradFill rotWithShape="0">
                  <a:gsLst>
                    <a:gs pos="0">
                      <a:srgbClr val="ffcc66"/>
                    </a:gs>
                    <a:gs pos="50000">
                      <a:srgbClr val="cc6600"/>
                    </a:gs>
                    <a:gs pos="100000">
                      <a:srgbClr val="ffcc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СТРОЕНИЕ </a:t>
            </a:r>
            <a:endParaRPr b="0" lang="en-US" sz="1800" spc="1" strike="noStrike">
              <a:ln w="9360">
                <a:solidFill>
                  <a:srgbClr val="663300"/>
                </a:solidFill>
                <a:miter/>
              </a:ln>
              <a:gradFill rotWithShape="0">
                <a:gsLst>
                  <a:gs pos="0">
                    <a:srgbClr val="ffcc66"/>
                  </a:gs>
                  <a:gs pos="50000">
                    <a:srgbClr val="cc6600"/>
                  </a:gs>
                  <a:gs pos="100000">
                    <a:srgbClr val="ffcc66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3300"/>
                  </a:solidFill>
                  <a:miter/>
                </a:ln>
                <a:gradFill rotWithShape="0">
                  <a:gsLst>
                    <a:gs pos="0">
                      <a:srgbClr val="ffcc66"/>
                    </a:gs>
                    <a:gs pos="50000">
                      <a:srgbClr val="cc6600"/>
                    </a:gs>
                    <a:gs pos="100000">
                      <a:srgbClr val="ffcc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ДОРОВЬЕСБЕРЕГАЮЩЕЙ </a:t>
            </a:r>
            <a:endParaRPr b="0" lang="en-US" sz="1800" spc="1" strike="noStrike">
              <a:ln w="9360">
                <a:solidFill>
                  <a:srgbClr val="663300"/>
                </a:solidFill>
                <a:miter/>
              </a:ln>
              <a:gradFill rotWithShape="0">
                <a:gsLst>
                  <a:gs pos="0">
                    <a:srgbClr val="ffcc66"/>
                  </a:gs>
                  <a:gs pos="50000">
                    <a:srgbClr val="cc6600"/>
                  </a:gs>
                  <a:gs pos="100000">
                    <a:srgbClr val="ffcc66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3300"/>
                  </a:solidFill>
                  <a:miter/>
                </a:ln>
                <a:gradFill rotWithShape="0">
                  <a:gsLst>
                    <a:gs pos="0">
                      <a:srgbClr val="ffcc66"/>
                    </a:gs>
                    <a:gs pos="50000">
                      <a:srgbClr val="cc6600"/>
                    </a:gs>
                    <a:gs pos="100000">
                      <a:srgbClr val="ffcc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ШКОЛЫ</a:t>
            </a:r>
            <a:endParaRPr b="0" lang="en-US" sz="1800" spc="1" strike="noStrike">
              <a:ln w="9360">
                <a:solidFill>
                  <a:srgbClr val="663300"/>
                </a:solidFill>
                <a:miter/>
              </a:ln>
              <a:gradFill rotWithShape="0">
                <a:gsLst>
                  <a:gs pos="0">
                    <a:srgbClr val="ffcc66"/>
                  </a:gs>
                  <a:gs pos="50000">
                    <a:srgbClr val="cc6600"/>
                  </a:gs>
                  <a:gs pos="100000">
                    <a:srgbClr val="ffcc66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5761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Arial"/>
              </a:rPr>
              <a:t>НПК «Шаг в будуще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5472000" cy="4103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780000" y="2690640"/>
            <a:ext cx="5030640" cy="3775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932360" y="6093000"/>
            <a:ext cx="309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eorgia"/>
              </a:rPr>
              <a:t>Ярмоленко Оксана</a:t>
            </a:r>
            <a:r>
              <a:rPr b="0" lang="en-US" sz="1400" spc="-1" strike="noStrike">
                <a:solidFill>
                  <a:srgbClr val="333333"/>
                </a:solidFill>
                <a:latin typeface="Georgia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093080" y="1052640"/>
            <a:ext cx="90000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500"/>
                            </p:stCondLst>
                            <p:childTnLst>
                              <p:par>
                                <p:cTn id="3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65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Arial"/>
              </a:rPr>
              <a:t>Мониторинг физической подготовлен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1557360"/>
            <a:ext cx="91440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Arial"/>
              </a:rPr>
              <a:t>Мониторинг физической подготовлен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0" y="1197000"/>
          <a:ext cx="8964720" cy="480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97000"/>
                    <a:ext cx="8964720" cy="48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8101080" y="5958000"/>
            <a:ext cx="90000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350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Arial"/>
              </a:rPr>
              <a:t>Спортивные празд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859280" y="3591000"/>
            <a:ext cx="4032360" cy="3024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292720" y="6165720"/>
            <a:ext cx="309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eorgia"/>
              </a:rPr>
              <a:t>Красны девицы</a:t>
            </a:r>
            <a:r>
              <a:rPr b="0" lang="en-US" sz="1400" spc="-1" strike="noStrike">
                <a:solidFill>
                  <a:srgbClr val="333333"/>
                </a:solidFill>
                <a:latin typeface="Georgia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68360" y="3500280"/>
            <a:ext cx="4174920" cy="3132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971640" y="6165720"/>
            <a:ext cx="309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eorgia"/>
              </a:rPr>
              <a:t>Азбука Олимпиады</a:t>
            </a:r>
            <a:r>
              <a:rPr b="0" lang="en-US" sz="1400" spc="-1" strike="noStrike">
                <a:solidFill>
                  <a:srgbClr val="333333"/>
                </a:solidFill>
                <a:latin typeface="Georgia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4716360" y="1197000"/>
            <a:ext cx="3816360" cy="2873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076720" y="3429000"/>
            <a:ext cx="309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eorgia"/>
              </a:rPr>
              <a:t>Своё здоровье береги – сам себе ты помоги!</a:t>
            </a:r>
            <a:r>
              <a:rPr b="0" lang="en-US" sz="1400" spc="-1" strike="noStrike">
                <a:solidFill>
                  <a:srgbClr val="333333"/>
                </a:solidFill>
                <a:latin typeface="Georgia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395280" y="1197000"/>
            <a:ext cx="3816360" cy="2863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26920" y="3573360"/>
            <a:ext cx="309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eorgia"/>
              </a:rPr>
              <a:t>Вперёд, красавицы!</a:t>
            </a:r>
            <a:r>
              <a:rPr b="0" lang="en-US" sz="1400" spc="-1" strike="noStrike">
                <a:solidFill>
                  <a:srgbClr val="333333"/>
                </a:solidFill>
                <a:latin typeface="Georgia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3500"/>
                            </p:stCondLst>
                            <p:childTnLst>
                              <p:par>
                                <p:cTn id="4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6500"/>
                            </p:stCondLst>
                            <p:childTnLst>
                              <p:par>
                                <p:cTn id="4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9500"/>
                            </p:stCondLst>
                            <p:childTnLst>
                              <p:par>
                                <p:cTn id="4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50403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Arial"/>
              </a:rPr>
              <a:t>Соревн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148360" y="765000"/>
            <a:ext cx="3620880" cy="4526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419640" y="1628640"/>
            <a:ext cx="4343400" cy="3475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411280" y="2060640"/>
            <a:ext cx="4824720" cy="3619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1403280" y="2529000"/>
            <a:ext cx="4753080" cy="3564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468360" y="3068640"/>
            <a:ext cx="4583160" cy="3436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4211640" y="765000"/>
            <a:ext cx="4608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3500"/>
                            </p:stCondLst>
                            <p:childTnLst>
                              <p:par>
                                <p:cTn id="4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6500"/>
                            </p:stCondLst>
                            <p:childTnLst>
                              <p:par>
                                <p:cTn id="4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9500"/>
                            </p:stCondLst>
                            <p:childTnLst>
                              <p:par>
                                <p:cTn id="4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2500"/>
                            </p:stCondLst>
                            <p:childTnLst>
                              <p:par>
                                <p:cTn id="4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5500"/>
                            </p:stCondLst>
                            <p:childTnLst>
                              <p:par>
                                <p:cTn id="4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Arial"/>
              </a:rPr>
              <a:t>Достижения учащих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9280" y="1197000"/>
          <a:ext cx="8785440" cy="5321160"/>
        </p:xfrm>
        <a:graphic>
          <a:graphicData uri="http://schemas.openxmlformats.org/drawingml/2006/table">
            <a:tbl>
              <a:tblPr/>
              <a:tblGrid>
                <a:gridCol w="3961080"/>
                <a:gridCol w="1800000"/>
                <a:gridCol w="2087640"/>
                <a:gridCol w="936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Фамилия, Имя учащегос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Учебный г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Уровен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ес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Georgia"/>
                        </a:rPr>
                        <a:t>Олимпиада по физической культу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акаев Вик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0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-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униципаль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акаев Вик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Ярмоленко Окс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08-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Школь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акаев Вик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Ярмоленко Окс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узнецов Ил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09-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уницип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Georgia"/>
                        </a:rPr>
                        <a:t>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узнецов Ил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10-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уницип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Georgia"/>
                        </a:rPr>
                        <a:t>Губернаторские состязания (заочн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Цыценко Ма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риванков Ив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лас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08-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униципаль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риванков Ив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еврюгин Дмитр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09-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уницип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Georgia"/>
                        </a:rPr>
                        <a:t>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244000" y="333360"/>
            <a:ext cx="90000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5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868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Arial"/>
              </a:rPr>
              <a:t>Взаимодействие с организаци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0" y="1628640"/>
            <a:ext cx="4214880" cy="38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6633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Детские сады</a:t>
            </a:r>
            <a:endParaRPr b="0" lang="en-US" sz="1600" spc="1" strike="noStrike">
              <a:ln w="9360">
                <a:solidFill>
                  <a:srgbClr val="6633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6633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ДЮСШ</a:t>
            </a:r>
            <a:endParaRPr b="0" lang="en-US" sz="1600" spc="1" strike="noStrike">
              <a:ln w="9360">
                <a:solidFill>
                  <a:srgbClr val="6633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6633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МЦ "Авангард"</a:t>
            </a:r>
            <a:endParaRPr b="0" lang="en-US" sz="1600" spc="1" strike="noStrike">
              <a:ln w="9360">
                <a:solidFill>
                  <a:srgbClr val="6633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6633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Детская библиотека</a:t>
            </a:r>
            <a:endParaRPr b="0" lang="en-US" sz="1600" spc="1" strike="noStrike">
              <a:ln w="9360">
                <a:solidFill>
                  <a:srgbClr val="6633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6633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Поликлиника</a:t>
            </a:r>
            <a:endParaRPr b="0" lang="en-US" sz="1600" spc="1" strike="noStrike">
              <a:ln w="9360">
                <a:solidFill>
                  <a:srgbClr val="6633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6633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КЦСОН "Фортуна"</a:t>
            </a:r>
            <a:endParaRPr b="0" lang="en-US" sz="1600" spc="1" strike="noStrike">
              <a:ln w="9360">
                <a:solidFill>
                  <a:srgbClr val="6633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6" name="Homepage"/>
          <p:cNvSpPr/>
          <p:nvPr/>
        </p:nvSpPr>
        <p:spPr>
          <a:xfrm>
            <a:off x="468360" y="1628640"/>
            <a:ext cx="2663640" cy="3816360"/>
          </a:xfrm>
          <a:prstGeom prst="pie">
            <a:avLst/>
          </a:prstGeom>
          <a:gradFill rotWithShape="0">
            <a:gsLst>
              <a:gs pos="0">
                <a:srgbClr val="ffc993"/>
              </a:gs>
              <a:gs pos="100000">
                <a:srgbClr val="febb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403280" y="3933720"/>
            <a:ext cx="1584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33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Наша </a:t>
            </a:r>
            <a:endParaRPr b="1" lang="en-US" sz="1800" spc="1" strike="noStrike">
              <a:ln w="9360">
                <a:solidFill>
                  <a:srgbClr val="6633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33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школа</a:t>
            </a:r>
            <a:endParaRPr b="1" lang="en-US" sz="1800" spc="1" strike="noStrike">
              <a:ln w="9360">
                <a:solidFill>
                  <a:srgbClr val="6633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18" name=""/>
          <p:cNvSpPr/>
          <p:nvPr/>
        </p:nvSpPr>
        <p:spPr>
          <a:xfrm rot="20537400">
            <a:off x="3347640" y="2133720"/>
            <a:ext cx="936720" cy="287280"/>
          </a:xfrm>
          <a:custGeom>
            <a:avLst/>
            <a:gdLst>
              <a:gd name="textAreaLeft" fmla="*/ 146160 w 936720"/>
              <a:gd name="textAreaRight" fmla="*/ 819720 w 936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48000" y="3429000"/>
            <a:ext cx="936720" cy="287280"/>
          </a:xfrm>
          <a:custGeom>
            <a:avLst/>
            <a:gdLst>
              <a:gd name="textAreaLeft" fmla="*/ 146160 w 936720"/>
              <a:gd name="textAreaRight" fmla="*/ 819720 w 936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164000">
            <a:off x="3347640" y="4797360"/>
            <a:ext cx="936720" cy="287280"/>
          </a:xfrm>
          <a:custGeom>
            <a:avLst/>
            <a:gdLst>
              <a:gd name="textAreaLeft" fmla="*/ 146160 w 936720"/>
              <a:gd name="textAreaRight" fmla="*/ 819720 w 936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8028000" y="5958000"/>
            <a:ext cx="90000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500"/>
                            </p:stCondLst>
                            <p:childTnLst>
                              <p:par>
                                <p:cTn id="5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3500"/>
                            </p:stCondLst>
                            <p:childTnLst>
                              <p:par>
                                <p:cTn id="5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500"/>
                            </p:stCondLst>
                            <p:childTnLst>
                              <p:par>
                                <p:cTn id="5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3300"/>
                </a:solidFill>
                <a:latin typeface="Arial"/>
              </a:rPr>
              <a:t>Экспертиза системы работы школы </a:t>
            </a:r>
            <a:br>
              <a:rPr sz="3200"/>
            </a:br>
            <a:r>
              <a:rPr b="1" i="1" lang="en-US" sz="3200" spc="-1" strike="noStrike">
                <a:solidFill>
                  <a:srgbClr val="663300"/>
                </a:solidFill>
                <a:latin typeface="Arial"/>
              </a:rPr>
              <a:t>по сохранению и укреплению          здоровья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2061720"/>
            <a:ext cx="7848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Условия обучения школьников соответствуют среднему уровню, типичному для большинства школ. Вместе с тем при наличии высокого ЗСП школы активизация ЗСД позволит вывести систему здоровьесбережения образовательного учреждения на высокий уровень, соответствующий перспективной модели «школы ближайшего будущего»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101080" y="5958000"/>
            <a:ext cx="90000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500"/>
                            </p:stCondLst>
                            <p:childTnLst>
                              <p:par>
                                <p:cTn id="5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348000" y="4581360"/>
            <a:ext cx="2449440" cy="1835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rot="11776800">
            <a:off x="2410920" y="5733360"/>
            <a:ext cx="684360" cy="431640"/>
          </a:xfrm>
          <a:custGeom>
            <a:avLst/>
            <a:gdLst>
              <a:gd name="textAreaLeft" fmla="*/ 106920 w 684360"/>
              <a:gd name="textAreaRight" fmla="*/ 599040 w 68436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20763600">
            <a:off x="6011640" y="5734080"/>
            <a:ext cx="720720" cy="431640"/>
          </a:xfrm>
          <a:custGeom>
            <a:avLst/>
            <a:gdLst>
              <a:gd name="textAreaLeft" fmla="*/ 112320 w 720720"/>
              <a:gd name="textAreaRight" fmla="*/ 630720 w 72072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8945000">
            <a:off x="6084720" y="3715920"/>
            <a:ext cx="698760" cy="432000"/>
          </a:xfrm>
          <a:custGeom>
            <a:avLst/>
            <a:gdLst>
              <a:gd name="textAreaLeft" fmla="*/ 109080 w 698760"/>
              <a:gd name="textAreaRight" fmla="*/ 611640 w 69876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3765200">
            <a:off x="2303280" y="3680640"/>
            <a:ext cx="647640" cy="432000"/>
          </a:xfrm>
          <a:custGeom>
            <a:avLst/>
            <a:gdLst>
              <a:gd name="textAreaLeft" fmla="*/ 101160 w 647640"/>
              <a:gd name="textAreaRight" fmla="*/ 567000 w 64764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4676000">
            <a:off x="3204000" y="2851200"/>
            <a:ext cx="1150920" cy="431640"/>
          </a:xfrm>
          <a:custGeom>
            <a:avLst/>
            <a:gdLst>
              <a:gd name="textAreaLeft" fmla="*/ 179640 w 1150920"/>
              <a:gd name="textAreaRight" fmla="*/ 1007280 w 115092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050920" y="3789360"/>
            <a:ext cx="511344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 Antiqua"/>
              </a:rPr>
              <a:t>Здоровьесберегающая школа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116000" y="6308640"/>
            <a:ext cx="69771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 Antiqua"/>
              </a:rPr>
              <a:t>Здоровьеформирующая школа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50" name=""/>
          <p:cNvSpPr/>
          <p:nvPr/>
        </p:nvSpPr>
        <p:spPr>
          <a:xfrm>
            <a:off x="415080" y="2637000"/>
            <a:ext cx="265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3300"/>
                </a:solidFill>
                <a:latin typeface="Book Antiqua"/>
              </a:rPr>
              <a:t>Надо много учить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3300"/>
                </a:solidFill>
                <a:latin typeface="Book Antiqua"/>
              </a:rPr>
              <a:t>чтобы зн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3300"/>
                </a:solidFill>
                <a:latin typeface="Book Antiqua"/>
              </a:rPr>
              <a:t>хоть немного.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Ш.Монтеск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292640"/>
            <a:ext cx="174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3300"/>
                </a:solidFill>
                <a:latin typeface="Book Antiqua"/>
              </a:rPr>
              <a:t>Чем меньш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3300"/>
                </a:solidFill>
                <a:latin typeface="Book Antiqua"/>
              </a:rPr>
              <a:t>мы знае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3300"/>
                </a:solidFill>
                <a:latin typeface="Book Antiqua"/>
              </a:rPr>
              <a:t>тем больш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3300"/>
                </a:solidFill>
                <a:latin typeface="Book Antiqua"/>
              </a:rPr>
              <a:t>подозрева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Генри У. Шо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4520" y="765000"/>
            <a:ext cx="4352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Book Antiqua"/>
              </a:rPr>
              <a:t>Самая трудная и благородная ц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Book Antiqua"/>
              </a:rPr>
              <a:t>медицины – не в лечении больны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Book Antiqua"/>
              </a:rPr>
              <a:t>а в стремлении научить люд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Book Antiqua"/>
              </a:rPr>
              <a:t>сохранять своё здоров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 Antiqua"/>
              </a:rPr>
              <a:t>А.Корнелий-Цель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10160" y="765000"/>
            <a:ext cx="303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3300"/>
                </a:solidFill>
                <a:latin typeface="Book Antiqua"/>
              </a:rPr>
              <a:t>Одна из основных зада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3300"/>
                </a:solidFill>
                <a:latin typeface="Book Antiqua"/>
              </a:rPr>
              <a:t>науки – измерить т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3300"/>
                </a:solidFill>
                <a:latin typeface="Book Antiqua"/>
              </a:rPr>
              <a:t>что измеримо, сдел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3300"/>
                </a:solidFill>
                <a:latin typeface="Book Antiqua"/>
              </a:rPr>
              <a:t>измеримым то, ч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3300"/>
                </a:solidFill>
                <a:latin typeface="Book Antiqua"/>
              </a:rPr>
              <a:t>ещё не измере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Г.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18720" y="2708280"/>
            <a:ext cx="2608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3300"/>
                </a:solidFill>
                <a:latin typeface="Book Antiqua"/>
              </a:rPr>
              <a:t>Если не бегаеш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3300"/>
                </a:solidFill>
                <a:latin typeface="Book Antiqua"/>
              </a:rPr>
              <a:t>пока здор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3300"/>
                </a:solidFill>
                <a:latin typeface="Book Antiqua"/>
              </a:rPr>
              <a:t>придётся побега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3300"/>
                </a:solidFill>
                <a:latin typeface="Book Antiqua"/>
              </a:rPr>
              <a:t>когда заболееш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Гор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8055800">
            <a:off x="4781520" y="2858760"/>
            <a:ext cx="1165320" cy="431640"/>
          </a:xfrm>
          <a:custGeom>
            <a:avLst/>
            <a:gdLst>
              <a:gd name="textAreaLeft" fmla="*/ 181800 w 1165320"/>
              <a:gd name="textAreaRight" fmla="*/ 1019880 w 116532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9800" y="4724280"/>
            <a:ext cx="228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3300"/>
                </a:solidFill>
                <a:latin typeface="Arial"/>
              </a:rPr>
              <a:t>Нельзя хлопну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3300"/>
                </a:solidFill>
                <a:latin typeface="Arial"/>
              </a:rPr>
              <a:t>в ладоши од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3300"/>
                </a:solidFill>
                <a:latin typeface="Arial"/>
              </a:rPr>
              <a:t>рукой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А. Наво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500"/>
                            </p:stCondLst>
                            <p:childTnLst>
                              <p:par>
                                <p:cTn id="7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Arial"/>
              </a:rPr>
              <a:t>Оформительская и просветительск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5472360" cy="4105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987640" y="2060640"/>
            <a:ext cx="561672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Arial"/>
              </a:rPr>
              <a:t>Оформительская и просветительск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403280" y="1628640"/>
            <a:ext cx="6480360" cy="4861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11280" y="2205000"/>
            <a:ext cx="7991280" cy="3862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3203640" y="1484280"/>
            <a:ext cx="29304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50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Arial"/>
              </a:rPr>
              <a:t>Оформительская и просветительск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44000" y="595800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324000" y="2205000"/>
            <a:ext cx="8551800" cy="36608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2411280" y="1773360"/>
            <a:ext cx="4518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5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7201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Arial"/>
              </a:rPr>
              <a:t>Повышение квалифик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68360" y="1413000"/>
          <a:ext cx="8229600" cy="4960800"/>
        </p:xfrm>
        <a:graphic>
          <a:graphicData uri="http://schemas.openxmlformats.org/drawingml/2006/table">
            <a:tbl>
              <a:tblPr/>
              <a:tblGrid>
                <a:gridCol w="366840"/>
                <a:gridCol w="4528800"/>
                <a:gridCol w="1152720"/>
                <a:gridCol w="2181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Georgia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Georgia"/>
                        </a:rPr>
                        <a:t>Название курса, семина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Georgia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Georgia"/>
                        </a:rPr>
                        <a:t>Докумен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Georg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нформационные технологии в деятельности учителя-предметн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Georgia"/>
                        </a:rPr>
                        <a:t>Ноябрь 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3300"/>
                          </a:solidFill>
                          <a:latin typeface="Georgia"/>
                        </a:rPr>
                        <a:t>Удостовере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3300"/>
                          </a:solidFill>
                          <a:latin typeface="Georgia"/>
                        </a:rPr>
                        <a:t>№ </a:t>
                      </a:r>
                      <a:r>
                        <a:rPr b="1" lang="en-US" sz="1600" spc="-1" strike="noStrike">
                          <a:solidFill>
                            <a:srgbClr val="663300"/>
                          </a:solidFill>
                          <a:latin typeface="Georgia"/>
                        </a:rPr>
                        <a:t>19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Georg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ониторинг физического развития и физической подготовленности уча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Georgia"/>
                        </a:rPr>
                        <a:t>2007 –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3300"/>
                          </a:solidFill>
                          <a:latin typeface="Georgia"/>
                        </a:rPr>
                        <a:t>Удостовере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3300"/>
                          </a:solidFill>
                          <a:latin typeface="Georgia"/>
                        </a:rPr>
                        <a:t>№ </a:t>
                      </a:r>
                      <a:r>
                        <a:rPr b="1" lang="en-US" sz="1600" spc="-1" strike="noStrike">
                          <a:solidFill>
                            <a:srgbClr val="663300"/>
                          </a:solidFill>
                          <a:latin typeface="Georgia"/>
                        </a:rPr>
                        <a:t>278396-14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Georg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аскетбольная секция в школ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Georgia"/>
                        </a:rPr>
                        <a:t>2008 – 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3300"/>
                          </a:solidFill>
                          <a:latin typeface="Georgia"/>
                        </a:rPr>
                        <a:t>Удостовере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3300"/>
                          </a:solidFill>
                          <a:latin typeface="Georgia"/>
                        </a:rPr>
                        <a:t>№ </a:t>
                      </a:r>
                      <a:r>
                        <a:rPr b="1" lang="en-US" sz="1600" spc="-1" strike="noStrike">
                          <a:solidFill>
                            <a:srgbClr val="663300"/>
                          </a:solidFill>
                          <a:latin typeface="Georgia"/>
                        </a:rPr>
                        <a:t>278396-14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Georg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Здоровьесберегающая шко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Georgia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3300"/>
                          </a:solidFill>
                          <a:latin typeface="Georgia"/>
                        </a:rPr>
                        <a:t>Удостовере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3300"/>
                          </a:solidFill>
                          <a:latin typeface="Georgia"/>
                        </a:rPr>
                        <a:t>№ </a:t>
                      </a:r>
                      <a:r>
                        <a:rPr b="1" lang="en-US" sz="1600" spc="-1" strike="noStrike">
                          <a:solidFill>
                            <a:srgbClr val="663300"/>
                          </a:solidFill>
                          <a:latin typeface="Georgia"/>
                        </a:rPr>
                        <a:t>278396-15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Georg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етодика организации и проведения занятий фитнесом в школ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Georgia"/>
                        </a:rPr>
                        <a:t>2009 –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3300"/>
                          </a:solidFill>
                          <a:latin typeface="Georgia"/>
                        </a:rPr>
                        <a:t>Удостовере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3300"/>
                          </a:solidFill>
                          <a:latin typeface="Georgia"/>
                        </a:rPr>
                        <a:t>№ </a:t>
                      </a:r>
                      <a:r>
                        <a:rPr b="1" lang="en-US" sz="1600" spc="-1" strike="noStrike">
                          <a:solidFill>
                            <a:srgbClr val="663300"/>
                          </a:solidFill>
                          <a:latin typeface="Georgia"/>
                        </a:rPr>
                        <a:t>101142616-14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Georg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днодневный семинар «Педагогический марафон-2010»,     г. Тюм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Georgia"/>
                        </a:rPr>
                        <a:t>Апрель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3300"/>
                          </a:solidFill>
                          <a:latin typeface="Georgia"/>
                        </a:rPr>
                        <a:t>Программа семинар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Georgi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      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сновы психологии 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      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едагогики здоров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Georgia"/>
                        </a:rPr>
                        <a:t>2010 – 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3300"/>
                          </a:solidFill>
                          <a:latin typeface="Georgia"/>
                        </a:rPr>
                        <a:t>Продолжаю учиться</a:t>
                      </a:r>
                      <a:r>
                        <a:rPr b="0" lang="en-US" sz="1600" spc="-1" strike="noStrike">
                          <a:solidFill>
                            <a:srgbClr val="663300"/>
                          </a:solidFill>
                          <a:latin typeface="Georgi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86979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Georgia"/>
              </a:rPr>
              <a:t>Участие в семинарах и педсовет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2008 г, педсовет «</a:t>
            </a:r>
            <a:r>
              <a:rPr b="0" lang="ru-RU" sz="2400" spc="-1" strike="noStrike">
                <a:solidFill>
                  <a:srgbClr val="008080"/>
                </a:solidFill>
                <a:latin typeface="Georgia"/>
              </a:rPr>
              <a:t>Компетентностный подход в обучении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2009 г, августовская районная конферен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едагогов, выступление в группе «</a:t>
            </a:r>
            <a:r>
              <a:rPr b="0" lang="ru-RU" sz="2400" spc="-1" strike="noStrike">
                <a:solidFill>
                  <a:srgbClr val="009999"/>
                </a:solidFill>
                <a:latin typeface="Georgia"/>
              </a:rPr>
              <a:t>Здоровье школьников – важное направление в деятельности образования Кондинского района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»"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2009 г, семинар «Анализ и самоанализ урока»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уководитель группы «</a:t>
            </a:r>
            <a:r>
              <a:rPr b="0" lang="ru-RU" sz="2400" spc="-1" strike="noStrike">
                <a:solidFill>
                  <a:srgbClr val="008080"/>
                </a:solidFill>
                <a:latin typeface="Georgia"/>
              </a:rPr>
              <a:t>Здоровьесбережение на уроке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2009 г, семинар «</a:t>
            </a:r>
            <a:r>
              <a:rPr b="0" lang="ru-RU" sz="2400" spc="-1" strike="noStrike">
                <a:solidFill>
                  <a:srgbClr val="008080"/>
                </a:solidFill>
                <a:latin typeface="Georgia"/>
              </a:rPr>
              <a:t>Культура здоровья как фактор формирования здоровьесберегающей среды школы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2010 г, семинар «</a:t>
            </a:r>
            <a:r>
              <a:rPr b="0" lang="ru-RU" sz="2400" spc="-1" strike="noStrike">
                <a:solidFill>
                  <a:srgbClr val="008080"/>
                </a:solidFill>
                <a:latin typeface="Georgia"/>
              </a:rPr>
              <a:t>Здоровье учителя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2011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г, школьная педагогическая конференция: </a:t>
            </a:r>
            <a:r>
              <a:rPr b="0" lang="ru-RU" sz="2400" spc="-1" strike="noStrike">
                <a:solidFill>
                  <a:srgbClr val="009999"/>
                </a:solidFill>
                <a:latin typeface="Georgia"/>
              </a:rPr>
              <a:t>представление профессионального опыта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28000" y="5958000"/>
            <a:ext cx="90000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7760" y="764640"/>
            <a:ext cx="6635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Arial"/>
              </a:rPr>
              <a:t>Гимнастика до занят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1628640"/>
            <a:ext cx="3981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Arial"/>
              </a:rPr>
              <a:t>Уроки здоров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349360"/>
            <a:ext cx="418608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Arial"/>
              </a:rPr>
              <a:t>Программ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1280" y="3573360"/>
            <a:ext cx="85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c2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c26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4c2600"/>
                </a:solidFill>
                <a:latin typeface="Arial"/>
              </a:rPr>
              <a:t>«Здоровая школа»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c2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c26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4c2600"/>
                </a:solidFill>
                <a:latin typeface="Arial"/>
              </a:rPr>
              <a:t>«Фитнес в школе – Калланетик»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c2600"/>
                </a:solidFill>
                <a:latin typeface="Arial"/>
              </a:rPr>
              <a:t>- «Мониторинг здоровья учащихся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87280" y="404640"/>
            <a:ext cx="30956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c2600"/>
                </a:solidFill>
                <a:latin typeface="Arial"/>
              </a:rPr>
              <a:t>Калланет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5037120" cy="3778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908000" y="1989000"/>
            <a:ext cx="5077080" cy="3808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3635280" y="2708280"/>
            <a:ext cx="5145120" cy="3859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11280" y="404640"/>
            <a:ext cx="79200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c2e00"/>
                </a:solidFill>
                <a:latin typeface="Arial"/>
              </a:rPr>
              <a:t>Мониторинг здоровья учащих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 rot="20533200">
            <a:off x="971280" y="1483920"/>
            <a:ext cx="3351240" cy="4824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 rot="1108800">
            <a:off x="4355640" y="1628640"/>
            <a:ext cx="380844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0"/>
                            </p:stCondLst>
                            <p:childTnLst>
                              <p:par>
                                <p:cTn id="2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7000"/>
                            </p:stCondLst>
                            <p:childTnLst>
                              <p:par>
                                <p:cTn id="28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1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1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8000"/>
                            </p:stCondLst>
                            <p:childTnLst>
                              <p:par>
                                <p:cTn id="3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9000"/>
                            </p:stCondLst>
                            <p:childTnLst>
                              <p:par>
                                <p:cTn id="3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12:26:04Z</dcterms:created>
  <dc:creator>Customer</dc:creator>
  <dc:description/>
  <dc:language>en-US</dc:language>
  <cp:lastModifiedBy>Customer</cp:lastModifiedBy>
  <dcterms:modified xsi:type="dcterms:W3CDTF">2011-09-25T10:27:31Z</dcterms:modified>
  <cp:revision>26</cp:revision>
  <dc:subject/>
  <dc:title>Курсы</dc:title>
</cp:coreProperties>
</file>