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697-00F4-4EFD-BF99-872501AC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705-D351-47CC-A6F9-72CA0E44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CA2-F6C2-4EDE-AACF-F7BA0ADC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A25-83DC-4414-82B5-53E21385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0DF-6A5F-4EE5-9DDD-4933A32A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883-88F1-464A-BCB1-4062915D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5E9-5E08-4486-9BB5-F6D7337E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45D-2FB4-46B6-8798-6D39CD4B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378-C704-491A-87A6-625149BA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ADB-9F06-44F4-82D9-A470B567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E44-5955-4A5C-80A5-4EBD14F9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41F-884B-44A6-9B52-2704C232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502A-1526-4C40-B614-9E6293084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сезоны-года.рф/sites/default/files/images/uchitelu/origami_kaktus.jpg"/>
          <p:cNvPicPr/>
          <p:nvPr/>
        </p:nvPicPr>
        <p:blipFill>
          <a:blip r:embed="rId1"/>
          <a:stretch/>
        </p:blipFill>
        <p:spPr>
          <a:xfrm>
            <a:off x="2411280" y="2637000"/>
            <a:ext cx="3749760" cy="3749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963720" y="517680"/>
            <a:ext cx="6900840" cy="1780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24000" y="260280"/>
            <a:ext cx="856908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тус - колючее растение, чаще встречается в жарких странах в местах пустынь и полупустынь. В странах с холодным климатом, таких, как Россия, кактус можно встретить разве, что на подоконнике в горшочке. Своими колючками кактус защищается от многих животных, но вот верблюда колючки не пугают, тем более что верблюды находят в кактусах особое лакомство. Сделать кактус из бумаги совсем просто, если следовать несложным инструкциям на схеме-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vb.niksalehi.com/abzi/images/bandejgxg.jpg"/>
          <p:cNvPicPr/>
          <p:nvPr/>
        </p:nvPicPr>
        <p:blipFill>
          <a:blip r:embed="rId1"/>
          <a:stretch/>
        </p:blipFill>
        <p:spPr>
          <a:xfrm>
            <a:off x="1670040" y="2846520"/>
            <a:ext cx="4797360" cy="7169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сезоны-года.рф/sites/default/files/images/uchitelu/origami_kaktus_shema_gorshok_1.jpg"/>
          <p:cNvPicPr/>
          <p:nvPr/>
        </p:nvPicPr>
        <p:blipFill>
          <a:blip r:embed="rId1"/>
          <a:srcRect l="0" t="0" r="0" b="48275"/>
          <a:stretch/>
        </p:blipFill>
        <p:spPr>
          <a:xfrm>
            <a:off x="468360" y="3500280"/>
            <a:ext cx="8443800" cy="31114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343800" y="18900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Сначала делаем горшок для какту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95280" y="443700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жите квадратный лист по пунктирным линиям, чтобы получились складки и разверните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Сложите по пунктирным линиям и разогните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Переверните издел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сезоны-года.рф/sites/default/files/images/uchitelu/origami_kaktus_shema_gorshok_1.jpg"/>
          <p:cNvPicPr/>
          <p:nvPr/>
        </p:nvPicPr>
        <p:blipFill>
          <a:blip r:embed="rId1"/>
          <a:srcRect l="0" t="50051" r="0" b="0"/>
          <a:stretch/>
        </p:blipFill>
        <p:spPr>
          <a:xfrm>
            <a:off x="395280" y="333360"/>
            <a:ext cx="850104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сезоны-года.рф/sites/default/files/images/uchitelu/origami_kaktus_shema_gorshok_2.jpg"/>
          <p:cNvPicPr/>
          <p:nvPr/>
        </p:nvPicPr>
        <p:blipFill>
          <a:blip r:embed="rId1"/>
          <a:srcRect l="0" t="0" r="0" b="5822"/>
          <a:stretch/>
        </p:blipFill>
        <p:spPr>
          <a:xfrm>
            <a:off x="324000" y="2038320"/>
            <a:ext cx="8556480" cy="43434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39528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Сложите вперед к центральной ли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ложите карманчиком с обеих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Переверните (чтобы загибы остались с задней сторо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. Горшок го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08600" y="2602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А теперь и само раст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сезоны-года.рф/sites/default/files/images/uchitelu/origami_kaktus_shema_rastenie_1.jpg"/>
          <p:cNvPicPr/>
          <p:nvPr/>
        </p:nvPicPr>
        <p:blipFill>
          <a:blip r:embed="rId1"/>
          <a:stretch/>
        </p:blipFill>
        <p:spPr>
          <a:xfrm>
            <a:off x="684360" y="836640"/>
            <a:ext cx="7354800" cy="54928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539640" y="18900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Сложите квадратный лист пополам, чтобы получились складки и разверните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Сложите по пунктирным линиям к центральной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Сложите по пунктирным линиям к центральной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Раскройте часть, указанную стрел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Выровняй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Переверните издел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сезоны-года.рф/sites/default/files/images/uchitelu/origami_kaktus_shema_rastenie_1.jpg"/>
          <p:cNvPicPr/>
          <p:nvPr/>
        </p:nvPicPr>
        <p:blipFill>
          <a:blip r:embed="rId1"/>
          <a:stretch/>
        </p:blipFill>
        <p:spPr>
          <a:xfrm>
            <a:off x="4140360" y="2997360"/>
            <a:ext cx="4752720" cy="3549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сезоны-года.рф/sites/default/files/images/uchitelu/origami_kaktus_shema_rastenie_2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344520" y="333360"/>
            <a:ext cx="8626320" cy="4535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611280" y="501336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. Сложите по пунктирным ли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1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. Переверните издел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3. Вставьте кактус в горшок, и аккуратно, не уколитесь об колю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12:29:58Z</dcterms:created>
  <dc:creator/>
  <dc:description/>
  <dc:language>en-US</dc:language>
  <cp:lastModifiedBy>1-01</cp:lastModifiedBy>
  <dcterms:modified xsi:type="dcterms:W3CDTF">2019-05-16T12:56:24Z</dcterms:modified>
  <cp:revision>2</cp:revision>
  <dc:subject/>
  <dc:title>Слайд 1</dc:title>
</cp:coreProperties>
</file>