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542-60C6-4087-A37B-C92A2F1B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0F2-65D8-45F3-A74E-7B15F20D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B3F-BBA2-4A60-821F-A8866222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645-555E-4CA0-AD79-9C75F348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94C-224A-4BB2-938D-C379D655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13B-B833-4BB5-A78D-7567C6E8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CF5-CCD5-436B-831C-5DD1BC01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607-F3FF-44CC-B265-8BC7666A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BA1-9034-4512-906F-4B6FEAEC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88E-2941-40B7-8A0E-57ECD3D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028-3DA6-4CCA-9FF3-A073604D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CEB-D95D-46C4-A171-1C2C9B4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9198-476A-45EC-919C-E8B796BBC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сезоны-года.рф/sites/default/files/images/uchitelu/origami_kaktus.jpg"/>
          <p:cNvPicPr/>
          <p:nvPr/>
        </p:nvPicPr>
        <p:blipFill>
          <a:blip r:embed="rId1"/>
          <a:stretch/>
        </p:blipFill>
        <p:spPr>
          <a:xfrm>
            <a:off x="2411280" y="2637000"/>
            <a:ext cx="3749760" cy="3749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963720" y="517680"/>
            <a:ext cx="6900840" cy="1780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324000" y="260280"/>
            <a:ext cx="856908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тус - колючее растение, чаще встречается в жарких странах в местах пустынь и полупустынь. В странах с холодным климатом, таких, как Россия, кактус можно встретить разве, что на подоконнике в горшочке. Своими колючками кактус защищается от многих животных, но вот верблюда колючки не пугают, тем более что верблюды находят в кактусах особое лакомство. Сделать кактус из бумаги совсем просто, если следовать несложным инструкциям на схеме-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vb.niksalehi.com/abzi/images/bandejgxg.jpg"/>
          <p:cNvPicPr/>
          <p:nvPr/>
        </p:nvPicPr>
        <p:blipFill>
          <a:blip r:embed="rId1"/>
          <a:stretch/>
        </p:blipFill>
        <p:spPr>
          <a:xfrm>
            <a:off x="1670040" y="2846520"/>
            <a:ext cx="4797360" cy="7169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сезоны-года.рф/sites/default/files/images/uchitelu/origami_kaktus_shema_gorshok_1.jpg"/>
          <p:cNvPicPr/>
          <p:nvPr/>
        </p:nvPicPr>
        <p:blipFill>
          <a:blip r:embed="rId1"/>
          <a:srcRect l="0" t="0" r="0" b="48275"/>
          <a:stretch/>
        </p:blipFill>
        <p:spPr>
          <a:xfrm>
            <a:off x="468360" y="3500280"/>
            <a:ext cx="8443800" cy="31114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343800" y="189000"/>
            <a:ext cx="41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Сначала делаем горшок для какту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95280" y="4437000"/>
            <a:ext cx="856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ожите квадратный лист по пунктирным линиям, чтобы получились складки и разверните об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Сложите по пунктирным линиям и разогните об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Переверните издел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сезоны-года.рф/sites/default/files/images/uchitelu/origami_kaktus_shema_gorshok_1.jpg"/>
          <p:cNvPicPr/>
          <p:nvPr/>
        </p:nvPicPr>
        <p:blipFill>
          <a:blip r:embed="rId1"/>
          <a:srcRect l="0" t="50051" r="0" b="0"/>
          <a:stretch/>
        </p:blipFill>
        <p:spPr>
          <a:xfrm>
            <a:off x="395280" y="333360"/>
            <a:ext cx="8501040" cy="3024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сезоны-года.рф/sites/default/files/images/uchitelu/origami_kaktus_shema_gorshok_2.jpg"/>
          <p:cNvPicPr/>
          <p:nvPr/>
        </p:nvPicPr>
        <p:blipFill>
          <a:blip r:embed="rId1"/>
          <a:srcRect l="0" t="0" r="0" b="5822"/>
          <a:stretch/>
        </p:blipFill>
        <p:spPr>
          <a:xfrm>
            <a:off x="324000" y="2038320"/>
            <a:ext cx="8556480" cy="43434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39528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Сложите вперед к центральной ли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ложите карманчиком с обеих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Переверните (чтобы загибы остались с задней сторо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. Горшок го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08600" y="26028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А теперь и само раст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сезоны-года.рф/sites/default/files/images/uchitelu/origami_kaktus_shema_rastenie_1.jpg"/>
          <p:cNvPicPr/>
          <p:nvPr/>
        </p:nvPicPr>
        <p:blipFill>
          <a:blip r:embed="rId1"/>
          <a:stretch/>
        </p:blipFill>
        <p:spPr>
          <a:xfrm>
            <a:off x="684360" y="836640"/>
            <a:ext cx="7354800" cy="54928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539640" y="189000"/>
            <a:ext cx="828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Сложите квадратный лист пополам, чтобы получились складки и разверните об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Сложите по пунктирным линиям к центральной л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Сложите по пунктирным линиям к центральной л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Раскройте часть, указанную стрел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Выровняй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Переверните издел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сезоны-года.рф/sites/default/files/images/uchitelu/origami_kaktus_shema_rastenie_1.jpg"/>
          <p:cNvPicPr/>
          <p:nvPr/>
        </p:nvPicPr>
        <p:blipFill>
          <a:blip r:embed="rId1"/>
          <a:stretch/>
        </p:blipFill>
        <p:spPr>
          <a:xfrm>
            <a:off x="4140360" y="2997360"/>
            <a:ext cx="4752720" cy="35496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сезоны-года.рф/sites/default/files/images/uchitelu/origami_kaktus_shema_rastenie_2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344520" y="333360"/>
            <a:ext cx="8626320" cy="45356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611280" y="501336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. Сложите по пунктирным ли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1. Сложите по пунктирным линиям, как указано на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. Переверните издел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3. Вставьте кактус в горшок, и аккуратно, не уколитесь об колю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12:29:58Z</dcterms:created>
  <dc:creator/>
  <dc:description/>
  <dc:language>en-US</dc:language>
  <cp:lastModifiedBy>1-01</cp:lastModifiedBy>
  <dcterms:modified xsi:type="dcterms:W3CDTF">2019-05-16T12:56:24Z</dcterms:modified>
  <cp:revision>2</cp:revision>
  <dc:subject/>
  <dc:title>Слайд 1</dc:title>
</cp:coreProperties>
</file>