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1.wmf" ContentType="image/x-wmf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EA3-8222-4541-85D7-C4C0F649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E5F-B2BB-4463-85AC-93981388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157-4646-475E-8208-5BCE04C0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6DB-0B8F-4DC8-99E7-0FB65BBD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418B4-170A-4314-AE5B-816ED3E4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60297-2196-4429-86B2-A24A2317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84F34-2FF0-4CE5-B272-207562B0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52438-9FE3-4091-BB1A-F16FAD2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DC284-4180-4B67-B4F7-0994A3EE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77FDB-5A57-44C8-8140-62681EE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87D15-E0FE-409E-A392-F51F60ED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568-D9DD-482B-915B-056DE932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BBAF4-A84F-4B36-B1AB-0EEB4EC4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8C3C4-ABE2-42B4-949E-9CF80DEF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14BA8-3990-43D1-8AD6-D987DDDA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7306F-3FBE-4C5F-B948-0F4EF2E9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1716D-F4EA-48E2-B7AF-E0BADD61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4E1-D530-4ED2-9686-85CBEC53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58D-8D63-4AA4-9583-5CD5CA26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09E-1FDB-4706-9E85-67199A34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253-9E47-46A5-9EA3-F9C35A51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B95-699E-4EF3-A8B3-B16CE947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30A-707D-422E-95DA-56E50D23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617-26C6-41DF-B927-39BF650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129A-EB14-4B21-9B0E-FA524D022F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7996-5AC3-4DD1-B827-24735C4234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8600" y="-304920"/>
            <a:ext cx="8686800" cy="624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Тема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"Основы здоров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образа жизн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38862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Пьянст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152280" y="121932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Пьянство ведет к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алкоголиз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Алкоголь разрушает мозг человека и другие органы. Человек, употребляющий алкоголь не может быстро и точно мыслить, становится невнимательным, теряет над собой контроль, способен совершать антиобщественные поступ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3784680" cy="2565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800600" y="1676520"/>
            <a:ext cx="3809880" cy="3165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257800" y="3505320"/>
            <a:ext cx="3657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8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291960"/>
            <a:ext cx="4343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Нарком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Наркомания 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</a:rPr>
              <a:t>– это зависимость организма на физиологическом уровне от успокаивающих, одурманивающих, погружающих в видения веще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Употребление наркотиков 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</a:rPr>
              <a:t>приводит к наркотической зависим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628200">
            <a:off x="4876560" y="457200"/>
            <a:ext cx="3746520" cy="2390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 rot="21003000">
            <a:off x="4343040" y="2971440"/>
            <a:ext cx="43560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8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Georgia"/>
              </a:rPr>
              <a:t>Выбор за Вам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Georgia"/>
              </a:rPr>
              <a:t>Постарайтесь сдела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Georgia"/>
              </a:rPr>
              <a:t>правильный выбо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886200" cy="3975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0" t="0" r="17713" b="0"/>
          <a:stretch/>
        </p:blipFill>
        <p:spPr>
          <a:xfrm>
            <a:off x="4724280" y="1066680"/>
            <a:ext cx="403884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8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8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0"/>
            <a:ext cx="8610480" cy="41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Здоровый мир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уть к успех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38280" y="3657600"/>
            <a:ext cx="4305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Основы здорового образа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Образ жизни человека, его поведение    и мышление, которые обеспечивают охрану и укрепление здоровья наз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доровым образом жизни.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Индивидуальное здоровье человека н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50 % </a:t>
            </a: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зависит от его образа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Среди основных составляющих здорового образа жизни выделяю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67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Умеренное  рациональное питание;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Режим дн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Оптимальная двигатель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   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активно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Чередование труд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отды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16002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406760" cy="527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22860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284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6668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4406760" cy="533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572000" y="1219320"/>
            <a:ext cx="4405320" cy="5486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572000" y="1219320"/>
            <a:ext cx="4419720" cy="5486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 rot="21306600">
            <a:off x="4800600" y="1447560"/>
            <a:ext cx="4173480" cy="5181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 rot="582600">
            <a:off x="4952520" y="1523520"/>
            <a:ext cx="3683160" cy="457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 rot="21031200">
            <a:off x="761760" y="4267080"/>
            <a:ext cx="3124080" cy="227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33526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 rot="21227400">
            <a:off x="4495680" y="2971440"/>
            <a:ext cx="4077000" cy="3057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4800600" y="1600200"/>
            <a:ext cx="3486240" cy="441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1"/>
          <a:stretch/>
        </p:blipFill>
        <p:spPr>
          <a:xfrm rot="242400">
            <a:off x="4876920" y="1447920"/>
            <a:ext cx="3789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000"/>
                            </p:stCondLst>
                            <p:childTnLst>
                              <p:par>
                                <p:cTn id="1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Среди основных составляющих здорового образа жизни выделяю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446480"/>
            <a:ext cx="358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Следование правилам личной гигиен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Закали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201600">
            <a:off x="533160" y="3733560"/>
            <a:ext cx="3809880" cy="2828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29718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«Чистота – залог здоровь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5238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24280" y="1371600"/>
            <a:ext cx="3975120" cy="502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92436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181480" y="1752480"/>
            <a:ext cx="3810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Среди основных составляющих здорового образа жизни выделяю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6765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5372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Психогигиена и ум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управлять своими эмоци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116240" cy="4216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280" y="243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3356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Отказ от вредных привычек (курения, употребления алкогол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наркотик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9480" y="3886200"/>
            <a:ext cx="3353040" cy="250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95680" y="2286000"/>
            <a:ext cx="405000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 rot="21118800">
            <a:off x="609120" y="3885840"/>
            <a:ext cx="3238560" cy="2417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 rot="20693400">
            <a:off x="761760" y="3885840"/>
            <a:ext cx="32004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е все люди понимают свою ответственность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а сохранение здоровь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Tahoma"/>
              </a:rPr>
              <a:t>Более 2/3 населения страны не занимаются спорт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Tahoma"/>
              </a:rPr>
              <a:t>До 30 % населения имеют избыточный ве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Tahoma"/>
              </a:rPr>
              <a:t>Около 70 млн. человек в нашей стране куря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Tahoma"/>
              </a:rPr>
              <a:t>В России около 6 млн. наркопотреб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70480" y="1523880"/>
            <a:ext cx="4444920" cy="4889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 rot="21196800">
            <a:off x="4419720" y="1523880"/>
            <a:ext cx="4360680" cy="4915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 rot="400800">
            <a:off x="4495320" y="1752120"/>
            <a:ext cx="4227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8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8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8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редные привыч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Вредная привычка –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закрепленный в личности способ поведения, агрессивный по отношению к самой личности или к общест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21222600">
            <a:off x="609120" y="2666880"/>
            <a:ext cx="2598840" cy="3886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407400">
            <a:off x="4038120" y="2895120"/>
            <a:ext cx="4572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8862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Кур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Курение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- самая распространенная вредная привычка человека,  которая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приводит к  никотиновой зависимости,  что пагубно воздействует на организм человека и приводит к  возникновению многих болезн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Более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3 млн.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человек на планете ежегодно гибнут от кур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До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60 %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 россиян – постоянные покупатели сигар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3175200" cy="306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3276720" cy="306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3657600" cy="2540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257800" y="4038480"/>
            <a:ext cx="35812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оля курящих среди учащихся 5-11 классов общеобразовательной школы,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429000" y="2133720"/>
          <a:ext cx="57150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13372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476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4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В последние годы в России наблюдается интенсивное приобщение детей и молодежи, в особенности девушек, к курению. Среди детей и молодежи курят 49,5%, то есть почти 16 миллионов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0476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0053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666880"/>
            <a:ext cx="335268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Курят среди юношей 58,3%, среди девушек – 40,5%. На долю девушек приходится 40% общего объема выкуриваемых подростками и молодежью сигарет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8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9-17T04:06:5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