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4AA2-351A-49E0-9C8E-9CAA787E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8EF9-8EA5-4D07-A251-87248C34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F0CF-CBE5-4F34-9E2B-6ABBA34C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1ACA-A9BB-41BB-A324-59CA1F4F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D18E-9FAB-49E2-A7D9-1088987E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325F-5E83-4664-9722-3E2E1D80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1AED-4167-4D60-8460-0F6253AF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5D59-34AB-40F7-B392-2950910B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40BC-0ED3-4684-9EE0-726A1D4C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CF3C-AA16-4CE2-996A-19C2193A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2330-AC39-457F-A103-4C890E53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EDDD-C064-4EAF-82B9-E18CA079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7BD9-9418-4D9F-A0D6-F6BA2559C7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cs418428.vk.me/v418428326/45f3/3bSRDAndymI.jpg"/>
          <p:cNvPicPr/>
          <p:nvPr/>
        </p:nvPicPr>
        <p:blipFill>
          <a:blip r:embed="rId1"/>
          <a:srcRect l="0" t="0" r="0" b="8236"/>
          <a:stretch/>
        </p:blipFill>
        <p:spPr>
          <a:xfrm>
            <a:off x="1187280" y="1628640"/>
            <a:ext cx="6048720" cy="4884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262160" y="-12600"/>
            <a:ext cx="6132240" cy="115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cs418428.vk.me/v418428326/45d0/YGNLKoq6yAs.jpg"/>
          <p:cNvPicPr/>
          <p:nvPr/>
        </p:nvPicPr>
        <p:blipFill>
          <a:blip r:embed="rId1"/>
          <a:srcRect l="0" t="0" r="0" b="6389"/>
          <a:stretch/>
        </p:blipFill>
        <p:spPr>
          <a:xfrm>
            <a:off x="755640" y="260280"/>
            <a:ext cx="7610400" cy="626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79280" y="26028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перь нам понадобится зубочистка или тонкая деревянная шпажка. Одну из полосок бумаги обмотайте вокруг неё, помогая пальцами: наматываем полоски на зубочист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cs418428.vk.me/v418428326/45cc/9sea_UGCwXA.jpg"/>
          <p:cNvPicPr/>
          <p:nvPr/>
        </p:nvPicPr>
        <p:blipFill>
          <a:blip r:embed="rId1"/>
          <a:srcRect l="0" t="0" r="0" b="7044"/>
          <a:stretch/>
        </p:blipFill>
        <p:spPr>
          <a:xfrm>
            <a:off x="1042920" y="1125360"/>
            <a:ext cx="6519960" cy="532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cs418428.vk.me/v418428326/45d7/aQFxMQZig3U.jpg"/>
          <p:cNvPicPr/>
          <p:nvPr/>
        </p:nvPicPr>
        <p:blipFill>
          <a:blip r:embed="rId1"/>
          <a:srcRect l="0" t="0" r="0" b="18447"/>
          <a:stretch/>
        </p:blipFill>
        <p:spPr>
          <a:xfrm>
            <a:off x="1332000" y="1628640"/>
            <a:ext cx="6823080" cy="489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Прямоугольник 2"/>
          <p:cNvSpPr/>
          <p:nvPr/>
        </p:nvSpPr>
        <p:spPr>
          <a:xfrm>
            <a:off x="179280" y="189000"/>
            <a:ext cx="85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держивая бумагу пальцами немного распустите полученную спираль из бумаги. Закрепите конец с помощью кле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уем листочек из бумаг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cs418428.vk.me/v418428326/45de/0mNeDZNsQwU.jpg"/>
          <p:cNvPicPr/>
          <p:nvPr/>
        </p:nvPicPr>
        <p:blipFill>
          <a:blip r:embed="rId1"/>
          <a:srcRect l="0" t="0" r="0" b="8193"/>
          <a:stretch/>
        </p:blipFill>
        <p:spPr>
          <a:xfrm>
            <a:off x="3203640" y="2133720"/>
            <a:ext cx="5351400" cy="4322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9" name="Прямоугольник 2"/>
          <p:cNvSpPr/>
          <p:nvPr/>
        </p:nvSpPr>
        <p:spPr>
          <a:xfrm>
            <a:off x="179280" y="189000"/>
            <a:ext cx="8785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того, как клей высох, снимите спираль с зубочистки. Придайте пальцами миндалевидную форму листочку, для этого нужно сплюснуть его с одной стороны: листок гот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делайте несколько вот таких элементов к ветви лавра: несколько элементов к лавр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твь лавра может иметь столько листиков, сколько вам захочется. Готовые элементы приклейте около звезды в виде лавровой ветви и приступайте к написанию пожеланий и поздравлений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cs418428.vk.me/v418428326/45e5/LV7ZzkUIB48.jpg"/>
          <p:cNvPicPr/>
          <p:nvPr/>
        </p:nvPicPr>
        <p:blipFill>
          <a:blip r:embed="rId1"/>
          <a:srcRect l="0" t="0" r="0" b="7141"/>
          <a:stretch/>
        </p:blipFill>
        <p:spPr>
          <a:xfrm>
            <a:off x="826920" y="333360"/>
            <a:ext cx="7402680" cy="604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50920" y="18900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тавьте плотную красную нить в иглу и завяжите на конце нитки прочный узел. Осторожно вытяните иголкой нить из точки №1, оставив узелок на тыльной стороне, как показано на рисунке: начинаем вышивать звезд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том протяните нить в точку под №2 по шаблону: шьём по схем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того, как сделан стежок с тыльной стороны, вытащите нить из точки под №3 по схеме: придерживаемся схем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cs418428.vk.me/v418428326/45a1/S7fIVRE7pxI.jpg"/>
          <p:cNvPicPr/>
          <p:nvPr/>
        </p:nvPicPr>
        <p:blipFill>
          <a:blip r:embed="rId1"/>
          <a:srcRect l="0" t="0" r="0" b="7699"/>
          <a:stretch/>
        </p:blipFill>
        <p:spPr>
          <a:xfrm>
            <a:off x="250920" y="2205000"/>
            <a:ext cx="4255920" cy="34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" name="Picture 4" descr="http://cs418428.vk.me/v418428326/45a8/Pr6OMp7SxUE.jpg"/>
          <p:cNvPicPr/>
          <p:nvPr/>
        </p:nvPicPr>
        <p:blipFill>
          <a:blip r:embed="rId2"/>
          <a:srcRect l="0" t="0" r="0" b="8890"/>
          <a:stretch/>
        </p:blipFill>
        <p:spPr>
          <a:xfrm>
            <a:off x="4608360" y="2205000"/>
            <a:ext cx="4310280" cy="34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250920" y="1173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должайте вышивать по схем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им образом, продолжайте делать стежки по звезде в указанной последовательности, пока не пройдёте все отверстия. Получается вот такая вышитая звезда: звезда гот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cs418428.vk.me/v418428326/45af/nM623PjyQxg.jpg"/>
          <p:cNvPicPr/>
          <p:nvPr/>
        </p:nvPicPr>
        <p:blipFill>
          <a:blip r:embed="rId1"/>
          <a:srcRect l="0" t="0" r="0" b="8005"/>
          <a:stretch/>
        </p:blipFill>
        <p:spPr>
          <a:xfrm>
            <a:off x="250920" y="1413000"/>
            <a:ext cx="4092480" cy="331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6" name="Picture 4" descr="http://cs418428.vk.me/v418428326/45bd/kbKnqwBh4ls.jpg"/>
          <p:cNvPicPr/>
          <p:nvPr/>
        </p:nvPicPr>
        <p:blipFill>
          <a:blip r:embed="rId2"/>
          <a:srcRect l="0" t="0" r="0" b="8005"/>
          <a:stretch/>
        </p:blipFill>
        <p:spPr>
          <a:xfrm>
            <a:off x="4572000" y="1413000"/>
            <a:ext cx="4091040" cy="331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cs418428.vk.me/v418428326/45c4/5KgZEtk4xxY.jpg"/>
          <p:cNvPicPr/>
          <p:nvPr/>
        </p:nvPicPr>
        <p:blipFill>
          <a:blip r:embed="rId1"/>
          <a:srcRect l="0" t="0" r="0" b="11693"/>
          <a:stretch/>
        </p:blipFill>
        <p:spPr>
          <a:xfrm>
            <a:off x="1187280" y="549360"/>
            <a:ext cx="6301080" cy="489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2T12:49:15Z</dcterms:created>
  <dc:creator/>
  <dc:description/>
  <dc:language>en-US</dc:language>
  <cp:lastModifiedBy>Еленга Берюхова</cp:lastModifiedBy>
  <dcterms:modified xsi:type="dcterms:W3CDTF">2014-04-02T13:00:47Z</dcterms:modified>
  <cp:revision>2</cp:revision>
  <dc:subject/>
  <dc:title>Слайд 1</dc:title>
</cp:coreProperties>
</file>