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E0B-143A-4B3C-979D-C3F612BB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14C-7B4F-45E6-BA2A-65E2D6E3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1CD-A12B-43AB-8D1B-75008AA3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417-0105-4C1F-8CF3-5CF144B7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65C-D729-4B93-AEDE-D239F496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2FF-7F89-4B27-88C1-74FA3F7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BD7-6DE9-4B47-AE6B-5BE6F89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B95-F270-486A-8101-5201198B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2C3-DDB1-469F-BD8C-6F9A82D8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91A-97EC-4210-B82E-211C06E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B84-2A17-44C6-86B6-4DA5129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D42-9F1B-4B57-9D3C-9577F643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64DA-7D5A-4B9B-92E3-979960DCD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s418428.vk.me/v418428326/45f3/3bSRDAndymI.jpg"/>
          <p:cNvPicPr/>
          <p:nvPr/>
        </p:nvPicPr>
        <p:blipFill>
          <a:blip r:embed="rId1"/>
          <a:srcRect l="0" t="0" r="0" b="8236"/>
          <a:stretch/>
        </p:blipFill>
        <p:spPr>
          <a:xfrm>
            <a:off x="1187280" y="1628640"/>
            <a:ext cx="6048720" cy="488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262160" y="-12600"/>
            <a:ext cx="6132240" cy="115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cs418428.vk.me/v418428326/45d0/YGNLKoq6yAs.jpg"/>
          <p:cNvPicPr/>
          <p:nvPr/>
        </p:nvPicPr>
        <p:blipFill>
          <a:blip r:embed="rId1"/>
          <a:srcRect l="0" t="0" r="0" b="6389"/>
          <a:stretch/>
        </p:blipFill>
        <p:spPr>
          <a:xfrm>
            <a:off x="755640" y="260280"/>
            <a:ext cx="7610400" cy="626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79280" y="2602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перь нам понадобится зубочистка или тонкая деревянная шпажка. Одну из полосок бумаги обмотайте вокруг неё, помогая пальцами: наматываем полоски на зубочист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cs418428.vk.me/v418428326/45cc/9sea_UGCwXA.jpg"/>
          <p:cNvPicPr/>
          <p:nvPr/>
        </p:nvPicPr>
        <p:blipFill>
          <a:blip r:embed="rId1"/>
          <a:srcRect l="0" t="0" r="0" b="7044"/>
          <a:stretch/>
        </p:blipFill>
        <p:spPr>
          <a:xfrm>
            <a:off x="1042920" y="1125360"/>
            <a:ext cx="6519960" cy="532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cs418428.vk.me/v418428326/45d7/aQFxMQZig3U.jpg"/>
          <p:cNvPicPr/>
          <p:nvPr/>
        </p:nvPicPr>
        <p:blipFill>
          <a:blip r:embed="rId1"/>
          <a:srcRect l="0" t="0" r="0" b="18447"/>
          <a:stretch/>
        </p:blipFill>
        <p:spPr>
          <a:xfrm>
            <a:off x="1332000" y="1628640"/>
            <a:ext cx="682308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Прямоугольник 2"/>
          <p:cNvSpPr/>
          <p:nvPr/>
        </p:nvSpPr>
        <p:spPr>
          <a:xfrm>
            <a:off x="179280" y="1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держивая бумагу пальцами немного распустите полученную спираль из бумаги. Закрепите конец с помощью кле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уем листочек из бума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cs418428.vk.me/v418428326/45de/0mNeDZNsQwU.jpg"/>
          <p:cNvPicPr/>
          <p:nvPr/>
        </p:nvPicPr>
        <p:blipFill>
          <a:blip r:embed="rId1"/>
          <a:srcRect l="0" t="0" r="0" b="8193"/>
          <a:stretch/>
        </p:blipFill>
        <p:spPr>
          <a:xfrm>
            <a:off x="3203640" y="2133720"/>
            <a:ext cx="5351400" cy="432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" name="Прямоугольник 2"/>
          <p:cNvSpPr/>
          <p:nvPr/>
        </p:nvSpPr>
        <p:spPr>
          <a:xfrm>
            <a:off x="179280" y="189000"/>
            <a:ext cx="878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того, как клей высох, снимите спираль с зубочистки. Придайте пальцами миндалевидную форму листочку, для этого нужно сплюснуть его с одной стороны: листок го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делайте несколько вот таких элементов к ветви лавра: несколько элементов к лавр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твь лавра может иметь столько листиков, сколько вам захочется. Готовые элементы приклейте около звезды в виде лавровой ветви и приступайте к написанию пожеланий и поздравлени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cs418428.vk.me/v418428326/45e5/LV7ZzkUIB48.jpg"/>
          <p:cNvPicPr/>
          <p:nvPr/>
        </p:nvPicPr>
        <p:blipFill>
          <a:blip r:embed="rId1"/>
          <a:srcRect l="0" t="0" r="0" b="7141"/>
          <a:stretch/>
        </p:blipFill>
        <p:spPr>
          <a:xfrm>
            <a:off x="826920" y="333360"/>
            <a:ext cx="7402680" cy="604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плотную красную нить в иглу и завяжите на конце нитки прочный узел. Осторожно вытяните иголкой нить из точки №1, оставив узелок на тыльной стороне, как показано на рисунке: начинаем вышивать звезд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м протяните нить в точку под №2 по шаблону: шьём по схем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того, как сделан стежок с тыльной стороны, вытащите нить из точки под №3 по схеме: придерживаемся сх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cs418428.vk.me/v418428326/45a1/S7fIVRE7pxI.jpg"/>
          <p:cNvPicPr/>
          <p:nvPr/>
        </p:nvPicPr>
        <p:blipFill>
          <a:blip r:embed="rId1"/>
          <a:srcRect l="0" t="0" r="0" b="7699"/>
          <a:stretch/>
        </p:blipFill>
        <p:spPr>
          <a:xfrm>
            <a:off x="250920" y="2205000"/>
            <a:ext cx="425592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4" descr="http://cs418428.vk.me/v418428326/45a8/Pr6OMp7SxUE.jpg"/>
          <p:cNvPicPr/>
          <p:nvPr/>
        </p:nvPicPr>
        <p:blipFill>
          <a:blip r:embed="rId2"/>
          <a:srcRect l="0" t="0" r="0" b="8890"/>
          <a:stretch/>
        </p:blipFill>
        <p:spPr>
          <a:xfrm>
            <a:off x="4608360" y="2205000"/>
            <a:ext cx="431028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50920" y="11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олжайте вышивать по схем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продолжайте делать стежки по звезде в указанной последовательности, пока не пройдёте все отверстия. Получается вот такая вышитая звезда: звезда гот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s418428.vk.me/v418428326/45af/nM623PjyQxg.jpg"/>
          <p:cNvPicPr/>
          <p:nvPr/>
        </p:nvPicPr>
        <p:blipFill>
          <a:blip r:embed="rId1"/>
          <a:srcRect l="0" t="0" r="0" b="8005"/>
          <a:stretch/>
        </p:blipFill>
        <p:spPr>
          <a:xfrm>
            <a:off x="250920" y="1413000"/>
            <a:ext cx="4092480" cy="331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4" descr="http://cs418428.vk.me/v418428326/45bd/kbKnqwBh4ls.jpg"/>
          <p:cNvPicPr/>
          <p:nvPr/>
        </p:nvPicPr>
        <p:blipFill>
          <a:blip r:embed="rId2"/>
          <a:srcRect l="0" t="0" r="0" b="8005"/>
          <a:stretch/>
        </p:blipFill>
        <p:spPr>
          <a:xfrm>
            <a:off x="4572000" y="1413000"/>
            <a:ext cx="4091040" cy="331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cs418428.vk.me/v418428326/45c4/5KgZEtk4xxY.jpg"/>
          <p:cNvPicPr/>
          <p:nvPr/>
        </p:nvPicPr>
        <p:blipFill>
          <a:blip r:embed="rId1"/>
          <a:srcRect l="0" t="0" r="0" b="11693"/>
          <a:stretch/>
        </p:blipFill>
        <p:spPr>
          <a:xfrm>
            <a:off x="1187280" y="549360"/>
            <a:ext cx="630108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2:49:15Z</dcterms:created>
  <dc:creator/>
  <dc:description/>
  <dc:language>en-US</dc:language>
  <cp:lastModifiedBy>Еленга Берюхова</cp:lastModifiedBy>
  <dcterms:modified xsi:type="dcterms:W3CDTF">2014-04-02T13:00:47Z</dcterms:modified>
  <cp:revision>2</cp:revision>
  <dc:subject/>
  <dc:title>Слайд 1</dc:title>
</cp:coreProperties>
</file>