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4DA-BC8D-423E-A1CF-6A51EC2A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9E6-1403-4D35-B5AB-2969521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CCF-3FA9-4C8C-9EF7-96D7F48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1B4-0033-4F07-BE48-69EC54A7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BEC-653A-4852-BB33-31729E9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AA9-3820-471E-88BE-F85F856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42F-7487-4266-AC22-D51D1464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B22-5A13-4723-8806-4CEDC4D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1BA-73E5-4AA4-BCED-6C6A45E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EBA-95B4-4040-8EED-F0C7BAE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D49-3B95-4117-8BD3-EE22943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99C-42C9-40C6-8B51-188BFD1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CAA-5275-40D9-845C-A0CE53E2F9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13920"/>
            <a:ext cx="8102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Тема: «Применение информационно-коммуникационных технологий в образовательном процессе  ДО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360" y="1916280"/>
            <a:ext cx="3097440" cy="30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Использование компьютерных технологий в образовательном процессе дает нам следующие возможнос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0" y="0"/>
            <a:ext cx="2843280" cy="1440000"/>
          </a:xfrm>
          <a:prstGeom prst="wedgeEllipseCallout">
            <a:avLst>
              <a:gd name="adj1" fmla="val -71398"/>
              <a:gd name="adj2" fmla="val -127074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Компьютер – это средство выравнивания возможностей дете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116000" y="4869000"/>
            <a:ext cx="2843280" cy="1368360"/>
          </a:xfrm>
          <a:prstGeom prst="wedgeEllipseCallout">
            <a:avLst>
              <a:gd name="adj1" fmla="val 69319"/>
              <a:gd name="adj2" fmla="val -3399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высокая скорость обновления дидактического материала на экране значительно экономит время на заняти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8"/>
          <p:cNvSpPr/>
          <p:nvPr/>
        </p:nvSpPr>
        <p:spPr>
          <a:xfrm rot="10800000">
            <a:off x="6804000" y="4437000"/>
            <a:ext cx="2340000" cy="1144800"/>
          </a:xfrm>
          <a:prstGeom prst="wedgeEllipseCallout">
            <a:avLst>
              <a:gd name="adj1" fmla="val 63226"/>
              <a:gd name="adj2" fmla="val -1597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Экономия времени педагогов при составлении планов и отчетов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0" y="1916280"/>
            <a:ext cx="2987640" cy="2449440"/>
          </a:xfrm>
          <a:prstGeom prst="wedgeEllipseCallout">
            <a:avLst>
              <a:gd name="adj1" fmla="val 62041"/>
              <a:gd name="adj2" fmla="val 5928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Оперативность управления и возможность компактного хранения больших объемов информации в текстовой и образной форме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6804000" y="1413000"/>
            <a:ext cx="2340000" cy="2160360"/>
          </a:xfrm>
          <a:prstGeom prst="wedgeEllipseCallout">
            <a:avLst>
              <a:gd name="adj1" fmla="val -61398"/>
              <a:gd name="adj2" fmla="val 22888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повышение качества демонстрационных материалов-иллюстраций, возможности показа видеофрагментов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4788000" y="0"/>
            <a:ext cx="2879640" cy="1413000"/>
          </a:xfrm>
          <a:prstGeom prst="wedgeEllipseCallout">
            <a:avLst>
              <a:gd name="adj1" fmla="val -66208"/>
              <a:gd name="adj2" fmla="val 8247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расширение профессиональных контактов педагогов и повышению качества обучения дете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5" descr="11.png"/>
          <p:cNvPicPr/>
          <p:nvPr/>
        </p:nvPicPr>
        <p:blipFill>
          <a:blip r:embed="rId1"/>
          <a:stretch/>
        </p:blipFill>
        <p:spPr>
          <a:xfrm>
            <a:off x="539640" y="476280"/>
            <a:ext cx="73454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одержимое 3" descr="22.png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33300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омпьютер развивает множество интеллектуальных навыков. Но нельзя забывать о норме. Всякое лекарство становится ядом если принято в неразумных дозах. Как и любые занятия, занятия с ИКТ требуют времени, правильного их использования, терпения и внимания со стороны педагог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зация образования открывает педагогам новые возможности для широкого внедрения в педагогическую практику новых методических разработок, направленных на интенсификацию и реализацию инновационных идей воспитательного, образовательного и коррекционного процессов. В последнее время информационно-коммуникационные технологии (ИКТ) – хороший помощник педагогам в организации воспитательно-образовательной и коррекционной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информационных технологий в образовании дает возможность существенно обогатить, качественно обновить воспитательно-образовательный процесс в ДОУ и повысить его эффектив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Если сегодня мы будем учить так, как учили вчера, мы украдем у наших детей завтра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жон Дьюи, американский педаг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1571400"/>
            <a:ext cx="83296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262673"/>
                </a:solidFill>
                <a:latin typeface="Times New Roman"/>
              </a:rPr>
              <a:t>Мы живем в XXI веке, в условиях стремительного  роста информационного потока, развития  новых информационных технологий. Компьютеризация проникла практически во все сферы жизни и деятельности современного человека.  Поэтому внедрение компьютерных технологий в образование – логичный и необходимый шаг в развитии современного информационного мира в целом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" descr="C:\Users\К\Desktop\fl1589.jpg"/>
          <p:cNvPicPr/>
          <p:nvPr/>
        </p:nvPicPr>
        <p:blipFill>
          <a:blip r:embed="rId1"/>
          <a:stretch/>
        </p:blipFill>
        <p:spPr>
          <a:xfrm>
            <a:off x="142920" y="214200"/>
            <a:ext cx="1898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Times New Roman"/>
              </a:rPr>
              <a:t>Что же такое ИК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500040"/>
            <a:ext cx="89298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</a:rPr>
              <a:t>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онно – коммуникационные технологии в образовании (ИКТ)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 – это комплекс учебно – 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), а также для образования (развития, диагностики, коррекции)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онно – коммуникативные технологии (ИКТ)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эта технологии доступа к различным информационным источникам (электронным, печатным, инструментальным, людским ) и инструментам совместной деятельности, направленная на получение конкретного результ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совокупность каких – либо данных,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Коммуникац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путь сообщения, форма связи, акт общения, сообщение информации одним лицом другому или ряду ли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Технолог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совокупность методов и инструментов для достижения желаемого результата, метод преобразования данного в необходи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Современное общество, развивающееся на базе использования новых информационно-технических средств, предъявляет все большие требования к информатизации и в дошкольных образовательных учреждениях. Информационно-коммуникационные технологии стали активно применяться в ДОУ.   Нормативно-правовой базой для этого процесса является ряд нормативных документов. Вот некоторые из них:</a:t>
            </a:r>
            <a:br>
              <a:rPr sz="2400"/>
            </a:b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26267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400" spc="-1" strike="noStrike" baseline="-25000">
                <a:solidFill>
                  <a:srgbClr val="262673"/>
                </a:solidFill>
                <a:latin typeface="Times New Roman"/>
              </a:rPr>
              <a:t>Нормативные документ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*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Федеральный закон "Об образовании в Российской Федерации" от 29 декабря 2012 г. N273-Ф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«Федеральный государственный образовательный стандарт дошкольного образования» от 17 октября 2013 г. 11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"Санитарно эпидемиологические требования к устройству, содержанию и организации режима работы дошкольных образовательных организаций" "СанПиН 2.4.1.3049-13 от 15 мая 2013 г. N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«Гигиенические требования к персональным электронно- вычислительным машинам и организации работы» «Санитарно-эпидемиологические правила и нормативы» Сан ПиН 2.2.2/2.4.1340-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Инструктивно-методическое письмо "О гигиенических требованиях к максимальной нагрузке на детей дошкольного возрасте в организованных формах обучения" Минобразования России от 14.03.2000 N 65/23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Профессиональный стандарт «Педагог (педагогическая деятельность в дошкольном, начальном общем, основном общем, среднем общем образовании) (воспитатель, учитель)» от 18 октября 2013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5" descr=""/>
          <p:cNvPicPr/>
          <p:nvPr/>
        </p:nvPicPr>
        <p:blipFill>
          <a:blip r:embed="rId1"/>
          <a:stretch/>
        </p:blipFill>
        <p:spPr>
          <a:xfrm>
            <a:off x="701640" y="281160"/>
            <a:ext cx="8131320" cy="208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642960" y="2500200"/>
          <a:ext cx="8001000" cy="371484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714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Федеральный закон   "Об образовании в Российской Федерации"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16.«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Под электронным обучением понимается организация образовательной деятельности с применением информационных  технологий,  технических средств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а  также информационно-телекоммуникационных сетей…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18. 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«В организациях, осуществляющих образовательную  деятельность,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целях  обеспечения  реализации  образовательных  программ  формируютс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библиотеки, в том числе цифровые (электронные) библиотеки…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29.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 Образовательные организации формируют открытые  и общедоступные информационные ресурсы, содержащие  информацию  об  их деятельности, и обеспечивают  доступ  к таким  ресурсам  посредством размещения их в информационно-телекоммуникационных сетях, в  том  числе  на официальном сайте образовательной организации в сети "Интернет"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572160" cy="1071720"/>
          </a:xfrm>
          <a:prstGeom prst="rect">
            <a:avLst/>
          </a:prstGeom>
          <a:solidFill>
            <a:srgbClr val="f2f2f2"/>
          </a:solidFill>
          <a:ln w="9360">
            <a:solidFill>
              <a:srgbClr val="3c8c9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i="1" lang="ru-RU" sz="3200" spc="-1" strike="noStrike" baseline="30000">
                <a:solidFill>
                  <a:srgbClr val="19194d"/>
                </a:solidFill>
                <a:latin typeface="Times New Roman"/>
              </a:rPr>
              <a:t>В «Федеральном государственном образовательном стандарте дошкольного образования» </a:t>
            </a:r>
            <a:r>
              <a:rPr b="1" i="1" lang="ru-RU" sz="3200" spc="-1" strike="noStrike" u="sng" baseline="30000">
                <a:solidFill>
                  <a:srgbClr val="19194d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 u="sng" baseline="30000">
                <a:solidFill>
                  <a:srgbClr val="19194d"/>
                </a:solidFill>
                <a:uFillTx/>
                <a:latin typeface="Times New Roman"/>
              </a:rPr>
              <a:t>отражены требования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4" descr=""/>
          <p:cNvPicPr/>
          <p:nvPr/>
        </p:nvPicPr>
        <p:blipFill>
          <a:blip r:embed="rId1"/>
          <a:stretch/>
        </p:blipFill>
        <p:spPr>
          <a:xfrm>
            <a:off x="360360" y="1249200"/>
            <a:ext cx="8418600" cy="495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К\Desktop\0ab9868f2f121547b5e9aa17c02838b5.jpg"/>
          <p:cNvPicPr/>
          <p:nvPr/>
        </p:nvPicPr>
        <p:blipFill>
          <a:blip r:embed="rId2"/>
          <a:stretch/>
        </p:blipFill>
        <p:spPr>
          <a:xfrm>
            <a:off x="0" y="214200"/>
            <a:ext cx="1714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</a:rPr>
              <a:t>ФГОС 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80960" y="987480"/>
            <a:ext cx="82663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нформатизация системы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ъявля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овые треб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временному педагог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профессиональной компетентности. В частности, к коммуникативной, предполагающей способность успешно выстраивать коммуникации в различных форматах: устной, визуальной, компьютерной, электро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c1c1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1e4649"/>
                </a:solidFill>
                <a:latin typeface="Times New Roman"/>
              </a:rPr>
              <a:t>В </a:t>
            </a:r>
            <a:r>
              <a:rPr b="1" i="1" lang="ru-RU" sz="2000" spc="-1" strike="noStrike" u="sng">
                <a:solidFill>
                  <a:srgbClr val="1e4649"/>
                </a:solidFill>
                <a:uFillTx/>
                <a:latin typeface="Times New Roman"/>
              </a:rPr>
              <a:t>Профессиональном стандарте «Педагог </a:t>
            </a:r>
            <a:r>
              <a:rPr b="1" i="1" lang="ru-RU" sz="2000" spc="-1" strike="noStrike">
                <a:solidFill>
                  <a:srgbClr val="1e4649"/>
                </a:solidFill>
                <a:latin typeface="Times New Roman"/>
              </a:rPr>
              <a:t>(педагогическая деятельность в дошкольном, начальном общем, основном общем, среднем общем образовании) (воспитатель, учитель)  определены требования к педагога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e46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4649"/>
                </a:solidFill>
                <a:latin typeface="Times New Roman"/>
              </a:rPr>
              <a:t>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e46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4649"/>
                </a:solidFill>
                <a:latin typeface="Times New Roman"/>
              </a:rPr>
              <a:t>Выстраивать партнерское взаимодействие с родителями (законными представителями) детей раннего и дошкольного возраста для решения образовательных задач, использовать методы и средства для их психолого-педагогического просвещ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группа 8(10)</cp:lastModifiedBy>
  <dcterms:modified xsi:type="dcterms:W3CDTF">2019-05-16T06:18:46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910000000000010243100207f6000400038000</vt:lpwstr>
  </property>
</Properties>
</file>