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16B-085B-4700-A12F-B65E3365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432-AD98-4DB1-A6B8-316CD836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FDF-8C0E-4B05-83DB-458B9E1D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B0F-AD29-44CA-AC60-8EE2038E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BB7-D6B4-4ECF-AF71-E6CC1ACF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9AF-7A18-4DEE-AAF3-703D7EBC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274-C5C3-4848-BB0D-48D89D53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37B-A545-4F75-87C2-C4ED7AC7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673-DE42-479E-A56B-D4DEFD45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337-995D-496B-8B5D-2485CB7F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E61-CCD8-4A53-BCBA-4EBC4B23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802-114E-4B3C-A843-067D0654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7A746-D350-408D-8459-28AF2E5F4A0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8692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Школа России»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УМК для 1-4 классов общеобразовательных учреждений, которая обеспечивает достижение требований к результатам освоения основной образовательной программы начального общего образова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верждена приказом Министерства образования и науки Российской Федерации от «6» октября 2009 г.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2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УМК «Школа России» Андрей Анатольевич ПЛЕША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9700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0" y="1144440"/>
            <a:ext cx="5743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  Анатольевич  Плеша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 педагогических  наук, лауреат Премии   Президента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  Федерации  в  области   образования,  один  из   постоянных авторов журнала «Начальная школа», член редколлегии и редакционного совета журнала. Известный автор учебников, рабочих тетрадей, тестов и других пособий по курсу «Окружающий  ми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1072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Главная идея комплект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кола России должна стать школой духовно-нравственного развит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В основу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я образовательной модели «Школа России» положены традиции отечественной школы с признанием их исключительной ценности и значим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 обучения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16000" y="1267920"/>
            <a:ext cx="403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регулирование различных аспектов освоения метапредметных умений, т.е. способов деятельности, применимых в рамках, как образовательного процесса, так и при решении проблем в реальных жизненных ситуация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395280" y="1300320"/>
            <a:ext cx="432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9520" y="87480"/>
            <a:ext cx="803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952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 algn="just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результатов учащихся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 algn="just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 algn="just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мотивации  к обучению и познанию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 algn="just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и принятие основных базовых ценнос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2360" y="188640"/>
            <a:ext cx="8804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412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5960" indent="-571680"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 развивающее образование младших школьник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15960" indent="-571680"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о-ориентированное образование младших школьников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15960" indent="-571680" algn="just">
              <a:lnSpc>
                <a:spcPct val="8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-ориентированное образование младших школьников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15960" indent="-571680" algn="just">
              <a:lnSpc>
                <a:spcPct val="140000"/>
              </a:lnSpc>
              <a:spcBef>
                <a:spcPts val="7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адекватное образование младших школьник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15960" indent="-571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196640"/>
            <a:ext cx="78868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воспитания гражданина Росс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ценностных ориентир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обучения в деятель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работы на результа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 синтеза традиций и инноваций в образова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560" y="1052640"/>
            <a:ext cx="85899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ет  традиционные наработки и новейшие достижения по психологии, педагогике, включает в себя элементы развивающего мышл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целостную модель начальной школы, построенную на единых концептуальных основах и имеющее полное программно-методическое обеспеч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реализует Федеральный компонент содержания образования и охватывает все образовательные области, включая такие инновационные для начальной школы, как информатика и иностранный язы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России»- школа духовно нравственного развит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ому комплекту приданы такие качества, как фундаментальность, надежность, стабильность, открытость новому, которые должны стать неотъемлемыми характеристиками начальной шко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обучения, развитие личности каждого ребенка, снятие стрессообразующих факторов учебного процес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611280" y="189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а 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45:32Z</dcterms:created>
  <dc:creator>Алексей Хвароща</dc:creator>
  <dc:description/>
  <dc:language>en-US</dc:language>
  <cp:lastModifiedBy>User</cp:lastModifiedBy>
  <dcterms:modified xsi:type="dcterms:W3CDTF">2019-05-16T13:39:33Z</dcterms:modified>
  <cp:revision>23</cp:revision>
  <dc:subject/>
  <dc:title>Слайд 1</dc:title>
</cp:coreProperties>
</file>