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4AF5B-C8A1-427B-B12E-489F487F9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74129-EA62-447F-9E6A-B6585643A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656BC-0750-4AA6-93E5-905824744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B47F2-1E48-4A11-BF12-0615D5E1B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D619C-682C-4681-9E1E-E0C71DFD7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4BC96-5445-4FB2-A6E9-E4F735FC6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305C7-066D-4303-AF2F-DEC33852C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AA00A-31ED-43C6-9287-0DED984E9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2A960-1947-4F7A-9994-B1B70297A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7DF9C-175B-469A-826C-F2A1B8F64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EA965-7307-4336-9600-6B5415F6D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B3B30-1F55-48B3-AB81-0E0037427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E0C16E6-98A7-41AC-9369-6F58C63A2E88}" type="slidenum">
              <a:rPr b="0" lang="ru-RU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8920" y="286920"/>
            <a:ext cx="87138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рамма «Школа России» 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323640" y="1267920"/>
            <a:ext cx="85690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 algn="just">
              <a:lnSpc>
                <a:spcPct val="90000"/>
              </a:lnSpc>
              <a:spcBef>
                <a:spcPts val="751"/>
              </a:spcBef>
              <a:buClr>
                <a:srgbClr val="404040"/>
              </a:buClr>
              <a:buFont typeface="Times New Roman"/>
              <a:buChar char="-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это УМК для 1-4 классов общеобразовательных учреждений, которая обеспечивает достижение требований к результатам освоения основной образовательной программы начального общего образования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just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Times New Roman"/>
              <a:buChar char="-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тверждена приказом Министерства образования и науки Российской Федерации от «6» октября 2009 г. </a:t>
            </a: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982000" cy="134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учный руководитель УМК «Школа России» Андрей Анатольевич ПЛЕШАКОВ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6012000" y="1341360"/>
            <a:ext cx="2970000" cy="4525920"/>
          </a:xfrm>
          <a:prstGeom prst="rect">
            <a:avLst/>
          </a:prstGeom>
          <a:ln w="0">
            <a:noFill/>
          </a:ln>
        </p:spPr>
      </p:pic>
      <p:sp>
        <p:nvSpPr>
          <p:cNvPr id="45" name="TextBox 3"/>
          <p:cNvSpPr/>
          <p:nvPr/>
        </p:nvSpPr>
        <p:spPr>
          <a:xfrm>
            <a:off x="0" y="1144440"/>
            <a:ext cx="574344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дрей   Анатольевич  Плешаков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ндидат  педагогических  наук, лауреат Премии   Президента 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ссийской   Федерации  в  области   образования,  один  из   постоянных авторов журнала «Начальная школа», член редколлегии и редакционного совета журнала. Известный автор учебников, рабочих тетрадей, тестов и других пособий по курсу «Окружающий  мир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10720" y="259920"/>
            <a:ext cx="75438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цепция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68360" y="907920"/>
            <a:ext cx="8229600" cy="495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3600" spc="-1" strike="noStrike">
                <a:solidFill>
                  <a:srgbClr val="548235"/>
                </a:solidFill>
                <a:latin typeface="Times New Roman"/>
                <a:ea typeface="Times New Roman"/>
              </a:rPr>
              <a:t>Главная идея комплекта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школа России должна стать школой духовно-нравственного развития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3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1" lang="ru-RU" sz="3600" spc="-1" strike="noStrike">
                <a:solidFill>
                  <a:srgbClr val="548235"/>
                </a:solidFill>
                <a:latin typeface="Times New Roman"/>
                <a:ea typeface="Times New Roman"/>
              </a:rPr>
              <a:t>В основу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ния образовательной модели «Школа России» положены традиции отечественной школы с признанием их исключительной ценности и значимости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4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Цель обучения: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716000" y="1267920"/>
            <a:ext cx="40323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 algn="ctr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еспечить регулирование различных аспектов освоения метапредметных умений, т.е. способов деятельности, применимых в рамках, как образовательного процесса, так и при решении проблем в реальных жизненных ситуациях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Рисунок 1" descr=""/>
          <p:cNvPicPr/>
          <p:nvPr/>
        </p:nvPicPr>
        <p:blipFill>
          <a:blip r:embed="rId1"/>
          <a:stretch/>
        </p:blipFill>
        <p:spPr>
          <a:xfrm>
            <a:off x="395280" y="1300320"/>
            <a:ext cx="432108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79520" y="87480"/>
            <a:ext cx="803592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4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Задачи: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79520" y="14130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58720" indent="-514440" algn="just">
              <a:lnSpc>
                <a:spcPct val="90000"/>
              </a:lnSpc>
              <a:spcBef>
                <a:spcPts val="75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стижение личностных результатов учащихся;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58720" indent="-514440" algn="just">
              <a:lnSpc>
                <a:spcPct val="90000"/>
              </a:lnSpc>
              <a:spcBef>
                <a:spcPts val="75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товность и способность обучающихся к саморазвитию;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58720" indent="-514440" algn="just">
              <a:lnSpc>
                <a:spcPct val="90000"/>
              </a:lnSpc>
              <a:spcBef>
                <a:spcPts val="75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формированность мотивации  к обучению и познанию;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58720" indent="-514440" algn="just">
              <a:lnSpc>
                <a:spcPct val="90000"/>
              </a:lnSpc>
              <a:spcBef>
                <a:spcPts val="75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мысление и принятие основных базовых ценностей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58720" indent="-5144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52360" y="188640"/>
            <a:ext cx="880416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br>
              <a:rPr sz="3000"/>
            </a:b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енности: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539640" y="1412640"/>
            <a:ext cx="8229600" cy="49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15960" indent="-571680" algn="just">
              <a:lnSpc>
                <a:spcPct val="80000"/>
              </a:lnSpc>
              <a:spcBef>
                <a:spcPts val="75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чностно развивающее образование младших школьников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615960" indent="-571680" algn="just">
              <a:lnSpc>
                <a:spcPct val="80000"/>
              </a:lnSpc>
              <a:spcBef>
                <a:spcPts val="75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жданско-ориентированное образование младших школьников;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615960" indent="-571680" algn="just">
              <a:lnSpc>
                <a:spcPct val="80000"/>
              </a:lnSpc>
              <a:spcBef>
                <a:spcPts val="75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обально-ориентированное образование младших школьников;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615960" indent="-571680" algn="just">
              <a:lnSpc>
                <a:spcPct val="140000"/>
              </a:lnSpc>
              <a:spcBef>
                <a:spcPts val="75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оадекватное образование младших школьников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615960" indent="-5716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4680"/>
            <a:ext cx="7886880" cy="83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ципы: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28560" y="1196640"/>
            <a:ext cx="7886880" cy="497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принцип воспитания гражданина России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принцип ценностных ориентиров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принцип обучения в деятельности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принцип работы на результат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принцип синтеза традиций и инноваций в образовании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250560" y="1052640"/>
            <a:ext cx="858996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 algn="just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четает  традиционные наработки и новейшие достижения по психологии, педагогике, включает в себя элементы развивающего мышления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just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ставляет собой целостную модель начальной школы, построенную на единых концептуальных основах и имеющее полное программно-методическое обеспечение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just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т реализует Федеральный компонент содержания образования и охватывает все образовательные области, включая такие инновационные для начальной школы, как информатика и иностранный язык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just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Школа России»- школа духовно нравственного развития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just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бно-методическому комплекту приданы такие качества, как фундаментальность, надежность, стабильность, открытость новому, которые должны стать неотъемлемыми характеристиками начальной школы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just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фференциация обучения, развитие личности каждого ребенка, снятие стрессообразующих факторов учебного процесса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Box 3"/>
          <p:cNvSpPr/>
          <p:nvPr/>
        </p:nvSpPr>
        <p:spPr>
          <a:xfrm>
            <a:off x="611280" y="189000"/>
            <a:ext cx="8229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ограмма «Школа России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1T17:45:32Z</dcterms:created>
  <dc:creator>Алексей Хвароща</dc:creator>
  <dc:description/>
  <dc:language>en-US</dc:language>
  <cp:lastModifiedBy>User</cp:lastModifiedBy>
  <dcterms:modified xsi:type="dcterms:W3CDTF">2019-05-16T13:39:33Z</dcterms:modified>
  <cp:revision>23</cp:revision>
  <dc:subject/>
  <dc:title>Слайд 1</dc:title>
</cp:coreProperties>
</file>