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046-63DE-45E3-BAED-D0182940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7A7-4248-4E99-8AE6-0F6266D3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565-D9A6-4B6F-B420-2E3C901B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DD0-C674-44C4-9024-7FD0354F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D12-AAFF-4703-9345-13FFC673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2DC-465D-46E4-A469-736385A5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18B-CB78-461E-A13E-41ACDF81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5DF-43D6-42DB-B7B8-BE82A8D8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C65-D6F9-40AD-976C-064F84E7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265-E6D5-491A-B0B4-2B07A2D3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19D-F481-4F71-9D65-F2D215A1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5678-5B6A-42DF-AE3B-F2809940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307C-464C-4463-8653-5D34C03914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8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628880" y="1825200"/>
            <a:ext cx="6724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«Учитесь тайны открывать!»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58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720" y="528480"/>
            <a:ext cx="69246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Тема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0" y="1825200"/>
            <a:ext cx="6352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Местоимение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8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43200" y="365040"/>
            <a:ext cx="8610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 Light"/>
              </a:rPr>
              <a:t>Цели: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86280" y="1825200"/>
            <a:ext cx="820584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знать, что такое местоимение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меть употреблять местоимение в реч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8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886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лгоритм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Почему эта часть речи так называет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Для чего используется местоиме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Назовите местоим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88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28880" y="1825200"/>
            <a:ext cx="6724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«Учитесь тайны открывать!»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88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742920" y="279000"/>
            <a:ext cx="844884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годня на уроке мне был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ым сложным для меня было 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ьше всего мне понравилось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8T08:05:40Z</dcterms:created>
  <dc:creator>Венера Шарафутдинова</dc:creator>
  <dc:description/>
  <dc:language>en-US</dc:language>
  <cp:lastModifiedBy>Венера Шарафутдинова</cp:lastModifiedBy>
  <dcterms:modified xsi:type="dcterms:W3CDTF">2018-04-08T08:14:55Z</dcterms:modified>
  <cp:revision>1</cp:revision>
  <dc:subject/>
  <dc:title>Презентация PowerPoint</dc:title>
</cp:coreProperties>
</file>