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8DE-110F-4DEF-97AA-5B67A4E9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51F-9C60-4A35-835D-1BCE7329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67AB-855D-4D67-B09B-0CF8F500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4DD-CFEE-4959-98A4-E345C050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E7D-102F-4FE6-8A4E-25E3B056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2A12-3E33-41A7-A420-F9153FE6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02E-BC91-41FE-9D39-B0213FA7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AA0-4E9D-4D11-B095-684C6E96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A21-61F7-47E8-BC49-90AF4C49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E823-8C66-4B55-A27A-CBD74D01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D88F-0630-4AAD-BA42-B6AF231E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556-7091-4BFC-8483-9EE46868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191D-888A-43E9-91CE-D56E14D17B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88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628880" y="1825200"/>
            <a:ext cx="6724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«Учитесь тайны открывать!»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58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28720" y="528480"/>
            <a:ext cx="69246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Тема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400" y="1825200"/>
            <a:ext cx="6352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Местоимение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8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43200" y="365040"/>
            <a:ext cx="8610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 Light"/>
              </a:rPr>
              <a:t>Цели: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86280" y="1825200"/>
            <a:ext cx="820584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знать, что такое местоимение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меть употреблять местоимение в реч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8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88620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лгоритм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Почему эта часть речи так называет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Для чего используется местоиме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Назовите местоим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88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28880" y="1825200"/>
            <a:ext cx="6724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«Учитесь тайны открывать!»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88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742920" y="279000"/>
            <a:ext cx="844884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годня на уроке мне был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ым сложным для меня было 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льше всего мне понравилось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8T08:05:40Z</dcterms:created>
  <dc:creator>Венера Шарафутдинова</dc:creator>
  <dc:description/>
  <dc:language>en-US</dc:language>
  <cp:lastModifiedBy>Венера Шарафутдинова</cp:lastModifiedBy>
  <dcterms:modified xsi:type="dcterms:W3CDTF">2018-04-08T08:14:55Z</dcterms:modified>
  <cp:revision>1</cp:revision>
  <dc:subject/>
  <dc:title>Презентация PowerPoint</dc:title>
</cp:coreProperties>
</file>