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A1D-07AD-4BF6-AA0D-CB940B05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135-7A4A-45A9-8AD5-01A036F1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D3F-B334-4339-A7CF-967E9FD1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39E-CE94-431C-943A-B95FC289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3DBC-347E-4DFE-A02A-6A317ECB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7D8-D35C-4FAD-8144-BD987AD5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B37C-D882-49D0-AE79-910FCD8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4D82-435F-41E1-8F9A-833C4D4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90E2-D49C-419E-95FD-42FE468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BEDC-302B-45DC-A38F-B252E7E9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078-2110-420A-9520-99FCF7B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C52-82A6-4985-B3EA-C36CFA1C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0FE6-930A-41D7-9395-FFF96A3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B73-7D4C-473E-AB5A-984C67E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9E8C-FE75-41A8-B1B5-312B6D39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661-A530-4C91-BD8C-100D7455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3541-A34B-48FC-B23A-0156E31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5E34-1515-4B48-AC86-3B5F6E3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2067-E2B9-413B-8C05-1D580CD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F7A9-968B-4CD5-A50E-DE347939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7B1E-CEA5-46C4-952C-414BC7E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D152-383A-4E9D-A2A5-DE71794D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753-336A-47C7-895A-CA4F070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44C6-6557-4A03-9973-946EFA3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E8C4-5EB1-4B37-9BFC-A27674A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FCA84-F4E0-4A50-9340-DFC5DCB2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1AE1E-349B-4D2B-A08B-AE46647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4227-0699-4B9C-A8ED-D0749E7D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F8A9-E5D4-4232-929D-3FF4F1F2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6880-77AD-4114-82AF-9A47A74B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C5E-06D2-485D-A347-0809A92C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E66-257D-45A7-A96F-C7065C97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049-5A5A-4ABF-A864-BB912F8C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C97-D698-4C7B-9339-A755559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5D1-4AAC-4D01-AAC3-ECC6A92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D24-A84C-4C1C-B4C6-3DFDB0A1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C40-FC4B-45B9-940A-4DD138D8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BFA9-456E-4C95-AABB-1A51F92E87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F282-0374-459F-B25B-DE0A664D8C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00080" y="1571760"/>
            <a:ext cx="7715160" cy="33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2143080" y="285840"/>
            <a:ext cx="471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971640" y="20224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71640" y="24541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974160" y="3030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74160" y="356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998280" y="4110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993240" y="4637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961920" y="5143680"/>
            <a:ext cx="81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74160" y="5722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19280" y="1341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Poor Richard"/>
              </a:rPr>
              <a:t>Основные причины травмат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2"/>
          <p:cNvSpPr/>
          <p:nvPr/>
        </p:nvSpPr>
        <p:spPr>
          <a:xfrm>
            <a:off x="468360" y="20224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3"/>
          <p:cNvSpPr/>
          <p:nvPr/>
        </p:nvSpPr>
        <p:spPr>
          <a:xfrm>
            <a:off x="468360" y="25257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4"/>
          <p:cNvSpPr/>
          <p:nvPr/>
        </p:nvSpPr>
        <p:spPr>
          <a:xfrm>
            <a:off x="468360" y="30304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5"/>
          <p:cNvSpPr/>
          <p:nvPr/>
        </p:nvSpPr>
        <p:spPr>
          <a:xfrm>
            <a:off x="468360" y="356220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468360" y="411012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7"/>
          <p:cNvSpPr/>
          <p:nvPr/>
        </p:nvSpPr>
        <p:spPr>
          <a:xfrm>
            <a:off x="468360" y="46371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8"/>
          <p:cNvSpPr/>
          <p:nvPr/>
        </p:nvSpPr>
        <p:spPr>
          <a:xfrm>
            <a:off x="468360" y="519120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9"/>
          <p:cNvSpPr/>
          <p:nvPr/>
        </p:nvSpPr>
        <p:spPr>
          <a:xfrm>
            <a:off x="468360" y="572292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1118880" y="256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-321120" y="1341360"/>
            <a:ext cx="9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oor Richard"/>
              </a:rPr>
              <a:t>Определить порядок оказания первой помощи при перело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118880" y="3284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118880" y="4005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1118880" y="4724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468360" y="256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>
            <a:off x="468360" y="328464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5"/>
          <p:cNvSpPr/>
          <p:nvPr/>
        </p:nvSpPr>
        <p:spPr>
          <a:xfrm>
            <a:off x="468360" y="4005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6"/>
          <p:cNvSpPr/>
          <p:nvPr/>
        </p:nvSpPr>
        <p:spPr>
          <a:xfrm>
            <a:off x="468360" y="47242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en-US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Андрей</cp:lastModifiedBy>
  <dcterms:modified xsi:type="dcterms:W3CDTF">2018-03-29T17:29:21Z</dcterms:modified>
  <cp:revision>9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