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3ED-FE80-4E97-B43F-4D51052A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75C-A4F2-425F-AD04-7EF0F2A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204-127B-42AC-9F67-04F25D6F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C54-1CCE-41AA-B121-24F0E4DE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DEE-31CE-4EE3-888B-10067905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DE84-27B9-4BEF-8F00-39F4B4CC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77D-A6C9-4F2C-A3C9-053CA5A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5382-1736-4B54-9357-40ED442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017-BA24-4611-83D6-1C1751E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47FA-9DC7-4AD3-8B66-582AB56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A7C-A9A3-4EA2-AEE8-8509BDD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504-B54E-419C-97A9-FC256B5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F84F-A34F-463B-A7ED-870D24F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7DB8-DFDC-4880-813A-0AE6430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A68-8E5B-49F3-9ACA-CDC96CEA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9AB2-4B86-4622-B835-BE8E1477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DE7C-1093-4B5C-9B1C-D44EC621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41C0-9FDB-4640-BDDF-AAF1B89B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F020-317D-44B2-B29E-4C1AC3E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60CD-776E-4C52-A883-DB3F786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8529-4057-4F76-87AD-416286E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2310-6B49-4881-BE51-4197113E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257-4EA0-48B8-9DB1-E9BA268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09D9-7691-421C-BB56-BB008B0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12CA-EA01-47D4-BE32-25A4097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2F0C-E54C-4EF1-AF1A-B965EB4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FF4C-3EEF-4207-B050-F6E7F9C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1516-D24F-4908-A17A-E5FE1CB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BFCB-7998-4B6A-9FE8-AE407F8A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3233-D1FA-4851-9B2A-C24AD399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0AE-1CE8-4441-89B3-8613D80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3A9-04BD-476B-9DD1-3BDB557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CD7-E1EE-496B-9D19-3131A5D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BA2-D0E4-424C-B956-44DCD80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78B-C28E-44A1-B9A5-EFCB222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B9F-835B-4A68-890D-8235CEF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B024-B167-400E-B29D-298FB8796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101-6D84-4AD5-89C4-062D4B0EDE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009-EA8F-4C6D-91F3-C416052C3B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00080" y="1571760"/>
            <a:ext cx="7715160" cy="33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2143080" y="285840"/>
            <a:ext cx="471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971640" y="20224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71640" y="24541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974160" y="3030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74160" y="356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998280" y="4110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993240" y="463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961920" y="5143680"/>
            <a:ext cx="81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74160" y="5722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19280" y="1341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oor Richard"/>
              </a:rPr>
              <a:t>Основные причины травмат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2"/>
          <p:cNvSpPr/>
          <p:nvPr/>
        </p:nvSpPr>
        <p:spPr>
          <a:xfrm>
            <a:off x="468360" y="20224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468360" y="25257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4"/>
          <p:cNvSpPr/>
          <p:nvPr/>
        </p:nvSpPr>
        <p:spPr>
          <a:xfrm>
            <a:off x="468360" y="30304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5"/>
          <p:cNvSpPr/>
          <p:nvPr/>
        </p:nvSpPr>
        <p:spPr>
          <a:xfrm>
            <a:off x="468360" y="356220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468360" y="411012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7"/>
          <p:cNvSpPr/>
          <p:nvPr/>
        </p:nvSpPr>
        <p:spPr>
          <a:xfrm>
            <a:off x="468360" y="46371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8"/>
          <p:cNvSpPr/>
          <p:nvPr/>
        </p:nvSpPr>
        <p:spPr>
          <a:xfrm>
            <a:off x="468360" y="519120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468360" y="57229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1118880" y="256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-321120" y="1341360"/>
            <a:ext cx="9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oor Richard"/>
              </a:rPr>
              <a:t>Определить порядок оказания первой помощи при перело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18880" y="328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118880" y="400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118880" y="4724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468360" y="256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>
            <a:off x="468360" y="328464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5"/>
          <p:cNvSpPr/>
          <p:nvPr/>
        </p:nvSpPr>
        <p:spPr>
          <a:xfrm>
            <a:off x="468360" y="4005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6"/>
          <p:cNvSpPr/>
          <p:nvPr/>
        </p:nvSpPr>
        <p:spPr>
          <a:xfrm>
            <a:off x="468360" y="47242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Андрей</cp:lastModifiedBy>
  <dcterms:modified xsi:type="dcterms:W3CDTF">2018-03-29T17:29:21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