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5107-273F-4813-8271-E40E834B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B6D-9383-4498-A3F5-F66E7448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EFC-13F9-47CE-99E8-C3DCCA92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DA0-A7BB-46AB-B717-CF4524A7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C11-0E56-40E1-8D32-9E27C34C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E8E-9F8F-4492-8BA2-87128380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D5D-4049-4A8E-AAA3-38E2613A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06C-6439-4112-BF3C-1E87B218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33C-36D6-4CE4-91DD-0C9ED71D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570-09FA-493A-A25D-4AF1C3FD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FF7-2E12-4DDA-9441-F757CBD5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18C-DE2C-413A-AF56-58AF554F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4F2D-1EA0-43C6-8DBA-6BA27B44CD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80" y="-360"/>
            <a:ext cx="915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611280" y="155736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ая площадка»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выполнять изделие «качалка»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ккуратность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амостоятельность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законченность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авильность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ригинальность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Т. с.14.№2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1T09:56:24Z</dcterms:created>
  <dc:creator>Венера</dc:creator>
  <dc:description/>
  <dc:language>en-US</dc:language>
  <cp:lastModifiedBy>Венера</cp:lastModifiedBy>
  <dcterms:modified xsi:type="dcterms:W3CDTF">2018-10-01T15:02:10Z</dcterms:modified>
  <cp:revision>3</cp:revision>
  <dc:subject/>
  <dc:title>Тема:</dc:title>
</cp:coreProperties>
</file>