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912-7F7E-455C-8E99-66FB0A08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F05-F4F0-4936-8A3C-EB4BE6C0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CB8-CA0A-4C30-A004-956DEED7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C6E-3C11-43DA-8306-0D1F4525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A8B-0A43-4053-AE50-384EC9AF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F75-462A-49A2-ACC5-D2B67D4E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9A1-0812-4991-921C-7AC12187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10B-56E3-4EA6-8E0D-E09C69F1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699-7298-42C9-B5CE-DDCDCE96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8D3-BCB8-481A-B429-41227BF9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6F0-5FD6-419A-B46F-F7AA0AC9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02B-71F3-4BC7-BD9D-C95CEFAC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A5AF-7763-48B9-9578-2BF3FD292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-360"/>
            <a:ext cx="915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611280" y="155736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ая площадка»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выполнять изделие «качалка»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ккуратность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амостоятельность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законченность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авильность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ригинальность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Т. с.14.№2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1T09:56:24Z</dcterms:created>
  <dc:creator>Венера</dc:creator>
  <dc:description/>
  <dc:language>en-US</dc:language>
  <cp:lastModifiedBy>Венера</cp:lastModifiedBy>
  <dcterms:modified xsi:type="dcterms:W3CDTF">2018-10-01T15:02:10Z</dcterms:modified>
  <cp:revision>3</cp:revision>
  <dc:subject/>
  <dc:title>Тема:</dc:title>
</cp:coreProperties>
</file>