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D45E-D5F1-40BC-9F6F-5449EAD41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0CAC-DA2D-4D18-A62E-1AA38440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8EED-2BD6-4DBB-A32F-FF89C380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B52E-63BF-4FAA-937D-12D49EC2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6296-A0D5-4871-A736-8885A4CB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22B0-10FA-4478-9CF8-3439BA09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7CE8-8BB6-42D2-B79F-D462A944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EBB4-C76B-4B4F-89C8-308ED490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C65C-82FC-481A-8341-D6A51D2C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75B0-A33A-40C9-961F-A4C5060E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5130-1265-4CB8-96F2-DE0F6344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80CF-7792-4B97-9483-32D2C34A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BD70-E466-4CBD-A6B8-E29DA1AB05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9720" y="-360"/>
            <a:ext cx="1000116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1500120"/>
            <a:ext cx="914400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фетром. «Шов через край»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: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мся со швом «Шов через край»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, что такое «фетр», как материал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 выполнять шов «Шов через край»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6T18:32:45Z</dcterms:created>
  <dc:creator>Венера Шарафутдинова</dc:creator>
  <dc:description/>
  <dc:language>en-US</dc:language>
  <cp:lastModifiedBy>Венера Шарафутдинова</cp:lastModifiedBy>
  <dcterms:modified xsi:type="dcterms:W3CDTF">2018-02-26T18:45:22Z</dcterms:modified>
  <cp:revision>3</cp:revision>
  <dc:subject/>
  <dc:title>Тема:</dc:title>
</cp:coreProperties>
</file>