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703-98F6-4520-BBCB-9F3D0C4F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AAA-AE05-40BC-A412-0CA91706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182-0919-42F5-892C-93D6F007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881-A1AD-4795-93C6-C8DB7D34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59D-76C1-4697-8AA5-F484CC3A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E72-3100-4664-836F-1B204717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402-308F-48C0-956D-79C4D178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E1D-B2CF-4D79-8D2F-FB697A71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4BB-C1B5-4393-9CED-C60B0B4B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0D9-43BA-47A1-883B-1276B106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38F-4E72-49B7-BF6A-BC6F8009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C98-0C9A-4832-9C72-E333B57B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2342-E02F-4A07-A882-0D621F26D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100011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1500120"/>
            <a:ext cx="91440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фетром. «Шов через край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мся со швом «Шов через край»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что такое «фетр», как материал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выполнять шов «Шов через край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6T18:32:45Z</dcterms:created>
  <dc:creator>Венера Шарафутдинова</dc:creator>
  <dc:description/>
  <dc:language>en-US</dc:language>
  <cp:lastModifiedBy>Венера Шарафутдинова</cp:lastModifiedBy>
  <dcterms:modified xsi:type="dcterms:W3CDTF">2018-02-26T18:45:22Z</dcterms:modified>
  <cp:revision>3</cp:revision>
  <dc:subject/>
  <dc:title>Тема:</dc:title>
</cp:coreProperties>
</file>