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2740-FB36-4FA4-B17F-5DE747A87D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818B-BB21-40A4-8F3B-939503FB04F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1520-439D-4482-97D3-5579680A5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7014-E235-474F-9F73-C6333467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0C46-79B9-43D9-AE46-1DD25B89B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2130-412C-4B24-BCF2-823938098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7847-6490-4808-91E3-83367FBE7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D29C9-8890-4705-8EE9-DB870B3D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4144-F603-4729-819D-A702355C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4C3B-059E-4352-878C-7A3F7E22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D8E7-7308-4239-909E-11938344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C2ED-6701-4788-84AD-8C1BFBE3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B226-BEF7-4EB8-949C-149A2CE6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FAF6-6F6E-43EA-A939-C099801E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66A9-E074-426B-911F-D07B5D02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4C30-F20E-48D4-BD1B-DA22D8B3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F621-D5D4-4FAC-B91B-53D2A887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90DE-1508-4A86-BC0C-0A49C90A2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156CB-27EA-4836-B4F3-B25996F3C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D832C-A2BF-4E64-A5BF-5E545C491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8D482-E22D-4D3D-BBFA-32EC4028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EB62A-CE10-4186-8957-1BA17988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E7F23-2095-4439-BAB0-A7CED6A4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D3CDD-87A4-40AE-A041-3FB73A35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6137-93FF-4902-8DDF-ED5286CB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28CDE-5C76-4D0C-B6E8-171500CC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82E13-051B-42CF-9443-08287FCA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C2949-8A75-47BB-9922-D7A75B8D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D71AA-F458-4532-8EBB-5BDE23F1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F9774-9053-4C77-A343-BE953D4E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E4C99-C9A4-432E-ABB9-50812944D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7BE12-6D86-4372-BA15-B44B886C8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6A708-DD2C-46C5-87A1-6E7619308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78BC5-168E-4970-BF4F-D1796BC7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E790E-0414-4892-8495-65BFE582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6057-B34A-43CA-BB16-3D127980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FCE25-3B5F-42AD-AAE4-34B03C4B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8266E-67CA-4309-A232-64BF51A0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950D5-0FDE-4CEF-AFA7-108A909A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5B74B-5CF9-472F-8124-ACE2F25A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EBFAE-C227-4416-91CA-A8AF4186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6EE75-E863-4029-9827-74C1EF56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5C2C7-B4FF-4099-A6B5-B5A73E68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708A9-FDF9-4C22-B155-8573147A8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EB00E-735E-4652-97F3-256E2B8E0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750B5-9405-4206-B190-83FFBFA3A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F2D7-020D-4292-A4D9-83B13E62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1C87C-562B-4FF6-A211-300EC1D7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14DED-7413-4309-B713-A0972871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5097C-321D-4D4C-AB70-B859D63F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AE0E0-73A9-492B-8311-941AC43D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219A9-9FD4-478E-A063-74C29DE2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F3B61-6BAD-4B45-BC52-0BE7B750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5FB6B-B7F4-4149-8EBE-49EFB142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CA15D-32E9-492E-B758-559F1166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2B0D6-BBE5-4176-8359-6AA2A39E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AD801-0799-4F5E-B934-4E7775213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3154-3E23-4F83-A147-9D230C4F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9BCED-7E01-476D-A1B1-B97FB262F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F458E-01CC-4076-BECE-D31AB4844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C7808-A3A4-4DCB-BBF7-91EFFB99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CD22A-A562-4376-B5C0-40FB1684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C3BFB-7788-4652-A047-951EE003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4C292-2C63-4C6B-93E9-0C235AF4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77F25-D690-4E56-806A-F27C657E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763BC-B376-4190-94FA-2C2C8366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A4DC9-9A1D-447E-B20F-70DA2A61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8C3EB-79F8-4370-903E-4ECAA647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6541-9929-4A9C-9FB5-CBEFA910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9C268-6BCC-4965-8EC8-F104F379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5BC95-340C-4FC5-BC03-D119DB8C8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6EA6D-523E-47B0-9E22-D9E2D456F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B10C-3A30-4818-9048-AA25A528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F322-EBCF-4776-9C43-46576F81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C3AA-658E-4AD3-9CB8-4A7B181F70E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B949-693C-4337-AF03-7362A1F26E79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52BF-5507-4131-8125-3C2F78F122ED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C3C3-9FB7-4DB3-AE80-C0E69D036092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5876-B9F1-4A68-8625-BD5854C234F1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16C7-7E2B-4E06-8883-D93E6166A87E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3" descr=""/>
          <p:cNvPicPr/>
          <p:nvPr/>
        </p:nvPicPr>
        <p:blipFill>
          <a:blip r:embed="rId1"/>
          <a:stretch/>
        </p:blipFill>
        <p:spPr>
          <a:xfrm>
            <a:off x="549360" y="1365120"/>
            <a:ext cx="8197920" cy="303552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292360" y="4652640"/>
            <a:ext cx="3429000" cy="17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68000" y="1413000"/>
            <a:ext cx="83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шление начинается с проблемной ситуации.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.Л. Рубинштей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424720" cy="3311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блемное обучени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это обучение, при котором учитель, создавая проблемные ситуации и, организуя деятельность учащихся по решению учебных проблем, обеспечивает оптимальное сочетание их самостоятельной поисковой деятельности с усвоением готовых выводов науки. 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Педагогический словарь)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блемное обучение целесообразно применять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50920" y="1557000"/>
            <a:ext cx="86421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огда содержание учебного материала содержит причинно-следственные связи и зависимости и направлено на формирование понятий, законов и теори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огда ученики подготовлены к проблемному изучению темы и решают задачи на развитие самостоятельности мышления, формирование исследовательских умений, творческого подхода к дел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4103640" cy="629424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779040"/>
            <a:ext cx="2314440" cy="1343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00720" y="142560"/>
            <a:ext cx="4464000" cy="60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.Н. Скаткин выделил три основных вида проблемного обуче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Проблемное изложение зна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Привлечение учащихся к поиску на отдельных этапах изложения зна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Исследовательский метод обуч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Прямоугольник 4"/>
          <p:cNvSpPr/>
          <p:nvPr/>
        </p:nvSpPr>
        <p:spPr>
          <a:xfrm>
            <a:off x="2324520" y="6032520"/>
            <a:ext cx="18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900 - 199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И. Я. Лернер"/>
          <p:cNvPicPr/>
          <p:nvPr/>
        </p:nvPicPr>
        <p:blipFill>
          <a:blip r:embed="rId1"/>
          <a:stretch/>
        </p:blipFill>
        <p:spPr>
          <a:xfrm>
            <a:off x="208080" y="333360"/>
            <a:ext cx="4108320" cy="59040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802800"/>
            <a:ext cx="3200400" cy="73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6ea0b0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26560" y="6093000"/>
            <a:ext cx="3024360" cy="474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.Я. Лернер (1917-1996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00360" y="691920"/>
            <a:ext cx="44211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.Я. Лернер - активный исследователь в области проблемного обучения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ь применения технологии проблемного обучения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научить учащихся идти путем самостоятельных находок и открытий.</a:t>
            </a:r>
            <a:br>
              <a:rPr sz="41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и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Создать условия для приобретения учащимися средств познания и исследования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Повысить познавательную активность в процессе овладения знаниям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Применять дифференцированный и интегрированный подход в учебном и воспитательном процессе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емы создания проблемных ситуаций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95280" y="148428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вести школьников к противоречию и предложить им самим найти способ его разреш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ложить различные точки зрения на один и тот же вопрос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ложить классу рассмотреть явление с различных позиц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будить учащихся делать сравнения, обобщения, выводы из ситуации, сопоставлять фак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вить конкретные вопросы на обобщение, обоснование, конкретизацию, логику, рассуж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ределить проблемные теоретические и практические зад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вить проблемные задачи (например: с недостающими, избыточными или противоречивыми данными, с заведомо допущенными ошибкам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1"/>
          <p:cNvSpPr/>
          <p:nvPr/>
        </p:nvSpPr>
        <p:spPr>
          <a:xfrm>
            <a:off x="469800" y="28584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хнология проблемного обучения имеет следующие преимуще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Box 2"/>
          <p:cNvSpPr/>
          <p:nvPr/>
        </p:nvSpPr>
        <p:spPr>
          <a:xfrm>
            <a:off x="324000" y="1413000"/>
            <a:ext cx="842148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ёт возможности для развития внимания, наблюдательности, активизации мышления, активизации познавательной деятельности;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вает самостоятельность, ответственность, критичность и самокритичность, инициативность, нестандартность мышления;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целена на формирование универсальных учебных действий;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еспечивает прочность приобретаемых знаний, так как они добываются в самостоятельной деятельност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2T19:12:43Z</dcterms:created>
  <dc:creator>lenovo</dc:creator>
  <dc:description/>
  <dc:language>en-US</dc:language>
  <cp:lastModifiedBy>admin</cp:lastModifiedBy>
  <dcterms:modified xsi:type="dcterms:W3CDTF">2019-05-16T18:03:30Z</dcterms:modified>
  <cp:revision>51</cp:revision>
  <dc:subject/>
  <dc:title>Слайд 1</dc:title>
</cp:coreProperties>
</file>