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224B-4F4A-41E0-9E6E-9AF395E394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32C5-CE34-421A-9156-DD5E5F07F1A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A417-67F0-4BA7-BA6E-89FFE6F54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647B-AD1F-46C8-AA3E-7F75AC29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01BA-911B-45F7-B502-CD8D80119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3678-51FF-4BEF-B002-10A696246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6673-674E-4D26-AF17-8750E72B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B91F-3CDA-4E8C-AAC6-1C54C2E7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3D1E-B79F-41F7-9E43-C376BF55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E798-5B74-42CC-AACB-DDD0DC2D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3EC7-B0E3-492A-87DD-3803B32B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FCB7-CB24-4CA3-B16C-67FC5E68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C3B2-46EE-4143-A0C7-3200D3F7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E76B-B4D3-4D3E-A67F-7BC2AAE3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EA42-31C0-474B-99F3-51583406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9E81-7A5F-4CD6-A603-66C89FD2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16B2-A9A3-4400-8751-E428606A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44D1-8A05-4524-801C-856034E43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E4D9-A002-4ADA-917B-5B7E02801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102A4-6816-47F9-9D9E-93E983A00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9A22D-2F31-40BF-9092-687FE7F1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64BCB-BF43-4E0D-92DC-C661E940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23F4F-5E6F-451C-8C29-A4E841C6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DB88C-29BE-4A4A-B446-E68D2D4B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E50E-EE6A-4067-83F8-ED5D4DD6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8F1CE-9954-4C0C-B0E3-EFFDA09A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7C423-6381-44A1-B604-208896B4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C7527-8B79-4103-A188-588977D0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3C474-62ED-404E-8DC5-395E934C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57F98-C179-4DAC-972C-DBE1249F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8CFA2-C1F8-4746-830E-577009A7F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C2579-BBB6-410C-A57D-78632808D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B26A3-E878-45EB-A7B8-09749B4AE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8D69C-BF2C-42FC-BC39-C9E99517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1C9CA-7AB4-4952-AB3B-6A00B833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39DB-3B55-489A-B902-C4B51177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635DC-1B14-4798-9CCA-9008320E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03CC2-8FE9-447D-8705-D61DD1F4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EF86A-AF9C-4700-A8A6-AC46A51B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BD928-70BC-4E94-A504-EDAEC34F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1CFCE-492C-4F18-A7FC-BD6F4EFC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EA642-2D94-4E2A-AB2C-8388D976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623F4-F78C-479F-ABD6-C50C695E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C34D7-587C-44B8-BB59-AEA9AD430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C2A8F-4B3A-4FD0-A282-CED397A8C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39796-90CB-4626-A188-A67A9D96C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92C9-C703-45D0-BDBE-F986D86D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CC3B5-712D-4B96-91A6-546CC93F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DD574-6AD5-4746-A191-AB29CEC4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09EAD-4F3D-4C50-965A-F705DEC9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570A3-C1E7-4A35-8181-02B4049B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1B4A3-C4F8-4061-B08F-61766021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C1A5D-E6CA-4666-9C36-798FA708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7FDC6-9358-4D89-BA6E-118A29B8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4173C-7E23-490F-808F-B0AD039E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9E20B-0D23-4E76-9652-DF44B9DD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6E4FA-A952-485F-ADCF-4B752A226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055D-33F6-45DE-B320-1B8D921E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51F32-07A1-43D6-B3D6-5EFD7E2D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1FFC0-E075-4BCF-88A2-031FEA135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79B0F-47A0-43B7-B0BD-A2F7AA61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FACEA-72B5-4545-9091-B33DE672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5D507-1D1C-46F5-920C-4025B1C2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BFC40-5A22-4EDB-A3F8-2758164D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44608-7086-4D1D-B56A-612883C5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5A34A-EDB6-4AD0-AC59-D68C9AD9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477B9-CDF6-4206-B1AA-8FEB8599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E804C-9BB8-449C-94F2-7AA1CE93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9DD5-5F64-46ED-B188-6E47D139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0C97E-C1CA-44BE-81DF-2AE6C7A5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B9A04-A160-4ADE-B534-D22999AB9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F8EC7-91D5-4E83-B753-7D0875624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193D-62AD-4835-9DE1-F4925717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BFD3-7CC6-484B-A68D-CAC2555F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978B-B2A9-44FB-8B93-ECCB4BB92B7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181A-341D-4A6F-B9CA-13442D640A35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BC19-D105-4939-A56C-DE763D0A683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7F98-3A04-4033-86DD-CA1DA4AF7979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E4CB-D974-4605-A5B9-E204A77306C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34F5-D04F-4E59-9A7A-4682474694B3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3" descr=""/>
          <p:cNvPicPr/>
          <p:nvPr/>
        </p:nvPicPr>
        <p:blipFill>
          <a:blip r:embed="rId1"/>
          <a:stretch/>
        </p:blipFill>
        <p:spPr>
          <a:xfrm>
            <a:off x="549360" y="1365120"/>
            <a:ext cx="8197920" cy="30355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292360" y="4652640"/>
            <a:ext cx="3429000" cy="17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8000" y="1413000"/>
            <a:ext cx="83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шление начинается с проблемной ситуации.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.Л. Рубинштей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424720" cy="3311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лемное обучени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это обучение, при котором учитель, создавая проблемные ситуации и, организуя деятельность учащихся по решению учебных проблем, обеспечивает оптимальное сочетание их самостоятельной поисковой деятельности с усвоением готовых выводов науки. 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Педагогический словарь)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лемное обучение целесообразно применять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50920" y="1557000"/>
            <a:ext cx="86421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огда содержание учебного материала содержит причинно-следственные связи и зависимости и направлено на формирование понятий, законов и теори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огда ученики подготовлены к проблемному изучению темы и решают задачи на развитие самостоятельности мышления, формирование исследовательских умений, творческого подхода к дел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4103640" cy="629424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779040"/>
            <a:ext cx="2314440" cy="1343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00720" y="142560"/>
            <a:ext cx="4464000" cy="60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.Н. Скаткин выделил три основных вида проблемного обуч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роблемное изложение зна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Привлечение учащихся к поиску на отдельных этапах изложения зна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Исследовательский метод обуч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Прямоугольник 4"/>
          <p:cNvSpPr/>
          <p:nvPr/>
        </p:nvSpPr>
        <p:spPr>
          <a:xfrm>
            <a:off x="2324520" y="603252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900 - 199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И. Я. Лернер"/>
          <p:cNvPicPr/>
          <p:nvPr/>
        </p:nvPicPr>
        <p:blipFill>
          <a:blip r:embed="rId1"/>
          <a:stretch/>
        </p:blipFill>
        <p:spPr>
          <a:xfrm>
            <a:off x="208080" y="333360"/>
            <a:ext cx="4108320" cy="59040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802800"/>
            <a:ext cx="3200400" cy="73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6ea0b0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26560" y="6093000"/>
            <a:ext cx="3024360" cy="474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.Я. Лернер (1917-1996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00360" y="691920"/>
            <a:ext cx="44211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.Я. Лернер - активный исследователь в области проблемного обучения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 применения технологии проблемного обучени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научить учащихся идти путем самостоятельных находок и открытий.</a:t>
            </a:r>
            <a:br>
              <a:rPr sz="41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Создать условия для приобретения учащимися средств познания и исследовани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Повысить познавательную активность в процессе овладения знаниям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Применять дифференцированный и интегрированный подход в учебном и воспитательном процессе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емы создания проблемных ситуаций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95280" y="148428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вести школьников к противоречию и предложить им самим найти способ его разреш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ложить различные точки зрения на один и тот же вопрос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ложить классу рассмотреть явление с различных позиц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будить учащихся делать сравнения, обобщения, выводы из ситуации, сопоставлять фак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вить конкретные вопросы на обобщение, обоснование, конкретизацию, логику, рассуж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ределить проблемные теоретические и практические зад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вить проблемные задачи (например: с недостающими, избыточными или противоречивыми данными, с заведомо допущенными ошибкам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1"/>
          <p:cNvSpPr/>
          <p:nvPr/>
        </p:nvSpPr>
        <p:spPr>
          <a:xfrm>
            <a:off x="469800" y="28584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ология проблемного обучения имеет следующие преимущ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Box 2"/>
          <p:cNvSpPr/>
          <p:nvPr/>
        </p:nvSpPr>
        <p:spPr>
          <a:xfrm>
            <a:off x="324000" y="1413000"/>
            <a:ext cx="842148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ёт возможности для развития внимания, наблюдательности, активизации мышления, активизации познавательной деятельности;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вает самостоятельность, ответственность, критичность и самокритичность, инициативность, нестандартность мышления;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целена на формирование универсальных учебных действий;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еспечивает прочность приобретаемых знаний, так как они добываются в самостоятельной деятельност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2T19:12:43Z</dcterms:created>
  <dc:creator>lenovo</dc:creator>
  <dc:description/>
  <dc:language>en-US</dc:language>
  <cp:lastModifiedBy>admin</cp:lastModifiedBy>
  <dcterms:modified xsi:type="dcterms:W3CDTF">2019-05-16T18:03:30Z</dcterms:modified>
  <cp:revision>51</cp:revision>
  <dc:subject/>
  <dc:title>Слайд 1</dc:title>
</cp:coreProperties>
</file>