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423-5FCC-49E4-A734-90FB8220F5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36E8-C115-4C3B-ACB6-D92D6B7FC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текст в рамках любого предмета, мы строим работу с текстом в три этапа: до чтения, во время чтения и после чтения. У каждого этапа работы с текстом своя задача, соответственно разные действия читателя и использование разных видов ч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243-F5D7-48CD-84AD-31E78959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F3D-1FEB-4C18-B16D-04A0E26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0EB08-2918-42F7-96E7-46378D4D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9C52E-65A1-4D65-BFAD-8F4FC27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1739D-3727-44C2-B1D5-813B2C1F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C9FEC-CD4B-4981-8DF0-FB8D0FA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D8B1A-925B-4CCC-B3B1-32B8BB6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D68EA-2406-4A9B-8FE2-769957C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64303-0A11-4F6C-9DA4-6F669277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08BC3-FEC4-41C3-8F28-A3695ED2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D08FE-9ED5-4423-AD76-35AB1C1D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2C2-17E7-4464-ACB9-DFC85C3D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3AF-E1A1-4219-8D7B-90A58051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1299-113E-4674-B9ED-A323BE40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B73-0D9F-4FAE-99F8-C8C82FB9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529B-716A-4EA7-9D23-DCF48768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063B-F143-4B87-80E6-1478BF1D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A395-7A49-4736-B3FE-A11F498B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69E5-D02D-4C19-AE0D-16A277EE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687E-96CF-4753-90CE-EC93C17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919-B1B0-44AA-A2F5-479966BA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4C8E-2690-4BA9-B44F-C225C73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7208-29B5-4542-8BBD-F85A0EF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D5A2-6E1E-44E2-85AB-390BCAEE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9125-209A-430C-95F8-F2BCE77C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860C-27CB-4949-815C-22F6B05E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D509-5DB1-45C9-9225-F4E3FA69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BDB0-AC48-49D4-89D5-6F4DC600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BD68-9586-455D-B774-027E4CF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427D-830E-4037-906C-1C219612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4291-310A-4A74-967E-34702EB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E76-1058-4C8D-9C3D-8B2DEF6B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DE25-DE0F-42C7-9BBD-8907E962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EC93-02FF-44F4-A55C-C8E509F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F7D7-750E-4801-94A0-0104E28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1D8A-9EF8-4AE3-8A60-9490E2CC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6ADE-C6C8-458B-BA92-827833A9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9A08-1DB3-458B-BA36-75BB6543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A381-BC21-446F-AD94-991AFCC4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FF09-9EDB-4880-9810-07188DF1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7D13-B8A3-4A13-A972-A887259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9419C-9528-4F7E-9670-8B761FE4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D32-041B-4DD6-A5A1-FC0E4FD0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0AB5-BE23-475D-BF74-8207B86C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BB54-134D-452E-882A-68978ED0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32AB-63B4-4697-98C7-1DF5209D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2A47-5003-4496-B37C-896D860C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92DF9-2181-49FF-976B-DD52AFF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FD2C-8495-4AE2-8156-8CE8221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03F20-C293-4940-A429-FEC0DBC7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5F1D4-891E-4B89-B0A4-5E5FED14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9CDAE-3911-406A-9524-7ED39E4F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1B2B-CC97-46A4-9F4D-B97C9778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0AE-5441-4EB9-8B45-27AB809A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CE03-0DDA-4761-AD19-E2E60E6F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D9DC1-C29A-41DE-A6F2-0335DCF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0DF3-2241-4C08-A566-F938888A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77637-62C3-4FD9-8F15-53B66AC6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4CCAE-B7C8-4189-A71C-4A28E8E2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6CDE-0C5D-4EE4-AC08-CC17A226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27113-B9D6-4F5D-9718-DEF26B0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50F40-4C0F-42A1-96F4-70763865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795A-ED1F-47EC-95A7-06C5EA88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B389A-2698-4D71-8445-E5CCF8BE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F5F-C7D4-478D-A8D9-A544887E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A3D7-FEE8-4BAC-B6D2-B9A49720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65387-E03E-4989-B3BC-E6C9CA06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9732D-6AC9-43DA-8951-90F1C651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EEB54-A27A-4113-8A04-7C55922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207FB-C088-47EA-8F96-BF4CC447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AD779-5355-48DE-AA2E-E290C029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88E0F-0786-4867-88B3-17FA2445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52A8F-195C-4778-B8C4-F985B6B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4B41-3E62-4D53-98D1-AE42E799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15C83-6E2A-4DF8-BE53-D1A22C83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610-37CB-4EA4-9D1A-C7613D19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940F-3D5C-4D08-AA1F-4E4D9850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E5F4E-CDBB-4B8D-9762-5736387D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1F8E6-4717-4E43-ADBB-FEB7C49C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72C3-C647-428E-989A-FE79A7F0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3E3C8-80A3-4E05-B890-F10A7B95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283A2-677E-4ADA-AB1A-5E8FD3B3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BD53C-4075-4A3E-957A-7D6AD748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E68C4-2145-4F0D-8DAB-3BF9D23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72189-0EBE-4EA2-9815-29579952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713EF-DA67-49F0-91EF-A9F6C4E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723-D2C9-47DD-BA2A-F9EC8B32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B7EC5-6586-4973-8231-D32F5C90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156CF-8E88-4314-9DFE-06A3FBB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6AD7A-F1D1-4132-8262-9E407009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7A7FB-08C9-4667-9A67-3FB9909E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4E2C3-79CE-4717-BBF8-7D51CFB2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59F15-CB65-4C0A-BC65-D6C5040D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79BD8-00E6-472C-85FC-712B87DC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8AF3E-7856-448D-BCEB-89E9840C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5DB13-5D7A-4D67-88F1-CFA7DEDF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10C63-8DB8-48FC-A3F5-33C77183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B01-072B-414F-AF6D-36271F87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75D69-0A3B-4915-A0C9-E5F86133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E4EC2-273D-4AC3-81A8-CA5919F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F50FA-0D99-4A78-807C-259A41E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B4FB0-DA83-44F8-A34E-42F82E99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DAC5-D2F2-4DA0-9B3D-642EE12E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71B23-8906-42B9-83E1-92A976EC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78A1-00CB-4782-ABA9-5C31B020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A44A0-7F2E-4637-AA23-F9080F34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74DA-2C26-41C6-84FE-23533A61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48C80-9125-48A9-981C-AED0865F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4A6F-DD53-4F1E-8408-C205DBD6350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D440-3F0C-4C39-AE37-088F2A37109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2D3A-0680-43A9-9632-4CC4E60CE7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96F-C8A8-4693-B32B-0F5898BA0DA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553C-80AA-4CC6-8D28-FC4CF67AD63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C91-871F-4B31-A66F-C3657ED96B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5DC-014D-4A52-A8AC-4BA2E21940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F721-E294-43A8-95AE-7933628191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59DC-07D8-4197-9456-9F1A9262AE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712d1c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ДУКТИВНОГО ЧТЕНИЯ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3429000" y="1676520"/>
            <a:ext cx="50529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– это еще ничего не значит;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читать и как понимать – вот в чем глав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4" descr="iCAXA37W2.jpg"/>
          <p:cNvPicPr/>
          <p:nvPr/>
        </p:nvPicPr>
        <p:blipFill>
          <a:blip r:embed="rId1"/>
          <a:stretch/>
        </p:blipFill>
        <p:spPr>
          <a:xfrm>
            <a:off x="304920" y="2057400"/>
            <a:ext cx="3227400" cy="41814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4"/>
          <p:cNvSpPr/>
          <p:nvPr/>
        </p:nvSpPr>
        <p:spPr>
          <a:xfrm>
            <a:off x="4343400" y="533412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УД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57200" y="1143000"/>
          <a:ext cx="8183520" cy="484992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ть и формировать цель деятельности на уроке с помощью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ся высказывать свое предположение на основе работы с иллюстрацией учеб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ять свои мысли в устной и письменной фор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и понимать речь друг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 «проживать» текст, выражать свои эмо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учебн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зительно читать и пересказывать тек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выводы в результате совместной работы класса и уч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выводы в результате совместной работы класса и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ся работать в паре, группе; выполнять различные ро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иалоге с учителем вырабатывать критерии оценки и определять степень успешности своей работы и работы других в соответствии с этими критериям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А ТЕХНОЛОГИ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6760" y="1571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а самостоятельно вне урок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осообразна и доступн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развитие личности читателя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мение прогнозировать результаты чтения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остижению понимания на уровне смысл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F4D9-D93A-4030-B68B-BD47D72ED9B7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3" descr="iCAX1LDXG.jpg"/>
          <p:cNvPicPr/>
          <p:nvPr/>
        </p:nvPicPr>
        <p:blipFill>
          <a:blip r:embed="rId1"/>
          <a:stretch/>
        </p:blipFill>
        <p:spPr>
          <a:xfrm>
            <a:off x="3200400" y="4648320"/>
            <a:ext cx="31352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572-FB0D-42C5-89F7-7F6ED04FB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"/>
          <p:cNvGrpSpPr/>
          <p:nvPr/>
        </p:nvGrpSpPr>
        <p:grpSpPr>
          <a:xfrm>
            <a:off x="3637080" y="3357720"/>
            <a:ext cx="3095280" cy="2592000"/>
            <a:chOff x="3637080" y="3357720"/>
            <a:chExt cx="3095280" cy="2592000"/>
          </a:xfrm>
        </p:grpSpPr>
        <p:pic>
          <p:nvPicPr>
            <p:cNvPr id="412" name="Picture 3" descr=""/>
            <p:cNvPicPr/>
            <p:nvPr/>
          </p:nvPicPr>
          <p:blipFill>
            <a:blip r:embed="rId1"/>
            <a:stretch/>
          </p:blipFill>
          <p:spPr>
            <a:xfrm>
              <a:off x="3637080" y="3402720"/>
              <a:ext cx="3060000" cy="24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4"/>
            <p:cNvSpPr/>
            <p:nvPr/>
          </p:nvSpPr>
          <p:spPr>
            <a:xfrm>
              <a:off x="5532480" y="3357720"/>
              <a:ext cx="1199880" cy="25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5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, концептуал. вопрос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авторского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чтение (в т.ч. диалог с автором, вычитывание подтекста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осхищение чтения, создание мотива для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0" y="-100080"/>
            <a:ext cx="9144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формирования правильного типа читательской деятельности </a:t>
            </a:r>
            <a:br>
              <a:rPr sz="32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онимание текстов.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этапа работы с любым 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slide-reading"/>
          <p:cNvPicPr/>
          <p:nvPr/>
        </p:nvPicPr>
        <p:blipFill>
          <a:blip r:embed="rId1"/>
          <a:stretch/>
        </p:blipFill>
        <p:spPr>
          <a:xfrm>
            <a:off x="-15840" y="-30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840" y="45720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- работа с текстом до чтения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85840" y="3357360"/>
            <a:ext cx="5124240" cy="25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442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точнение по ключевым словам своих предположений о теме произведения, героях, развитии действ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FB8A-015F-403D-99D5-A3BF81DFE4B7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3" descr="i.jpg"/>
          <p:cNvPicPr/>
          <p:nvPr/>
        </p:nvPicPr>
        <p:blipFill>
          <a:blip r:embed="rId1"/>
          <a:stretch/>
        </p:blipFill>
        <p:spPr>
          <a:xfrm>
            <a:off x="5286240" y="3000240"/>
            <a:ext cx="358308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4"/>
          <p:cNvSpPr/>
          <p:nvPr/>
        </p:nvSpPr>
        <p:spPr>
          <a:xfrm>
            <a:off x="533520" y="15238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5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положения о героях, теме, содержании по фамилии автора, заглавию, иллюстрац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0" y="304776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52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заглавливание частей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E2FF-8CF6-452D-B636-C2F1F24E84E0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Заголовок 1"/>
          <p:cNvSpPr/>
          <p:nvPr/>
        </p:nvSpPr>
        <p:spPr>
          <a:xfrm>
            <a:off x="-34920" y="236520"/>
            <a:ext cx="9144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-работа с текстом во время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5" descr="2.jpg"/>
          <p:cNvPicPr/>
          <p:nvPr/>
        </p:nvPicPr>
        <p:blipFill>
          <a:blip r:embed="rId1"/>
          <a:stretch/>
        </p:blipFill>
        <p:spPr>
          <a:xfrm>
            <a:off x="5486400" y="3048120"/>
            <a:ext cx="3200400" cy="295416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6"/>
          <p:cNvSpPr/>
          <p:nvPr/>
        </p:nvSpPr>
        <p:spPr>
          <a:xfrm>
            <a:off x="428760" y="121428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амостоятельное чтение с целью проверки своих предпо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536400" y="1905120"/>
            <a:ext cx="800100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ение вслух по предложениям или небольшим абзацам с комментариями. По ходу чтения учитель задает уточняющие вопросы на 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609480" y="35812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еречитывание текста медленное, вдумчи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685800" y="44197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общение прочитанного. Постановка к тексту обобщающих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693000" y="556272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иалог с ав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 С АВТОРОМ- ЭТО ЕСТЕСТВЕННАЯ БЕСЕДА ЧЕРЕЗ ТЕКСТ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12189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рием комментированного чт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звучивают текст дети, а комментирует учител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ветствуются также и детские сужд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мментарий должен быть кратким и динамичны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омментарий не должен превращаться в бесед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омментируем в том месте, где это действительно нужн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8A77-4C72-4D01-8433-46C3C9ACDFF1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533520" y="121932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иалог был содержательным и полноценным, читателю необходимо по ходу чтения совершать разнообразную работу: находить в тексте прямые и скрытые авторские вопросы, задавать свои вопросы, обдумывать предположения о дальнейшем содержании текста, проверять, совпадают ли они с замыслом автора включать воображе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21896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ный вопрос к тексту в целом. Ответы детей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. Понимание авторского замысл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сказ о писателе (беседа о писателе углубит понимание прочитанного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вторное обращение к заглавию и иллюстрации. Беседа о смысле заглавия, о его связи с темой, мыслью автор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ение творческих задан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A7BD-74E4-4CB2-9919-59004E4A3CDF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Заголовок 1"/>
          <p:cNvSpPr/>
          <p:nvPr/>
        </p:nvSpPr>
        <p:spPr>
          <a:xfrm>
            <a:off x="0" y="369720"/>
            <a:ext cx="91440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-работа с текстом после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5" descr="iCAK2IMUZ.jpg"/>
          <p:cNvPicPr/>
          <p:nvPr/>
        </p:nvPicPr>
        <p:blipFill>
          <a:blip r:embed="rId1"/>
          <a:stretch/>
        </p:blipFill>
        <p:spPr>
          <a:xfrm>
            <a:off x="6858000" y="4952880"/>
            <a:ext cx="16588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ЗАДАНИЕ ПРЕДПОЛАГАЕТ САМОСТОЯТЕЛЬНОСТЬ РЕБЕНКА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13840" y="1935000"/>
            <a:ext cx="864396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ь план (самостоятельно, в парах, в группе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« Проиллюстрируй…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« Сочини…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« Придумай…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труктурная модель текста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0F17-8A72-4D12-B9F6-46FD63458013}" type="slidenum"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User</cp:lastModifiedBy>
  <dcterms:modified xsi:type="dcterms:W3CDTF">2019-05-16T11:53:16Z</dcterms:modified>
  <cp:revision>131</cp:revision>
  <dc:subject/>
  <dc:title>Слайд 1</dc:title>
</cp:coreProperties>
</file>