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B0DD-CC09-4B91-8642-65CE7081D4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E61F-8F95-4659-83B7-E7D943E76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текст в рамках любого предмета, мы строим работу с текстом в три этапа: до чтения, во время чтения и после чтения. У каждого этапа работы с текстом своя задача, соответственно разные действия читателя и использование разных видов ч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667-F748-4D88-B343-A58FFDAF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124-4DA4-4406-9204-34F8DA78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0EDA3-E5FD-4D20-A001-E8B26D24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FC9E6-574C-4A1B-802D-19C3B569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5D96A-D20C-4183-B24C-319940BA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B7423-DAAB-440C-BB6D-BC0B648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29645-AB41-4184-9F71-5F5F6EC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2FCBF-781B-4E7D-A60D-E2DA7543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2E47E-05B4-4D04-B218-1D5E01DF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B9482-1975-4EB1-9315-2DCA5B7A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98C50-B4D3-4541-947A-27FC3A5E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A724-3DDA-44CE-AAFD-94792D06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3F6-850F-4017-89BA-E985E1FF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9723-0F16-432B-9418-17BF5E4E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E435-CA70-4FF2-B4FC-3EE58DA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F667-D25F-475B-BBD7-C035FE2F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18B3-70BE-49A7-A76E-518E2238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7A67-D60E-4F07-8CD8-7F0DA744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198D-80DB-472D-81FB-0B534FCA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4BE7-F5B3-4378-8CE7-3E99F26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E51-FE53-4696-955E-B029BAD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E252-C567-421D-A4C9-55C2A90E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474-37B3-4642-9A7B-6D7C02E1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C67A-4056-41E6-A88C-4462B00F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3C06-EF83-463E-B1D4-129B0919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5346-326A-422E-95F4-4284716D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C0A1-E4F6-483D-9958-6A84AFFF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70BA-A67D-46F4-85D6-97826733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D2C8-BA9C-4C06-BB9C-B098EB75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1FC1-082F-412B-9B6D-43D81033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5049-E709-406E-AC71-62ECE12F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CBE-912E-4A0C-9314-29A089C3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2A19-18C8-449F-AC3B-D291D1C3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80453-BE26-4BE4-921C-2DDDFC01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6080-27B1-427D-A10E-50E8A22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BD0E-E046-4E3A-BA1F-1B20273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2E91-49D4-4FBD-B183-81BA8FD0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4D542-697C-4030-8CE2-845C379F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55170-8F86-491A-B55D-7D309FEA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7FAC-C477-477F-9EB6-8C400A42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0919-7CF4-40ED-9352-3524C5AF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E186D-2AE4-4BF1-935A-657C069B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2E0-FE53-4634-8FC1-13B3B72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E850-A14D-47A6-8D2C-311F5460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DD53-0299-448D-BE20-1DE891B6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F31C-EA17-4101-ABA3-C396BD4E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A7D12-7DEA-4565-B6A5-5F359B34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26C9-B09F-48DB-B8A6-6555900F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E392-5C7A-41D6-A88B-1FD2570D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ABC9-6A58-46C5-B8D7-D9EFB266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8CCA-5D30-4E1B-8984-BD787C5C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4ABC-49FE-4262-A235-F9356646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9ACF-399B-44A8-AD67-19A4D900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6CE-B4AC-426E-88D9-3FD7C09B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876DC-0DF9-4202-8A7F-8AD1C86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1CC6E-1CF9-423F-80D7-F0F975E3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4C1A-04D0-4D02-97A8-4027E449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0FD01-0D42-42DB-A8C7-FF57939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50DD0-047F-437E-88E1-90E18B45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DEA93-3430-4503-B121-533ED816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C64C-722B-4675-9F78-CA4CC8C4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66EA-A0DE-4767-8529-EDACB6E8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E24E0-C0C6-493B-8B3E-C2D32E2F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FAEC-C430-4304-A1EC-1041F78B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B9D-9BAC-41D6-8FA5-B77C3CF0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04ABF-4D94-4967-A06E-85A5EF22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04D3-2EEF-4C4D-83A5-B3E68F08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93D3F-D51D-43E6-963C-5ABCB12D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600AC-EBC1-46F9-9AA8-BA9C8EEC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FCBB4-CD7B-4FBD-954B-024A7C1A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1DB35-E534-42BD-AA13-FBA6851B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89673-7E22-474F-ACBA-A9B33F1B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9AA4-06DE-453B-8107-AF071E4E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7234-7B08-45BE-BEE8-43E12A50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93716-5194-4EC2-8668-DBE6612A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2C6-1AD7-4402-9934-DF9F741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0622-4B74-4612-9BC0-07D4F2BF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04BA2-7C6E-426C-ABFF-C6D0BD04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B0D89-785F-4EAF-9B2F-CDA61413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4BB4B-D773-4684-B637-CF73313A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C79F8-1154-4D2F-8FCE-2DEBA6FE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4A69D-02C0-47A4-8A19-F6958279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FB0C-A6C0-4C0C-9B0A-2F98B72F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0959-EB53-4BFA-9D02-7A918635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7C3AF-B4A7-46D2-8F49-68480F78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BFEDC-46B6-4B37-9B14-4F767DF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16E-1D4A-4AE8-9727-60F9CED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206AA-EF18-4A60-A301-AA58ABF2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40FD1-837A-4EDE-8FB3-2921F8D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4E080-E170-4DB9-AB17-9C4381C4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30788-54B8-4E9B-B8C0-887B7BF9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62E49-9999-4438-9AD7-3D7DBCC8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66AA3-AA3C-49A4-B78C-7ABCC8A5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E7D03-2344-4E7F-832B-9518A9D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DB68D-B819-423A-BCF0-BF9E4D10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B0E8F-2496-4F7F-9B2D-31EF31D0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378F5-3407-4696-B553-CC87C17A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09B-8328-4D70-9085-4A8B253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5DA2-2284-4159-B449-509DB845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4EC0E-7F89-4E2D-93BE-8DE01F5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89DBC-6399-4A12-B405-F63A262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083FF-DD60-4A2A-8F2C-0E2F1F3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5B1D-3414-4B76-8663-A62BC885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441A-3D0A-4A02-9C7F-CBC5DB83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14F65-1087-4E1E-8AD1-503C8D82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DF211-08A9-440B-9A3D-28FA7A87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B09B4-551A-452A-9E65-BF2DF75A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189DA-5B7A-408B-B91D-A108E7D0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D9F0-4907-461F-B500-C775298CA38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DF9-9FA3-415C-BFF4-21723D6147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D705-A8E4-4F6A-A64C-10BB084586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E05F-4410-4FD5-80B0-7C1D16D5C9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57E9-7B9C-488C-AB6D-4AF3730281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A0DB-7B92-4FA4-9CCF-ECCC1F2EB44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3459-1DB4-4120-AEE2-E04AAD0966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4716-803C-4965-B725-C47F6EE7C23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2ADD-7FBD-43DB-B122-57A3DCBBDE2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712d1c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ДУКТИВНОГО ЧТЕНИЯ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3429000" y="1676520"/>
            <a:ext cx="50529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– это еще ничего не значит;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читать и как понимать – вот в чем глав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4" descr="iCAXA37W2.jpg"/>
          <p:cNvPicPr/>
          <p:nvPr/>
        </p:nvPicPr>
        <p:blipFill>
          <a:blip r:embed="rId1"/>
          <a:stretch/>
        </p:blipFill>
        <p:spPr>
          <a:xfrm>
            <a:off x="304920" y="2057400"/>
            <a:ext cx="3227400" cy="41814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4"/>
          <p:cNvSpPr/>
          <p:nvPr/>
        </p:nvSpPr>
        <p:spPr>
          <a:xfrm>
            <a:off x="4343400" y="533412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УД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57200" y="1143000"/>
          <a:ext cx="8183520" cy="484992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ч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ть и формировать цель деятельности на уроке с помощью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ся высказывать свое предположение на основе работы с иллюстрацией учебн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ять свои мысли в устной и письменной фор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и понимать речь друг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 «проживать» текст, выражать свои эмо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учебн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ответы на вопросы в тексте, иллюстраци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зительно читать и пересказывать тек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выводы в результате совместной работы класса и уч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ть эмоции других людей, сочувствовать, сопережива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казывать свое отношение к героям прочитанных произведений, к их поступ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выводы в результате совместной работы класса и уч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ся работать в паре, группе; выполнять различные ро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иалоге с учителем вырабатывать критерии оценки и определять степень успешности своей работы и работы других в соответствии с этими критериями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А ТЕХНОЛОГИ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6760" y="1571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а самостоятельно вне урок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осообразна и доступн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а на развитие личности читателя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мение прогнозировать результаты чтения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остижению понимания на уровне смысл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6B1-F5B2-476D-A052-3762C8E09AE3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3" descr="iCAX1LDXG.jpg"/>
          <p:cNvPicPr/>
          <p:nvPr/>
        </p:nvPicPr>
        <p:blipFill>
          <a:blip r:embed="rId1"/>
          <a:stretch/>
        </p:blipFill>
        <p:spPr>
          <a:xfrm>
            <a:off x="3200400" y="4648320"/>
            <a:ext cx="31352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CFA8-79A3-4521-80EA-878DEBE4E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"/>
          <p:cNvGrpSpPr/>
          <p:nvPr/>
        </p:nvGrpSpPr>
        <p:grpSpPr>
          <a:xfrm>
            <a:off x="3637080" y="3357720"/>
            <a:ext cx="3095280" cy="2592000"/>
            <a:chOff x="3637080" y="3357720"/>
            <a:chExt cx="3095280" cy="2592000"/>
          </a:xfrm>
        </p:grpSpPr>
        <p:pic>
          <p:nvPicPr>
            <p:cNvPr id="412" name="Picture 3" descr=""/>
            <p:cNvPicPr/>
            <p:nvPr/>
          </p:nvPicPr>
          <p:blipFill>
            <a:blip r:embed="rId1"/>
            <a:stretch/>
          </p:blipFill>
          <p:spPr>
            <a:xfrm>
              <a:off x="3637080" y="3402720"/>
              <a:ext cx="3060000" cy="24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4"/>
            <p:cNvSpPr/>
            <p:nvPr/>
          </p:nvSpPr>
          <p:spPr>
            <a:xfrm>
              <a:off x="5532480" y="3357720"/>
              <a:ext cx="1199880" cy="25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5"/>
          <p:cNvSpPr/>
          <p:nvPr/>
        </p:nvSpPr>
        <p:spPr>
          <a:xfrm>
            <a:off x="2340000" y="2205000"/>
            <a:ext cx="4645080" cy="4500720"/>
          </a:xfrm>
          <a:custGeom>
            <a:avLst/>
            <a:gdLst>
              <a:gd name="textAreaLeft" fmla="*/ 680040 w 4645080"/>
              <a:gd name="textAreaRight" fmla="*/ 3965040 w 4645080"/>
              <a:gd name="textAreaTop" fmla="*/ 658800 h 4500720"/>
              <a:gd name="textAreaBottom" fmla="*/ 38419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09" y="10800"/>
                </a:moveTo>
                <a:cubicBezTo>
                  <a:pt x="1609" y="15876"/>
                  <a:pt x="5724" y="19991"/>
                  <a:pt x="10800" y="19991"/>
                </a:cubicBezTo>
                <a:cubicBezTo>
                  <a:pt x="15876" y="19991"/>
                  <a:pt x="19991" y="15876"/>
                  <a:pt x="19991" y="10800"/>
                </a:cubicBezTo>
                <a:cubicBezTo>
                  <a:pt x="19991" y="5724"/>
                  <a:pt x="15876" y="1609"/>
                  <a:pt x="10800" y="1609"/>
                </a:cubicBezTo>
                <a:cubicBezTo>
                  <a:pt x="5724" y="1609"/>
                  <a:pt x="1609" y="5724"/>
                  <a:pt x="1609" y="10800"/>
                </a:cubicBez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4932360" y="4221000"/>
            <a:ext cx="4032360" cy="2160720"/>
          </a:xfrm>
          <a:custGeom>
            <a:avLst/>
            <a:gdLst>
              <a:gd name="textAreaLeft" fmla="*/ 588240 w 4032360"/>
              <a:gd name="textAreaRight" fmla="*/ 3444120 w 4032360"/>
              <a:gd name="textAreaTop" fmla="*/ 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e5f2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После чтения текст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ефлексивное чтение, концептуал. вопрос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е авторского смысла, корректировка своей интерпре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179280" y="4149720"/>
            <a:ext cx="4176720" cy="2232000"/>
          </a:xfrm>
          <a:custGeom>
            <a:avLst/>
            <a:gdLst>
              <a:gd name="textAreaLeft" fmla="*/ 609480 w 4176720"/>
              <a:gd name="textAreaRight" fmla="*/ 3567240 w 4176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dff9ec"/>
              </a:gs>
              <a:gs pos="100000">
                <a:srgbClr val="00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Во время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ющее чтение (в т.ч. диалог с автором, вычитывание подтекста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зульта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ация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2124000" y="1844640"/>
            <a:ext cx="5112000" cy="2016000"/>
          </a:xfrm>
          <a:custGeom>
            <a:avLst/>
            <a:gdLst>
              <a:gd name="textAreaLeft" fmla="*/ 745920 w 5112000"/>
              <a:gd name="textAreaRight" fmla="*/ 4366080 w 5112000"/>
              <a:gd name="textAreaTop" fmla="*/ 0 h 2016000"/>
              <a:gd name="textAreaBottom" fmla="*/ 1764000 h 2016000"/>
            </a:gdLst>
            <a:ahLst/>
            <a:rect l="textAreaLeft" t="textAreaTop" r="textAreaRight" b="textAreaBottom"/>
            <a:pathLst>
              <a:path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1263"/>
                  <a:pt x="5432" y="21600"/>
                  <a:pt x="501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152" y="2700"/>
                </a:lnTo>
                <a:lnTo>
                  <a:pt x="3152" y="675"/>
                </a:lnTo>
                <a:cubicBezTo>
                  <a:pt x="3152" y="338"/>
                  <a:pt x="3572" y="0"/>
                  <a:pt x="3992" y="0"/>
                </a:cubicBezTo>
                <a:lnTo>
                  <a:pt x="17608" y="0"/>
                </a:lnTo>
                <a:cubicBezTo>
                  <a:pt x="18028" y="0"/>
                  <a:pt x="18448" y="338"/>
                  <a:pt x="18448" y="675"/>
                </a:cubicBezTo>
                <a:lnTo>
                  <a:pt x="1844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6588" y="21600"/>
                </a:lnTo>
                <a:cubicBezTo>
                  <a:pt x="16168" y="21600"/>
                  <a:pt x="15748" y="21263"/>
                  <a:pt x="15748" y="20925"/>
                </a:cubicBezTo>
                <a:lnTo>
                  <a:pt x="15748" y="18900"/>
                </a:lnTo>
                <a:close/>
              </a:path>
              <a:path fill="darkenLess" w="21600" h="21600">
                <a:moveTo>
                  <a:pt x="5852" y="18900"/>
                </a:moveTo>
                <a:lnTo>
                  <a:pt x="5852" y="20925"/>
                </a:lnTo>
                <a:cubicBezTo>
                  <a:pt x="5852" y="20588"/>
                  <a:pt x="5432" y="20250"/>
                  <a:pt x="5012" y="20250"/>
                </a:cubicBezTo>
                <a:lnTo>
                  <a:pt x="3992" y="20250"/>
                </a:lnTo>
                <a:cubicBezTo>
                  <a:pt x="3572" y="20250"/>
                  <a:pt x="3152" y="19913"/>
                  <a:pt x="3152" y="19575"/>
                </a:cubicBezTo>
                <a:cubicBezTo>
                  <a:pt x="3152" y="19238"/>
                  <a:pt x="3572" y="18900"/>
                  <a:pt x="3992" y="18900"/>
                </a:cubicBezTo>
                <a:close/>
              </a:path>
              <a:path fill="darkenLess" w="21600" h="21600">
                <a:moveTo>
                  <a:pt x="15748" y="18900"/>
                </a:moveTo>
                <a:lnTo>
                  <a:pt x="15748" y="20925"/>
                </a:lnTo>
                <a:cubicBezTo>
                  <a:pt x="15748" y="20588"/>
                  <a:pt x="16168" y="20250"/>
                  <a:pt x="16588" y="20250"/>
                </a:cubicBezTo>
                <a:lnTo>
                  <a:pt x="17608" y="20250"/>
                </a:lnTo>
                <a:cubicBezTo>
                  <a:pt x="18028" y="20250"/>
                  <a:pt x="18448" y="19913"/>
                  <a:pt x="18448" y="19575"/>
                </a:cubicBezTo>
                <a:cubicBezTo>
                  <a:pt x="18448" y="19238"/>
                  <a:pt x="18028" y="18900"/>
                  <a:pt x="17608" y="18900"/>
                </a:cubicBezTo>
                <a:close/>
              </a:path>
              <a:path fill="darkenLess" w="21600" h="21600">
                <a:moveTo>
                  <a:pt x="3152" y="19575"/>
                </a:moveTo>
                <a:lnTo>
                  <a:pt x="3152" y="2700"/>
                </a:lnTo>
              </a:path>
              <a:path fill="darkenLess" w="21600" h="21600">
                <a:moveTo>
                  <a:pt x="18448" y="19575"/>
                </a:moveTo>
                <a:lnTo>
                  <a:pt x="18448" y="2700"/>
                </a:lnTo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9ec"/>
              </a:gs>
              <a:gs pos="100000">
                <a:srgbClr val="ffcc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чтения текс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овое ч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осхищение чтения, создание мотива для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0" y="-100080"/>
            <a:ext cx="9144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формирования правильного типа читательской деятельности </a:t>
            </a:r>
            <a:br>
              <a:rPr sz="32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онимание текстов.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этапа работы с любым тек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slide-reading"/>
          <p:cNvPicPr/>
          <p:nvPr/>
        </p:nvPicPr>
        <p:blipFill>
          <a:blip r:embed="rId1"/>
          <a:stretch/>
        </p:blipFill>
        <p:spPr>
          <a:xfrm>
            <a:off x="-15840" y="-30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840" y="45720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- работа с текстом до чтения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85840" y="3357360"/>
            <a:ext cx="5124240" cy="25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442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точнение по ключевым словам своих предположений о теме произведения, героях, развитии действ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5275-7191-48E7-BD44-9051324D0225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3" descr="i.jpg"/>
          <p:cNvPicPr/>
          <p:nvPr/>
        </p:nvPicPr>
        <p:blipFill>
          <a:blip r:embed="rId1"/>
          <a:stretch/>
        </p:blipFill>
        <p:spPr>
          <a:xfrm>
            <a:off x="5286240" y="3000240"/>
            <a:ext cx="358308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4"/>
          <p:cNvSpPr/>
          <p:nvPr/>
        </p:nvSpPr>
        <p:spPr>
          <a:xfrm>
            <a:off x="533520" y="15238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53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положения о героях, теме, содержании по фамилии автора, заглавию, иллюстрац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0" y="304776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52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заглавливание частей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2056-0266-45CF-A717-0A89E1FA56AD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Заголовок 1"/>
          <p:cNvSpPr/>
          <p:nvPr/>
        </p:nvSpPr>
        <p:spPr>
          <a:xfrm>
            <a:off x="-34920" y="236520"/>
            <a:ext cx="9144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-работа с текстом во время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5" descr="2.jpg"/>
          <p:cNvPicPr/>
          <p:nvPr/>
        </p:nvPicPr>
        <p:blipFill>
          <a:blip r:embed="rId1"/>
          <a:stretch/>
        </p:blipFill>
        <p:spPr>
          <a:xfrm>
            <a:off x="5486400" y="3048120"/>
            <a:ext cx="3200400" cy="295416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6"/>
          <p:cNvSpPr/>
          <p:nvPr/>
        </p:nvSpPr>
        <p:spPr>
          <a:xfrm>
            <a:off x="428760" y="121428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амостоятельное чтение с целью проверки своих предпо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536400" y="1905120"/>
            <a:ext cx="800100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525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ение вслух по предложениям или небольшим абзацам с комментариями. По ходу чтения учитель задает уточняющие вопросы на 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52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609480" y="35812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еречитывание текста медленное, вдумчи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685800" y="44197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общение прочитанного. Постановка к тексту обобщающих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693000" y="556272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иалог с ав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5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 С АВТОРОМ- ЭТО ЕСТЕСТВЕННАЯ БЕСЕДА ЧЕРЕЗ ТЕКСТ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12189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рием комментированного чт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звучивают текст дети, а комментирует учител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ветствуются также и детские сужд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мментарий должен быть кратким и динамичны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омментарий не должен превращаться в бесед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омментируем в том месте, где это действительно нужн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480" indent="44280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0B5-F4FF-4227-B321-A6BCAEB2C758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533520" y="121932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иалог был содержательным и полноценным, читателю необходимо по ходу чтения совершать разнообразную работу: находить в тексте прямые и скрытые авторские вопросы, задавать свои вопросы, обдумывать предположения о дальнейшем содержании текста, проверять, совпадают ли они с замыслом автора включать воображе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21896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блемный вопрос к тексту в целом. Ответы детей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. Понимание авторского замысл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сказ о писателе (беседа о писателе углубит понимание прочитанного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вторное обращение к заглавию и иллюстрации. Беседа о смысле заглавия, о его связи с темой, мыслью автор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8840" indent="393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ыполнение творческих задан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E3A0-967A-4454-9C43-C97266B3C7B0}" type="slidenum">
              <a:rPr b="1" lang="ru-RU" sz="2800" spc="-1" strike="noStrike">
                <a:solidFill>
                  <a:srgbClr val="d38e27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Заголовок 1"/>
          <p:cNvSpPr/>
          <p:nvPr/>
        </p:nvSpPr>
        <p:spPr>
          <a:xfrm>
            <a:off x="0" y="369720"/>
            <a:ext cx="91440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-работа с текстом после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5" descr="iCAK2IMUZ.jpg"/>
          <p:cNvPicPr/>
          <p:nvPr/>
        </p:nvPicPr>
        <p:blipFill>
          <a:blip r:embed="rId1"/>
          <a:stretch/>
        </p:blipFill>
        <p:spPr>
          <a:xfrm>
            <a:off x="6858000" y="4952880"/>
            <a:ext cx="16588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ЗАДАНИЕ ПРЕДПОЛАГАЕТ САМОСТОЯТЕЛЬНОСТЬ РЕБЕНКА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13840" y="1935000"/>
            <a:ext cx="864396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ь план (самостоятельно, в парах, в группе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« Проиллюстрируй…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« Сочини…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« Придумай…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-64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труктурная модель текста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716E-F950-4DC0-94AB-1659273625C9}" type="slidenum"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User</cp:lastModifiedBy>
  <dcterms:modified xsi:type="dcterms:W3CDTF">2019-05-16T11:53:16Z</dcterms:modified>
  <cp:revision>131</cp:revision>
  <dc:subject/>
  <dc:title>Слайд 1</dc:title>
</cp:coreProperties>
</file>