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DEB-EA25-4377-8683-8EF46AA5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326-A27F-4962-92F8-0087ACED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0DD-22D3-4119-BACC-82A37BED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7B43-2C34-412E-9139-749E1FB0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A56-E3C0-4646-954B-6E38A781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E1E2-D3A2-4A34-9380-64F62B64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3383-AFF5-4242-9C98-9D9FDAA9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52C-2167-4C80-A2B0-76A35A0F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2AF-1EEC-4996-A6B1-B2683E28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231A-D573-485A-A38A-E9283291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BD7-DE95-435A-BAD6-8EB76D67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C3D-B819-46C9-8DA2-161A49BD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9CBF-5711-4C84-BDF0-649EF6B452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Учебно – методический комплекс</a:t>
            </a:r>
            <a:br>
              <a:rPr sz="4000"/>
            </a:br>
            <a:r>
              <a:rPr b="1" lang="ru-RU" sz="6000" spc="-1" strike="noStrike">
                <a:solidFill>
                  <a:srgbClr val="0070c0"/>
                </a:solidFill>
                <a:latin typeface="Georgia"/>
              </a:rPr>
              <a:t>«Школа России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ектная и исследовательск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Технология проблемног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Информационные (компьютерные) технологии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Игровые техн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Здоровьесберегающие техн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Учебно-методический комплекс «Школа России» сегодня э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Технологии реализуемые в УМК «Школа Росс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5T06:12:51Z</dcterms:created>
  <dc:creator>Omega Electronics</dc:creator>
  <dc:description/>
  <dc:language>en-US</dc:language>
  <cp:lastModifiedBy>Анна Евшина</cp:lastModifiedBy>
  <dcterms:modified xsi:type="dcterms:W3CDTF">2019-05-16T10:16:21Z</dcterms:modified>
  <cp:revision>2</cp:revision>
  <dc:subject/>
  <dc:title>Учебно – методический комплекс «Школа России»</dc:title>
</cp:coreProperties>
</file>