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F97F-0B1A-4C33-ADCC-7D3FA3B9E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5F6E-F04D-4806-BC82-F2A1D5A50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0746-61D5-4CE4-9B70-C66056635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6AE0-9AC6-4F6F-8D7D-07E8381D7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5323-6B4D-4C5F-9C81-6800E9E74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0A8E-687E-441E-9A87-689C5E63C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FEF8-07E3-43BE-B0F6-EB8765AA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A2CA-9EFA-4A63-886E-B11E10C98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0799-1B96-48C3-9CCC-23D57E119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A1A5-6911-49A9-9641-A53A8D9D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307F-C44A-4AD7-AF59-DA78C7A8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1A73-7C5A-413A-AE96-292B5864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0BC3D-2A25-4D94-84CD-02AC6A46BA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Учебно – методический комплекс</a:t>
            </a:r>
            <a:br>
              <a:rPr sz="4000"/>
            </a:br>
            <a:r>
              <a:rPr b="1" lang="ru-RU" sz="6000" spc="-1" strike="noStrike">
                <a:solidFill>
                  <a:srgbClr val="0070c0"/>
                </a:solidFill>
                <a:latin typeface="Georgia"/>
              </a:rPr>
              <a:t>«Школа России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  <a:ea typeface="Times New Roman"/>
              </a:rPr>
              <a:t>Проектная и исследовательская деятель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Технология проблемного обуч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Информационные (компьютерные) технологии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Игровые технолог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Здоровьесберегающие технолог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Учебно-методический комплекс «Школа России» сегодня эт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  <a:ea typeface="Times New Roman"/>
              </a:rPr>
              <a:t>Технологии реализуемые в УМК «Школа Росси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25T06:12:51Z</dcterms:created>
  <dc:creator>Omega Electronics</dc:creator>
  <dc:description/>
  <dc:language>en-US</dc:language>
  <cp:lastModifiedBy>Анна Евшина</cp:lastModifiedBy>
  <dcterms:modified xsi:type="dcterms:W3CDTF">2019-05-16T10:16:21Z</dcterms:modified>
  <cp:revision>2</cp:revision>
  <dc:subject/>
  <dc:title>Учебно – методический комплекс «Школа России»</dc:title>
</cp:coreProperties>
</file>