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3B3B-7C44-4BA7-BAB3-3680EF08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368-6631-4259-9024-FDE8D02B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BC1A-05D8-4359-9335-6F59CC2C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9AA0-598F-439D-ACF6-4751AC76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4FA6-DFD3-45AA-B0C9-0932DE1F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16D4-3FAF-4116-8B00-7ED6E31A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FF92-F527-4DF8-A5E1-35F2C1C8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D908-DF7A-44AE-AFB3-13A203D7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3FC1-2910-4DB0-9F5A-9B409DE1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9DF4-DA0A-4C67-B7D4-43EE2C32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D084-477E-414A-A6A6-EEFB5CC2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FE26-A0F4-4A2C-8EBF-CBC882CB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FB98-F982-472C-A799-15F2A3F3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272C-0495-4932-8794-EC03E957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6989-A8EB-4986-93C0-4D08752E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C0F0-9469-44BB-9D25-1F84BF9F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88FA-AA64-4BEE-B596-073822AE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457CA-0D47-4653-8C23-CFC83CEB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5E4D9-6D87-4AB1-ADD1-5BE419FB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4811A-563F-46C1-BF1F-8822AC08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3A37B-B978-4B7D-8C9E-BDDD49E0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43BC5-393A-4B30-8E69-F7A36EBD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BD85-F430-44B5-9F04-D94D9528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59B56-43BB-45DD-8DD4-9537A345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BA01C-D3EC-41FA-9C24-D8216F02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2DA80-DB75-43DF-8EC3-F0F45E70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31A71-2056-48DB-870D-32B3AB6A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162AD-8056-4923-B8A8-9972036E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06B17-F618-4E0B-8A69-5754AD62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62D08-8422-4AF8-9E6E-223EAED5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071A-0DCD-4EC4-9B40-395B5EA1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CC0B-DDE2-40E7-95BD-E3DF69AF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5338-00AE-4E7D-B6D3-7741FC63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DD7D-2731-4C83-B274-AB609A3B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E8F1-C02F-4E5C-81F2-AD6F8D88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A62-6FFF-4FAB-8663-B68A8DCE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8488-809D-4DBB-A3FC-C28BB2ADFB29}" type="slidenum">
              <a:rPr b="1" lang="ru-RU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BD20-5267-409F-B151-307F088F2D02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8877-3845-4B9F-BE74-463412A5D9D2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Заголовок 1"/>
          <p:cNvSpPr/>
          <p:nvPr/>
        </p:nvSpPr>
        <p:spPr>
          <a:xfrm>
            <a:off x="539640" y="2781360"/>
            <a:ext cx="82440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Учебно – методический комплекс</a:t>
            </a:r>
            <a:br>
              <a:rPr sz="3200"/>
            </a:br>
            <a:r>
              <a:rPr b="1" lang="ru-RU" sz="6000" spc="-1" strike="noStrike">
                <a:solidFill>
                  <a:srgbClr val="000000"/>
                </a:solidFill>
                <a:latin typeface="Georgia"/>
              </a:rPr>
              <a:t>«</a:t>
            </a:r>
            <a:r>
              <a:rPr b="1" i="1" lang="ru-RU" sz="6000" spc="-1" strike="noStrike">
                <a:solidFill>
                  <a:srgbClr val="000000"/>
                </a:solidFill>
                <a:latin typeface="Georgia"/>
              </a:rPr>
              <a:t>Школа России</a:t>
            </a:r>
            <a:r>
              <a:rPr b="1" lang="ru-RU" sz="60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rcRect l="84481" t="19702" r="1720" b="20744"/>
          <a:stretch/>
        </p:blipFill>
        <p:spPr>
          <a:xfrm>
            <a:off x="6084720" y="0"/>
            <a:ext cx="19447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2"/>
          <p:cNvSpPr/>
          <p:nvPr/>
        </p:nvSpPr>
        <p:spPr>
          <a:xfrm>
            <a:off x="0" y="1628640"/>
            <a:ext cx="817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ебно-методический комплект для 1-4 классов общеобразовательных учреждений. Научный руководитель комплекта - Андрей Анатольевич Плешаков, кандидат педагогических наук. Данный комплект работает с 2001 года. Это один из самых известных и востребованных учебно-методических комплектов для обучения в начальных классах. УМК постоянно обновляется и является надёжным инструментом реализации стандарта второго поко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0" y="550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МК «Школа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2"/>
          <p:cNvSpPr/>
          <p:nvPr/>
        </p:nvSpPr>
        <p:spPr>
          <a:xfrm>
            <a:off x="324000" y="1989000"/>
            <a:ext cx="741672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оритет воспитания в образовательном процес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ичностно-ориентированный и деятельностный характер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четание инновационных подходов с традициями отечественно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179280" y="333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Принципы УМК «Школа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468360" y="1989000"/>
            <a:ext cx="828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оектная и исследовательская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технология проблемного обучения (элемент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информационные (компьютерные) техноло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игровые техноло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здоровьесберегающие техн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0" y="404640"/>
            <a:ext cx="81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Технологии реализуемые в УМК «Школа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-360" y="1916280"/>
            <a:ext cx="8172360" cy="48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Личностно-развивающий характер образования с приоритетом духовно-нравственного развития ребенк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Граждански-ориентированный характер образования, предусматривающий воспитание ребенка гражданином своей страны, развивающий чувства гражданственности и патриотизм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Глобально-ориентированный характер образования, отвечающий новым задачам образования в эпоху глобализац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Экоадекватный характер образования с приоритетным вниманием к проблемам экологической этики, воспитанию любви и бережного отношения к природ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0" y="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бобщающими характеристиками содержания комплекта являются следующ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6840" y="1752120"/>
            <a:ext cx="7620120" cy="4373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0T05:16:33Z</dcterms:created>
  <dc:creator>Omega Electronics</dc:creator>
  <dc:description/>
  <dc:language>en-US</dc:language>
  <cp:lastModifiedBy>Семья Денисовых ВЕ</cp:lastModifiedBy>
  <dcterms:modified xsi:type="dcterms:W3CDTF">2019-05-16T09:45:07Z</dcterms:modified>
  <cp:revision>26</cp:revision>
  <dc:subject/>
  <dc:title>Учебно – методический комплекс «Школа России»</dc:title>
</cp:coreProperties>
</file>