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8BF-4630-4865-B983-11CB2D18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318-6F86-4D4B-BF24-06403304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893-B061-4915-88B5-FB714882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C94-0938-413F-82B6-B124F107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D1CF-145D-4349-84B4-557766C0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157E-C56B-4A81-92CF-27E95172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AEBC-2ED6-4869-85AD-DF1D810D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291D-627B-45A2-BEA7-46436DA9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EE10-14FE-4992-87D3-37F1893E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3BF8-6019-48D1-9666-DF6949A9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3A38-0B96-46EB-97EA-61742840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902-92E1-4F33-A1B7-FBE73D2F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C861-95AE-417A-89FA-762484FC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5B1A-DB89-4C73-AA81-E84C0E45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1E43-5AEE-4CD3-B948-B7FD4257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C0BD-E2BA-4B65-AABC-9E3ACE87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3494-38F7-42D0-910B-A5162A66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578BA-6DE7-488B-B1F3-E7FA4399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1F677-D1B3-4303-9A41-94B72AA0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0404-9F5A-4F2B-8D6C-57367843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32682-09B9-4CAC-99EA-243E6FEA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3C6D-3CC2-473C-B835-78CBE0E2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9B4-C10D-428E-AC2B-E0C9AA8E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C9CD-3691-4006-A482-D519BDEF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55AF8-381B-45E6-B705-298DB422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FD5CD-7CCA-4109-A777-F2729ABF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2A015-3F79-494C-8BC8-9A792667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4E86-0539-4744-9D09-A54067F3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C4C83-7E5E-42CD-BF83-21934EAA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9F554-4254-416B-B671-ECE89344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6CDD-D669-44D5-85CD-76674E4A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FAA-D1C8-437D-93E9-00CD1A58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F1D-090C-40B6-9782-B7185E62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C19-4F7A-4FA8-A037-BDAC7727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DD2-1AA6-4F5B-B6D4-68CB7003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FDD-C4D7-4FD4-BB3C-89E9C7E2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4963-F4F4-4E1A-AEE7-345D37C9E9C1}" type="slidenum">
              <a:rPr b="1" lang="ru-RU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D775-DF37-486C-B6F3-6E5C8404E956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8937-0D68-4394-9ADD-9A61ED5A2F79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539640" y="2781360"/>
            <a:ext cx="82440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Учебно – методический комплекс</a:t>
            </a:r>
            <a:br>
              <a:rPr sz="3200"/>
            </a:br>
            <a:r>
              <a:rPr b="1" lang="ru-RU" sz="60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i="1" lang="ru-RU" sz="6000" spc="-1" strike="noStrike">
                <a:solidFill>
                  <a:srgbClr val="000000"/>
                </a:solidFill>
                <a:latin typeface="Georgia"/>
              </a:rPr>
              <a:t>Школа России</a:t>
            </a:r>
            <a:r>
              <a:rPr b="1" lang="ru-RU" sz="60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rcRect l="84481" t="19702" r="1720" b="20744"/>
          <a:stretch/>
        </p:blipFill>
        <p:spPr>
          <a:xfrm>
            <a:off x="6084720" y="0"/>
            <a:ext cx="1944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2"/>
          <p:cNvSpPr/>
          <p:nvPr/>
        </p:nvSpPr>
        <p:spPr>
          <a:xfrm>
            <a:off x="0" y="1628640"/>
            <a:ext cx="817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ебно-методический комплект для 1-4 классов общеобразовательных учреждений. Научный руководитель комплекта - Андрей Анатольевич Плешаков, кандидат педагогических наук. Данный комплект работает с 2001 года. Это один из самых известных и востребованных учебно-методических комплектов для обучения в начальных классах. УМК постоянно обновляется и является надёжным инструментом реализации стандарта второго поко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0" y="550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2"/>
          <p:cNvSpPr/>
          <p:nvPr/>
        </p:nvSpPr>
        <p:spPr>
          <a:xfrm>
            <a:off x="324000" y="1989000"/>
            <a:ext cx="74167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оритет воспитания в образовательном проце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ичностно-ориентированный и деятельностный характер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четание инновационных подходов с традициями отечествен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179280" y="333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ринципы 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468360" y="1989000"/>
            <a:ext cx="828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ектная и исследовательская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технология проблемного обучения (элемент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информационные (компьютерные)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игровые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здоровьесберегающие техн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0" y="40464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Технологии реализуемые в 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-360" y="1916280"/>
            <a:ext cx="8172360" cy="48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ичностно-развивающий характер образования с приоритетом духовно-нравственного развития ребен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Граждански-ориентированный характер образования, предусматривающий воспитание ребенка гражданином своей страны, развивающий чувства гражданственности и патриотизм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Глобально-ориентированный характер образования, отвечающий новым задачам образования в эпоху глобализ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Экоадекватный характер образования с приоритетным вниманием к проблемам экологической этики, воспитанию любви и бережного отношения к природ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бобщающими характеристиками содержания комплекта являются следу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0T05:16:33Z</dcterms:created>
  <dc:creator>Omega Electronics</dc:creator>
  <dc:description/>
  <dc:language>en-US</dc:language>
  <cp:lastModifiedBy>Семья Денисовых ВЕ</cp:lastModifiedBy>
  <dcterms:modified xsi:type="dcterms:W3CDTF">2019-05-16T09:45:07Z</dcterms:modified>
  <cp:revision>26</cp:revision>
  <dc:subject/>
  <dc:title>Учебно – методический комплекс «Школа России»</dc:title>
</cp:coreProperties>
</file>