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AC3-60F8-4099-A669-0A5A62FB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2AA-E59A-43EC-A68B-3B2ACFEA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1A5-29F3-46AE-B1CA-9C82B4A4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D91-5300-4AF5-AC48-0279F096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5FC-753B-4BCD-A77C-A9EC2921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682-219A-45B7-A905-F4566A3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C3B-E76B-4281-8C66-20AEBA24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CAB-4C4D-43BB-A0CB-280920F3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026-5720-4DB0-97A3-9A49972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AA7-051A-484D-BAFC-FE2B254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D76-1285-46A5-B166-FCBF509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F30-33E8-4279-AE11-B0A017FB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F25-ABB3-46C0-BBB7-0A073AE47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hero.ru/wp-content/uploads/2016/01/origin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hero.ru/wp-content/uploads/2016/01/01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алерий Лялин — юный герой В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5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 ученик  4 «В» класс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иленко Александ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5"/>
          <p:cNvSpPr/>
          <p:nvPr/>
        </p:nvSpPr>
        <p:spPr>
          <a:xfrm>
            <a:off x="571680" y="571680"/>
            <a:ext cx="792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 временем боль от душевных ран заживает в народе, но память о героях и трагических событиях – вечн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Великой Отечественной войны свою землю защищали не только взрослые, но и совсем юные патриоты. Сколько детей воевало – в точности не известно. Многие из них приписывали себе годы, чтобы выглядеть старше и попасть на фронт — сражаться за свободу родной страны. Другие, оставшись сиротами, попадали под опеку бойцов боевых подразделений. Они жили с солдатами, участвовали в боях и даже выполняли тайные задания. Их называли детьми пол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Андрей\Desktop\Саша школа\017.jpg"/>
          <p:cNvPicPr/>
          <p:nvPr/>
        </p:nvPicPr>
        <p:blipFill>
          <a:blip r:embed="rId1"/>
          <a:stretch/>
        </p:blipFill>
        <p:spPr>
          <a:xfrm>
            <a:off x="928800" y="3143160"/>
            <a:ext cx="7358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785880" y="71424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 рассказ — об одном из тех подростков, кто в годы войны был юнгой на военном торпедном катере – Валерии Ляли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C:\Users\Андрей\Desktop\Саша школа\В. Лялин.jpg"/>
          <p:cNvPicPr/>
          <p:nvPr/>
        </p:nvPicPr>
        <p:blipFill>
          <a:blip r:embed="rId1"/>
          <a:stretch/>
        </p:blipFill>
        <p:spPr>
          <a:xfrm>
            <a:off x="1928880" y="1882800"/>
            <a:ext cx="51433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Валерий Лял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Валерий Лял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0320" y="2000160"/>
            <a:ext cx="7623360" cy="385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642960" y="591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был награжден орденом Красной Звезды и еще четырьмя боевыми медалями. По суровым армейским законам Лялину не присвоили звание Героя – помешал слишком юный возрас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его подвиг и мужество навсегда останутся в памяти на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Master</cp:lastModifiedBy>
  <dcterms:modified xsi:type="dcterms:W3CDTF">2019-04-28T16:28:43Z</dcterms:modified>
  <cp:revision>10</cp:revision>
  <dc:subject/>
  <dc:title>Слайд 1</dc:title>
</cp:coreProperties>
</file>