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DA3-F02B-4CF4-9FCC-09FC1CE3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E80-3B62-4D5A-983D-BD597C9C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55C-6C4D-407B-9AB7-AE5E18F5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34B-0273-4EC8-AFCB-7E360387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52E-8AE1-4803-8DD2-A957D8F3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DB9-CFFD-40D6-8F4A-47103399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9735-AE80-44ED-8B05-75FD2C3F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E63-5B6B-47A5-8F45-A6286322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123-05B7-45AE-A7F5-92076905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AAC-E13C-4FE4-8290-D64C575D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97D-F8B4-4897-A4BF-DC3BC6B8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493-1DB1-4CF4-9A16-8D692CAB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205A-689F-49BE-BAE3-0267390143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hero.ru/wp-content/uploads/2016/01/original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hero.ru/wp-content/uploads/2016/01/016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алерий Лялин — юный герой ВОВ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52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готовил ученик  4 «В» класс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БОУ СОШ №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уриленко Александ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5"/>
          <p:cNvSpPr/>
          <p:nvPr/>
        </p:nvSpPr>
        <p:spPr>
          <a:xfrm>
            <a:off x="571680" y="571680"/>
            <a:ext cx="7929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о временем боль от душевных ран заживает в народе, но память о героях и трагических событиях – вечн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ремя Великой Отечественной войны свою землю защищали не только взрослые, но и совсем юные патриоты. Сколько детей воевало – в точности не известно. Многие из них приписывали себе годы, чтобы выглядеть старше и попасть на фронт — сражаться за свободу родной страны. Другие, оставшись сиротами, попадали под опеку бойцов боевых подразделений. Они жили с солдатами, участвовали в боях и даже выполняли тайные задания. Их называли детьми пол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C:\Users\Андрей\Desktop\Саша школа\017.jpg"/>
          <p:cNvPicPr/>
          <p:nvPr/>
        </p:nvPicPr>
        <p:blipFill>
          <a:blip r:embed="rId1"/>
          <a:stretch/>
        </p:blipFill>
        <p:spPr>
          <a:xfrm>
            <a:off x="928800" y="3143160"/>
            <a:ext cx="73580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6"/>
          <p:cNvSpPr/>
          <p:nvPr/>
        </p:nvSpPr>
        <p:spPr>
          <a:xfrm>
            <a:off x="785880" y="71424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ш рассказ — об одном из тех подростков, кто в годы войны был юнгой на военном торпедном катере – Валерии Ляли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C:\Users\Андрей\Desktop\Саша школа\В. Лялин.jpg"/>
          <p:cNvPicPr/>
          <p:nvPr/>
        </p:nvPicPr>
        <p:blipFill>
          <a:blip r:embed="rId1"/>
          <a:stretch/>
        </p:blipFill>
        <p:spPr>
          <a:xfrm>
            <a:off x="1928880" y="1882800"/>
            <a:ext cx="51433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Валерий Ляли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857160"/>
            <a:ext cx="72151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Валерий Ляли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0320" y="2000160"/>
            <a:ext cx="7623360" cy="38577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642960" y="59184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был награжден орденом Красной Звезды и еще четырьмя боевыми медалями. По суровым армейским законам Лялину не присвоили звание Героя – помешал слишком юный возрас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его подвиг и мужество навсегда останутся в памяти нар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Master</cp:lastModifiedBy>
  <dcterms:modified xsi:type="dcterms:W3CDTF">2019-04-28T16:28:43Z</dcterms:modified>
  <cp:revision>10</cp:revision>
  <dc:subject/>
  <dc:title>Слайд 1</dc:title>
</cp:coreProperties>
</file>