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458B-D72B-4246-8C40-9E5FCD6131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с создал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s W. Hof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FC21-8D7D-4C50-B76E-5346B93B12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с создал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s W. Hof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CF33-966C-4035-9ABF-0AA28B407D2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765-54B1-4B08-9546-B41DCBCB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CEB-C44C-4B0A-AB7E-66DDCFAF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8FD-D1F7-4839-A3EE-2EB88BA0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E68-964D-443D-8FFC-2707429D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B98-4328-45EF-9575-67E13A5F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3B1-9C3D-4852-8CE7-475D30ED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40C-9846-488F-98EE-4C98D62A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A04-F4B1-445E-B868-31279D3B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8ED-5C68-4F53-A6EC-3C4A9432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459-8B24-436E-8832-E0C89899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B25-C072-42A7-AC37-2C0C20AD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60C-E81A-4004-859D-76ACD17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9F0A-37AB-48F5-9DB1-192154D51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64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активная игра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Я- повар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s://avatars.mds.yandex.net/get-pdb/1808252/4919b517-fa75-43fa-86ac-bb1e890539e5/s1200?webp=false"/>
          <p:cNvPicPr/>
          <p:nvPr/>
        </p:nvPicPr>
        <p:blipFill>
          <a:blip r:embed="rId2"/>
          <a:stretch/>
        </p:blipFill>
        <p:spPr>
          <a:xfrm>
            <a:off x="1292400" y="2938320"/>
            <a:ext cx="63705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2" descr="https://cdn.pixabay.com/photo/2013/07/12/12/53/cooking-pot-146459_1280.png"/>
          <p:cNvPicPr/>
          <p:nvPr/>
        </p:nvPicPr>
        <p:blipFill>
          <a:blip r:embed="rId2"/>
          <a:stretch/>
        </p:blipFill>
        <p:spPr>
          <a:xfrm>
            <a:off x="2448000" y="1627200"/>
            <a:ext cx="5460840" cy="343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s://englishforbeginner.ru/wp-content/uploads/2019/02/svekla-249x300.png"/>
          <p:cNvPicPr/>
          <p:nvPr/>
        </p:nvPicPr>
        <p:blipFill>
          <a:blip r:embed="rId3"/>
          <a:stretch/>
        </p:blipFill>
        <p:spPr>
          <a:xfrm>
            <a:off x="322200" y="1341360"/>
            <a:ext cx="1440000" cy="173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s://www.pngonly.com/wp-content/uploads/2017/05/Potato-Clipart-PNG-Image-01.png"/>
          <p:cNvPicPr/>
          <p:nvPr/>
        </p:nvPicPr>
        <p:blipFill>
          <a:blip r:embed="rId4"/>
          <a:stretch/>
        </p:blipFill>
        <p:spPr>
          <a:xfrm>
            <a:off x="882720" y="3341520"/>
            <a:ext cx="10731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ttps://4.bp.blogspot.com/-2xmA1E4W158/WRAB11K-uCI/AAAAAAAAAEk/b14aV_S8U_4MqeSnvVQXCfigJ4-dEvfDgCK4B/s400/iHV2KR4PR.jpg"/>
          <p:cNvPicPr/>
          <p:nvPr/>
        </p:nvPicPr>
        <p:blipFill>
          <a:blip r:embed="rId5"/>
          <a:stretch/>
        </p:blipFill>
        <p:spPr>
          <a:xfrm>
            <a:off x="539640" y="4502160"/>
            <a:ext cx="1224000" cy="163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ds05.infourok.ru/uploads/ex/0aaa/000317e9-6d817b23/hello_html_f4e4d30.png"/>
          <p:cNvPicPr/>
          <p:nvPr/>
        </p:nvPicPr>
        <p:blipFill>
          <a:blip r:embed="rId6"/>
          <a:stretch/>
        </p:blipFill>
        <p:spPr>
          <a:xfrm>
            <a:off x="2236680" y="53355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playcast.ru/uploads/2018/05/28/25307669.png"/>
          <p:cNvPicPr/>
          <p:nvPr/>
        </p:nvPicPr>
        <p:blipFill>
          <a:blip r:embed="rId7"/>
          <a:stretch/>
        </p:blipFill>
        <p:spPr>
          <a:xfrm>
            <a:off x="3995640" y="5248440"/>
            <a:ext cx="936720" cy="125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coollady.ru/pic/0002/046/19.jpg"/>
          <p:cNvPicPr/>
          <p:nvPr/>
        </p:nvPicPr>
        <p:blipFill>
          <a:blip r:embed="rId8"/>
          <a:stretch/>
        </p:blipFill>
        <p:spPr>
          <a:xfrm>
            <a:off x="5149800" y="5202360"/>
            <a:ext cx="21495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https://library.kissclipart.com/20180827/foe/kissclipart-lemon-clipart-lemon-clip-art-4ec47bb5cbdfedd0.png"/>
          <p:cNvPicPr/>
          <p:nvPr/>
        </p:nvPicPr>
        <p:blipFill>
          <a:blip r:embed="rId9"/>
          <a:stretch/>
        </p:blipFill>
        <p:spPr>
          <a:xfrm>
            <a:off x="7486560" y="5245200"/>
            <a:ext cx="1015920" cy="101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s://png.pngtree.com/element_origin_min_pic/16/09/19/1657dfa1cc372e1.jpg"/>
          <p:cNvPicPr/>
          <p:nvPr/>
        </p:nvPicPr>
        <p:blipFill>
          <a:blip r:embed="rId10"/>
          <a:stretch/>
        </p:blipFill>
        <p:spPr>
          <a:xfrm>
            <a:off x="7238880" y="4338720"/>
            <a:ext cx="93672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s://png.pngtree.com/element_origin_min_pic/16/07/12/165784b12707425.jpg"/>
          <p:cNvPicPr/>
          <p:nvPr/>
        </p:nvPicPr>
        <p:blipFill>
          <a:blip r:embed="rId11"/>
          <a:stretch/>
        </p:blipFill>
        <p:spPr>
          <a:xfrm>
            <a:off x="7983360" y="2862360"/>
            <a:ext cx="835200" cy="1657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" descr=""/>
          <p:cNvPicPr/>
          <p:nvPr/>
        </p:nvPicPr>
        <p:blipFill>
          <a:blip r:embed="rId12"/>
          <a:stretch/>
        </p:blipFill>
        <p:spPr>
          <a:xfrm>
            <a:off x="2193840" y="225360"/>
            <a:ext cx="4530960" cy="156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png.pngtree.com/element_origin_min_pic/17/03/24/c0a0aaf96813ba412c84ff98799e6c74.jpg"/>
          <p:cNvPicPr/>
          <p:nvPr/>
        </p:nvPicPr>
        <p:blipFill>
          <a:blip r:embed="rId13"/>
          <a:stretch/>
        </p:blipFill>
        <p:spPr>
          <a:xfrm>
            <a:off x="6595920" y="241200"/>
            <a:ext cx="222264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2" descr="https://cdn.pixabay.com/photo/2013/07/12/12/53/cooking-pot-146459_1280.png"/>
          <p:cNvPicPr/>
          <p:nvPr/>
        </p:nvPicPr>
        <p:blipFill>
          <a:blip r:embed="rId2"/>
          <a:stretch/>
        </p:blipFill>
        <p:spPr>
          <a:xfrm>
            <a:off x="2417760" y="1627200"/>
            <a:ext cx="5462640" cy="343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s://englishforbeginner.ru/wp-content/uploads/2019/02/svekla-249x300.png"/>
          <p:cNvPicPr/>
          <p:nvPr/>
        </p:nvPicPr>
        <p:blipFill>
          <a:blip r:embed="rId3"/>
          <a:stretch/>
        </p:blipFill>
        <p:spPr>
          <a:xfrm>
            <a:off x="7359480" y="2852640"/>
            <a:ext cx="1441800" cy="173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ttps://www.pngonly.com/wp-content/uploads/2017/05/Potato-Clipart-PNG-Image-01.png"/>
          <p:cNvPicPr/>
          <p:nvPr/>
        </p:nvPicPr>
        <p:blipFill>
          <a:blip r:embed="rId4"/>
          <a:stretch/>
        </p:blipFill>
        <p:spPr>
          <a:xfrm>
            <a:off x="882720" y="3341520"/>
            <a:ext cx="107316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https://4.bp.blogspot.com/-2xmA1E4W158/WRAB11K-uCI/AAAAAAAAAEk/b14aV_S8U_4MqeSnvVQXCfigJ4-dEvfDgCK4B/s400/iHV2KR4PR.jpg"/>
          <p:cNvPicPr/>
          <p:nvPr/>
        </p:nvPicPr>
        <p:blipFill>
          <a:blip r:embed="rId5"/>
          <a:stretch/>
        </p:blipFill>
        <p:spPr>
          <a:xfrm>
            <a:off x="504720" y="4832280"/>
            <a:ext cx="1224000" cy="163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s://ds05.infourok.ru/uploads/ex/0aaa/000317e9-6d817b23/hello_html_f4e4d30.png"/>
          <p:cNvPicPr/>
          <p:nvPr/>
        </p:nvPicPr>
        <p:blipFill>
          <a:blip r:embed="rId6"/>
          <a:stretch/>
        </p:blipFill>
        <p:spPr>
          <a:xfrm>
            <a:off x="2954160" y="533232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www.playcast.ru/uploads/2018/05/28/25307669.png"/>
          <p:cNvPicPr/>
          <p:nvPr/>
        </p:nvPicPr>
        <p:blipFill>
          <a:blip r:embed="rId7"/>
          <a:stretch/>
        </p:blipFill>
        <p:spPr>
          <a:xfrm>
            <a:off x="4464000" y="4878360"/>
            <a:ext cx="936720" cy="125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://www.coollady.ru/pic/0002/046/19.jpg"/>
          <p:cNvPicPr/>
          <p:nvPr/>
        </p:nvPicPr>
        <p:blipFill>
          <a:blip r:embed="rId8"/>
          <a:stretch/>
        </p:blipFill>
        <p:spPr>
          <a:xfrm>
            <a:off x="5419800" y="5518080"/>
            <a:ext cx="2149560" cy="86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https://library.kissclipart.com/20180827/foe/kissclipart-lemon-clipart-lemon-clip-art-4ec47bb5cbdfedd0.png"/>
          <p:cNvPicPr/>
          <p:nvPr/>
        </p:nvPicPr>
        <p:blipFill>
          <a:blip r:embed="rId9"/>
          <a:stretch/>
        </p:blipFill>
        <p:spPr>
          <a:xfrm>
            <a:off x="7650000" y="4816440"/>
            <a:ext cx="1017720" cy="101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s://png.pngtree.com/element_origin_min_pic/16/09/19/1657dfa1cc372e1.jpg"/>
          <p:cNvPicPr/>
          <p:nvPr/>
        </p:nvPicPr>
        <p:blipFill>
          <a:blip r:embed="rId10"/>
          <a:stretch/>
        </p:blipFill>
        <p:spPr>
          <a:xfrm>
            <a:off x="1835280" y="4794120"/>
            <a:ext cx="936360" cy="86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s://png.pngtree.com/element_origin_min_pic/16/07/12/165784b12707425.jpg"/>
          <p:cNvPicPr/>
          <p:nvPr/>
        </p:nvPicPr>
        <p:blipFill>
          <a:blip r:embed="rId11"/>
          <a:stretch/>
        </p:blipFill>
        <p:spPr>
          <a:xfrm>
            <a:off x="7832880" y="1197000"/>
            <a:ext cx="8348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" descr=""/>
          <p:cNvPicPr/>
          <p:nvPr/>
        </p:nvPicPr>
        <p:blipFill>
          <a:blip r:embed="rId12"/>
          <a:stretch/>
        </p:blipFill>
        <p:spPr>
          <a:xfrm>
            <a:off x="1579680" y="225360"/>
            <a:ext cx="5765760" cy="1560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s://avatars.mds.yandex.net/get-zen_doc/1550999/pub_5c6918f89d7a9a00aff8cb7d_5c6919066516eb00b33de50c/scale_1200"/>
          <p:cNvPicPr/>
          <p:nvPr/>
        </p:nvPicPr>
        <p:blipFill>
          <a:blip r:embed="rId13"/>
          <a:stretch/>
        </p:blipFill>
        <p:spPr>
          <a:xfrm>
            <a:off x="0" y="106200"/>
            <a:ext cx="2232000" cy="304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pes</cp:lastModifiedBy>
  <dcterms:modified xsi:type="dcterms:W3CDTF">2019-05-16T14:46:52Z</dcterms:modified>
  <cp:revision>61</cp:revision>
  <dc:subject/>
  <dc:title>Слайд 1</dc:title>
</cp:coreProperties>
</file>