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AF85-5AAC-4E25-8935-5F05819136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с создал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ns W. Hof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C17E-8810-47AD-8444-AC645AC3DF4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с создал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ns W. Hof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FEFB-1D03-454B-8135-C93DFCAEDDA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3450-3F28-4D7B-A79D-DAE94DA8B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80AE-DF53-4DE7-A1B3-56534033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9E75-777A-4711-980D-B1BEA7486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8C4C-E807-4E39-B49E-F56730AF1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7C96-38E4-4C9C-A641-A884E130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9F9A-D568-44B0-AA08-7A06AFFD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4A44-625F-4706-80D2-4D1F6989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CDD2-9C29-406E-8A89-5F4C20FD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8B6F-4A0E-4C90-A1F7-C355B1D8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446C-3173-45CE-99B2-83858800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17B1-B149-4F4C-911D-A41AB80D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699D-F321-40AA-8FFF-3AD462CC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2259-B24E-4B74-A043-A48B89C8CB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5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640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терактивная игра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«Я- повар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https://avatars.mds.yandex.net/get-pdb/1808252/4919b517-fa75-43fa-86ac-bb1e890539e5/s1200?webp=false"/>
          <p:cNvPicPr/>
          <p:nvPr/>
        </p:nvPicPr>
        <p:blipFill>
          <a:blip r:embed="rId2"/>
          <a:stretch/>
        </p:blipFill>
        <p:spPr>
          <a:xfrm>
            <a:off x="1292400" y="2938320"/>
            <a:ext cx="637056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2" descr="https://cdn.pixabay.com/photo/2013/07/12/12/53/cooking-pot-146459_1280.png"/>
          <p:cNvPicPr/>
          <p:nvPr/>
        </p:nvPicPr>
        <p:blipFill>
          <a:blip r:embed="rId2"/>
          <a:stretch/>
        </p:blipFill>
        <p:spPr>
          <a:xfrm>
            <a:off x="2448000" y="1627200"/>
            <a:ext cx="5460840" cy="3438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https://englishforbeginner.ru/wp-content/uploads/2019/02/svekla-249x300.png"/>
          <p:cNvPicPr/>
          <p:nvPr/>
        </p:nvPicPr>
        <p:blipFill>
          <a:blip r:embed="rId3"/>
          <a:stretch/>
        </p:blipFill>
        <p:spPr>
          <a:xfrm>
            <a:off x="322200" y="1341360"/>
            <a:ext cx="1440000" cy="1735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https://www.pngonly.com/wp-content/uploads/2017/05/Potato-Clipart-PNG-Image-01.png"/>
          <p:cNvPicPr/>
          <p:nvPr/>
        </p:nvPicPr>
        <p:blipFill>
          <a:blip r:embed="rId4"/>
          <a:stretch/>
        </p:blipFill>
        <p:spPr>
          <a:xfrm>
            <a:off x="882720" y="3341520"/>
            <a:ext cx="1073160" cy="863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0" descr="https://4.bp.blogspot.com/-2xmA1E4W158/WRAB11K-uCI/AAAAAAAAAEk/b14aV_S8U_4MqeSnvVQXCfigJ4-dEvfDgCK4B/s400/iHV2KR4PR.jpg"/>
          <p:cNvPicPr/>
          <p:nvPr/>
        </p:nvPicPr>
        <p:blipFill>
          <a:blip r:embed="rId5"/>
          <a:stretch/>
        </p:blipFill>
        <p:spPr>
          <a:xfrm>
            <a:off x="539640" y="4502160"/>
            <a:ext cx="1224000" cy="1631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s://ds05.infourok.ru/uploads/ex/0aaa/000317e9-6d817b23/hello_html_f4e4d30.png"/>
          <p:cNvPicPr/>
          <p:nvPr/>
        </p:nvPicPr>
        <p:blipFill>
          <a:blip r:embed="rId6"/>
          <a:stretch/>
        </p:blipFill>
        <p:spPr>
          <a:xfrm>
            <a:off x="2236680" y="533556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http://www.playcast.ru/uploads/2018/05/28/25307669.png"/>
          <p:cNvPicPr/>
          <p:nvPr/>
        </p:nvPicPr>
        <p:blipFill>
          <a:blip r:embed="rId7"/>
          <a:stretch/>
        </p:blipFill>
        <p:spPr>
          <a:xfrm>
            <a:off x="3995640" y="5248440"/>
            <a:ext cx="936720" cy="1252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http://www.coollady.ru/pic/0002/046/19.jpg"/>
          <p:cNvPicPr/>
          <p:nvPr/>
        </p:nvPicPr>
        <p:blipFill>
          <a:blip r:embed="rId8"/>
          <a:stretch/>
        </p:blipFill>
        <p:spPr>
          <a:xfrm>
            <a:off x="5149800" y="5202360"/>
            <a:ext cx="2149560" cy="863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" descr="https://library.kissclipart.com/20180827/foe/kissclipart-lemon-clipart-lemon-clip-art-4ec47bb5cbdfedd0.png"/>
          <p:cNvPicPr/>
          <p:nvPr/>
        </p:nvPicPr>
        <p:blipFill>
          <a:blip r:embed="rId9"/>
          <a:stretch/>
        </p:blipFill>
        <p:spPr>
          <a:xfrm>
            <a:off x="7486560" y="5245200"/>
            <a:ext cx="1015920" cy="101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https://png.pngtree.com/element_origin_min_pic/16/09/19/1657dfa1cc372e1.jpg"/>
          <p:cNvPicPr/>
          <p:nvPr/>
        </p:nvPicPr>
        <p:blipFill>
          <a:blip r:embed="rId10"/>
          <a:stretch/>
        </p:blipFill>
        <p:spPr>
          <a:xfrm>
            <a:off x="7238880" y="4338720"/>
            <a:ext cx="936720" cy="863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https://png.pngtree.com/element_origin_min_pic/16/07/12/165784b12707425.jpg"/>
          <p:cNvPicPr/>
          <p:nvPr/>
        </p:nvPicPr>
        <p:blipFill>
          <a:blip r:embed="rId11"/>
          <a:stretch/>
        </p:blipFill>
        <p:spPr>
          <a:xfrm>
            <a:off x="7983360" y="2862360"/>
            <a:ext cx="835200" cy="165708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1" descr=""/>
          <p:cNvPicPr/>
          <p:nvPr/>
        </p:nvPicPr>
        <p:blipFill>
          <a:blip r:embed="rId12"/>
          <a:stretch/>
        </p:blipFill>
        <p:spPr>
          <a:xfrm>
            <a:off x="2193840" y="225360"/>
            <a:ext cx="4530960" cy="1560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s://png.pngtree.com/element_origin_min_pic/17/03/24/c0a0aaf96813ba412c84ff98799e6c74.jpg"/>
          <p:cNvPicPr/>
          <p:nvPr/>
        </p:nvPicPr>
        <p:blipFill>
          <a:blip r:embed="rId13"/>
          <a:stretch/>
        </p:blipFill>
        <p:spPr>
          <a:xfrm>
            <a:off x="6595920" y="241200"/>
            <a:ext cx="2222640" cy="27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2" descr="https://cdn.pixabay.com/photo/2013/07/12/12/53/cooking-pot-146459_1280.png"/>
          <p:cNvPicPr/>
          <p:nvPr/>
        </p:nvPicPr>
        <p:blipFill>
          <a:blip r:embed="rId2"/>
          <a:stretch/>
        </p:blipFill>
        <p:spPr>
          <a:xfrm>
            <a:off x="2417760" y="1627200"/>
            <a:ext cx="5462640" cy="3438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" descr="https://englishforbeginner.ru/wp-content/uploads/2019/02/svekla-249x300.png"/>
          <p:cNvPicPr/>
          <p:nvPr/>
        </p:nvPicPr>
        <p:blipFill>
          <a:blip r:embed="rId3"/>
          <a:stretch/>
        </p:blipFill>
        <p:spPr>
          <a:xfrm>
            <a:off x="7359480" y="2852640"/>
            <a:ext cx="1441800" cy="1735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https://www.pngonly.com/wp-content/uploads/2017/05/Potato-Clipart-PNG-Image-01.png"/>
          <p:cNvPicPr/>
          <p:nvPr/>
        </p:nvPicPr>
        <p:blipFill>
          <a:blip r:embed="rId4"/>
          <a:stretch/>
        </p:blipFill>
        <p:spPr>
          <a:xfrm>
            <a:off x="882720" y="3341520"/>
            <a:ext cx="1073160" cy="863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0" descr="https://4.bp.blogspot.com/-2xmA1E4W158/WRAB11K-uCI/AAAAAAAAAEk/b14aV_S8U_4MqeSnvVQXCfigJ4-dEvfDgCK4B/s400/iHV2KR4PR.jpg"/>
          <p:cNvPicPr/>
          <p:nvPr/>
        </p:nvPicPr>
        <p:blipFill>
          <a:blip r:embed="rId5"/>
          <a:stretch/>
        </p:blipFill>
        <p:spPr>
          <a:xfrm>
            <a:off x="504720" y="4832280"/>
            <a:ext cx="1224000" cy="1631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https://ds05.infourok.ru/uploads/ex/0aaa/000317e9-6d817b23/hello_html_f4e4d30.png"/>
          <p:cNvPicPr/>
          <p:nvPr/>
        </p:nvPicPr>
        <p:blipFill>
          <a:blip r:embed="rId6"/>
          <a:stretch/>
        </p:blipFill>
        <p:spPr>
          <a:xfrm>
            <a:off x="2954160" y="533232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http://www.playcast.ru/uploads/2018/05/28/25307669.png"/>
          <p:cNvPicPr/>
          <p:nvPr/>
        </p:nvPicPr>
        <p:blipFill>
          <a:blip r:embed="rId7"/>
          <a:stretch/>
        </p:blipFill>
        <p:spPr>
          <a:xfrm>
            <a:off x="4464000" y="4878360"/>
            <a:ext cx="936720" cy="1252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http://www.coollady.ru/pic/0002/046/19.jpg"/>
          <p:cNvPicPr/>
          <p:nvPr/>
        </p:nvPicPr>
        <p:blipFill>
          <a:blip r:embed="rId8"/>
          <a:stretch/>
        </p:blipFill>
        <p:spPr>
          <a:xfrm>
            <a:off x="5419800" y="5518080"/>
            <a:ext cx="2149560" cy="865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https://library.kissclipart.com/20180827/foe/kissclipart-lemon-clipart-lemon-clip-art-4ec47bb5cbdfedd0.png"/>
          <p:cNvPicPr/>
          <p:nvPr/>
        </p:nvPicPr>
        <p:blipFill>
          <a:blip r:embed="rId9"/>
          <a:stretch/>
        </p:blipFill>
        <p:spPr>
          <a:xfrm>
            <a:off x="7650000" y="4816440"/>
            <a:ext cx="1017720" cy="1015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https://png.pngtree.com/element_origin_min_pic/16/09/19/1657dfa1cc372e1.jpg"/>
          <p:cNvPicPr/>
          <p:nvPr/>
        </p:nvPicPr>
        <p:blipFill>
          <a:blip r:embed="rId10"/>
          <a:stretch/>
        </p:blipFill>
        <p:spPr>
          <a:xfrm>
            <a:off x="1835280" y="4794120"/>
            <a:ext cx="936360" cy="865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https://png.pngtree.com/element_origin_min_pic/16/07/12/165784b12707425.jpg"/>
          <p:cNvPicPr/>
          <p:nvPr/>
        </p:nvPicPr>
        <p:blipFill>
          <a:blip r:embed="rId11"/>
          <a:stretch/>
        </p:blipFill>
        <p:spPr>
          <a:xfrm>
            <a:off x="7832880" y="1197000"/>
            <a:ext cx="834840" cy="165564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1" descr=""/>
          <p:cNvPicPr/>
          <p:nvPr/>
        </p:nvPicPr>
        <p:blipFill>
          <a:blip r:embed="rId12"/>
          <a:stretch/>
        </p:blipFill>
        <p:spPr>
          <a:xfrm>
            <a:off x="1579680" y="225360"/>
            <a:ext cx="5765760" cy="1560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https://avatars.mds.yandex.net/get-zen_doc/1550999/pub_5c6918f89d7a9a00aff8cb7d_5c6919066516eb00b33de50c/scale_1200"/>
          <p:cNvPicPr/>
          <p:nvPr/>
        </p:nvPicPr>
        <p:blipFill>
          <a:blip r:embed="rId13"/>
          <a:stretch/>
        </p:blipFill>
        <p:spPr>
          <a:xfrm>
            <a:off x="0" y="106200"/>
            <a:ext cx="2232000" cy="3040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pes</cp:lastModifiedBy>
  <dcterms:modified xsi:type="dcterms:W3CDTF">2019-05-16T14:46:52Z</dcterms:modified>
  <cp:revision>61</cp:revision>
  <dc:subject/>
  <dc:title>Слайд 1</dc:title>
</cp:coreProperties>
</file>