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C54D-DDF9-4CF8-83E6-681D66BEE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DF3B-25F1-4227-908A-09E8C14857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ей чертой обучения в условиях социальных перемен является его направленность на формирование умения  у детей не только приспосабливаться к изменяющимся ситуациям, но и активно осваивать новые знания, виды деятельности, формы функционирования на рынке труда. На протяжении последних десятилетий в разных странах мира педагогическая наука и практика стремится выбрать педагогические технологии, которые предоставляют студентам  возможность занимать активную, т.е. инициативную позицию в учебном процессе. Ребенок  должен не просто «усваивать» предлагаемый преподавателем материал, а познавать мир, вступая в активный диал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амому искать решения проблем и не останавливаться на найденном, как на окончательной исти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ой активных форм обучения является их связь с непосредственным опытом учащихся, который носит социальный характер и выступает как отправной момент и важнейший источник учеб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насущных требований современного процесса обучения является разработка и применение современных дидактических средств, предназначенных для достижения выше указанных целей.  Игровые технологии - обязательный элемент образовательного процесса в современном образов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A315-B58F-4CFF-B25D-C3340BBE36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Но!! Педагог контролирует ход игры и может при необходимости вмещаться в происходящ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В ролевой игре  дети овладевают опытом  деятельности и соответствующих ему переживаний, сходными с тем ,что они получили  бы в действительности, но без опасений и р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. В остальном исполнители игровых ролей свободны в своих проявлениях. Желательно .чтобы их реакции были естественны и спонтанны. Члены группы ,получившие функциональную роль наблюдателей , не только сопереживают ,но и фиксируют свои оценки происходящего по определенным заранее критер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. Для этого необходимо  специальная подготовка педаг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A79D-4E8B-472F-8FC2-862F0CCA81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ой моделью может быть фабрика, музей, отдельное подразделение с достаточно подробным описанием специфики, имеющихся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64F-382E-4973-A574-AAEC2970FE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  рекомендуется выполнять в определен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тексте приведенного выше сценария вопросы для рефлексивного анализа  ситуации к участникам ролевой игры могут быть таки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Удовлетворены ли Вы результатами встречи и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Поделитесь переживаниями. которые Вы испытывали в ходе игр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Хотели бы Вы что-либо изменить и что имен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чень важно акцентировать внимание детей на значении  обратной связи, польза которой зависит от формы ее выражения, будь то положительное или отрицательное суждение. Продуктивная  обратная 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лжна содержать советов или интерпретаций, в ней может присутствовать информация о том, какие чувства испытывает партнер, о чем он думает и как в результате может поступить в дан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663-AB6C-499B-B521-216644852E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едение итогов  рекомендуется выполнять в определен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онтексте приведенного выше сценария вопросы для рефлексивного анализа  ситуации к участникам ролевой игры могут быть таки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Удовлетворены ли Вы результатами встречи и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Поделитесь переживаниями. которые Вы испытывали в ходе игр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Хотели бы Вы что-либо изменить и что имен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чень важно акцентировать внимание студентов на значении  обратной связи, польза которой зависит от формы ее выражения, будь то положительное или отрицательное суждение. Продуктивная  обратная связ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должна содержать советов или интерпретаций, в ней может присутствовать информация о том, какие чувства испытывает партнер, о чем он думает и как в результате может поступить в дан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BAB4-F388-4CAA-99A7-8CE9C556D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Могут быть реальные ситуации(печатные материал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Зависит от целей и от анализируемой пробл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 сложности ,этапов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звернутое изложение сущности игры, логическую последовательность ее реализации, 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Разработки бланков, таблиц и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Иногда необходимо иметь несколько поме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02AF-312B-4204-B4F5-313D0417E3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этапе участников знакомят с ситуацией, общим регламентом ,целью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размер группы 5-7 человек, в каждой группе выбирается лидер; распределяются игровые ро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олучают игровое зад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рабочей группе, участники анализируют ситуацию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е и выработка вариа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связь, мониторинг мнений, степень удовлетворенности ,потери ,приобрет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вязана  с размышлениями участников об их будущем, о перспективах использования  в учебном процессе такого рода технологий, 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370D-74A6-4B9E-A767-D02214AC3E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C6D-23A4-40AF-978C-7883463F22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метода проигрывания  ролей состоит в том, чтобы создать правдивую ситуацию и затем дать обучаемым возможность оценить роли других участников игры. С психологической точки зрения , содержанием ролевой игры является отношения между людьми – «человек – челове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6DC7-894C-4357-BC86-82B22490B1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готовые методические разработки ролевых игр мало доступны, педагоги вынуждены сами разрабатывать сценарии ролевых игр и планы использования их на занятии. Поэтому необходимо учитывать ряд практических рекоменд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7D5A-0387-4FCF-B9FA-DB1B49F0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3764-1209-4A59-884C-75E795AD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9C35-078D-48B4-8107-06C7FDD8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D5D8-C9B6-4E2A-BC1B-F44DF084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6C78-D217-48EE-B248-4BF9655B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4568-629A-4707-ACC6-64E1554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F590-35B3-4049-8548-CDA17060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5136-2E96-406F-ACEE-4E0E418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C62-63AE-45A0-90F5-6E629348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AF22-0557-4372-BAF4-E78218C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2EE5-F363-49BF-B9E3-C4181E4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741F-0997-42FF-A39A-37D71F75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A11-B230-46E5-A511-73B3F27C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9E56-EAC5-4E10-B337-D5E6265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86C3-42A6-4BC3-B78E-F002E4C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0D4-9538-4E42-86AE-BA70384D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ED2-C8EF-468D-B95E-1210DBA4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0BA2-FB3E-40D9-AF75-9D3BCE1A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D7E2-A1AA-4F0B-89CC-C8F3B67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7AF8-D727-4E3A-A0A6-B47017D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A528-5104-44B0-930D-2798506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FB50-90EB-4CC5-9C3D-F5C1932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9E5B-FD0B-4DAF-8475-E7732DC1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AFA7-5411-4080-8FD3-801DA25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1F1-063D-4732-8F69-766601736D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DC0-99A8-433C-94C2-E84667BE5D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bf25a"/>
                </a:solidFill>
                <a:latin typeface="Times New Roman"/>
              </a:rPr>
              <a:t>Игровые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ebf25a"/>
                </a:solidFill>
                <a:latin typeface="Times New Roman"/>
              </a:rPr>
              <a:t>технологи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Сценарий ролевой игры</a:t>
            </a:r>
            <a:br>
              <a:rPr sz="3800"/>
            </a:br>
            <a:br>
              <a:rPr sz="38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уществуют различные модификации ролевых игр. Выбирая одну из них для сценария необходимо ориентироваться на ряд факторов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Основные фактор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конкретные дидактические цели занятия в предметно – содержательном и социально-психологическом аспек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тепень зрелости воспитанников и их готовность к подобной деятель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ременные ресурс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уровень компетентности педагога и его опыт использования интерактивных методов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оведение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едагог  (создав игровую ситуацию) является нейтральным наблюдател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в ходе игры происходит «проживание» участниками проблемной ситуации в ее игровом воплоще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цель – достичь компромисса, не жертвуя основными принцип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для повышения эффективности метода ролевой игры возможно использование видеотехн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Характеристики роле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модели управляемой системы, включенной в конкретную социально-экономическую систе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р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азличие целей участников игры, исполняющих разные ро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заимодействие р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Наличие общей цели у всего игрового коллект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Способы распределения роле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озможны два вариан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1)Роли распределяются между некоторыми слушателями, а остальные, не получившие ролей, становятся активными зрителями, наблюдател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2)Слушатели разбиваются на небольшие группы единомышленников, и каждая группа коллективно берет на себя роль отдельного лица – участника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дведение итогов игр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чинать желательно с вербализации участниками игры своих переживаний и обмен эмоциональным опытом между участниками иг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Далее идет анализ ролевой игры, который включает в себя самоанализ участников игры и «обратную связь»в их адрес от других членов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дведение итогов игры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766520"/>
            <a:ext cx="77774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Завершается обсуждение сопоставлением проигранной ситуации с реальными событиями, поиском аналогий из жизни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дним из результатов обсуждения может быть внесение поправок  и изменений в игру, участники также могут предложить повторное проведение игры, чтобы прожить ситуацию в другой роли или испытать другую стратегию по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82160" cy="475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Роль наблюдателя очень важна, он не только внимательно следит за развитием ситуации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и сопереживает происходящему.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Он учится видеть чужие промахи и успехи,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замечает чужие проблемы, наблюдатели делают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первый шаг на пути к признанию своего несовершенства.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аблюдательный лист составляется педагогом, в нем содержится перечень критериев, которые для удобства заполнения сведены в таблицу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6760" y="2071800"/>
            <a:ext cx="7916760" cy="3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Главным итогом ролевой игры </a:t>
            </a:r>
            <a:br>
              <a:rPr sz="3200"/>
            </a:b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можно считать желание участников воплотить полученный опыт в жизнь</a:t>
            </a:r>
            <a:br>
              <a:rPr sz="3200"/>
            </a:b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и их веру в успех.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Деловые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Это модель процесса принятия управленческого или хозяйственного ре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Такая игра строится на моделировании объекта управления, но для принятия решений в ней обязательно должны быть роли. Как должностные, так и игровые, игровое проектирование решений и взаимодействие учас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2aa68"/>
                </a:solidFill>
                <a:latin typeface="Times New Roman"/>
              </a:rPr>
              <a:t>     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Игровые техн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5280" y="1484280"/>
            <a:ext cx="819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– это вид деятельности в условиях ситуации, направленной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062920" cy="557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ebf25a"/>
                </a:solidFill>
                <a:latin typeface="Tahoma"/>
              </a:rPr>
              <a:t>Деловые игры можно использовать для создания управленческих и коммуникативных обучающих моделей, способствующих лучшему пониманию интерактивных (сотрудничество) и персептивных (восприятие и понимание) механизмов взаимодействия и коллективного принятия решений , развивающих аналитический, диагностический и прогностический потенциал обучаемых.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иды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зависимости от целевой направленности могу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изводственные – ставят целью принятие решений по проблемам производства, оказание помощи предприятию, организации или учреждению по переходу на новый хозяйственный механизм, разработку стратегий выживания в условиях стагнации, нерентабельности или конкурентной борьб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Виды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7706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исследовательские – связаны с разработкой новых концепций, испытанием проблем и решений гипотетического характера, прогнозированием последствий и потенциальных проблем при внедрении нововвед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валификационные или аттестационные – проводятся для выявления уровня компетентности, квалификации специалистов, принятия решений по вопросам подбора или увольнения, придвижения, оценки и аттестации кадров, управления компетентностью персонала  предприят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дидактические – развивают репродуктивное и творческое педагогическое и психологическое мышление, адаптационные свойства и способности, профессиональные и коммуникативные знания, умения и навы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целенаправленности-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учебная, исследовательская, экспериментальная, проектировочная, производственная,  универсальна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форме взаимодействия участников – игра с взаимодействием (установление контакта с помощью различных видов связи является обязательным элементом), без взаимодействия (решения одной группы не влияют на результаты и поведение другой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о динамике моделируемых ситуаций – саморазвивающаяся, с регламентированным временем; с произвольным (зависящим от решения задач) регламент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по способам обработки и передачи информации – ручная  и с использованием обычных технологий тех.средств орг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изна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скорости игрового времени- с  реальным масштабом времени, в условно ускоренном времени, в условно замедленном времени, в произвольном масштабе времен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типу коммуникации – с использованием устной, письменной, визуальной, формальной, неформальной, межличностной, межгрупповой коммуника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 конечному продукту игры – с материализованным конечным продуктом или с абстрактным результат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Характеристики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Моделирование процесса деятельности по выработке управленческих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Распределение ролей между участниками 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личие общей цели у всего игрового коллект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оллективная выработка решений участниками иг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Реализация цепочки решений в игровом процесс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Многоальтернативность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личие управляемого эмоционального напря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еимущества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Повышается интерес к учебным  занятиям и к тем проблемам, которые моделируются и разыгрываются на деловых игр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Обучаемые получают и усваивают большее количество информации, основанной на конкретных примерах, что способствует приобретению участниками игры навыков принятия конструктивных реше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Участие в деловых играх развивает аналитическое, экономическое и психологическое мышление обучаемы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реимущества деловых игр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Изменяется   мотивация  обучаемых  к освоению инновационных зна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Растет самооценка обучаемых, а для тех у кого она была завышена – становиться более объектив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Накопленный в деловых играх опыт помогает  более правильно оценивать возможные реальные ситу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Подготовка к разработке и описанию деловой иг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Источники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остав и количество участников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Регламент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ценарий деловой игры или ее блок-структу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Система оценивания результатов деловой иг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Вспомогательный материа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bf25a"/>
                </a:solidFill>
                <a:latin typeface="Tahoma"/>
              </a:rPr>
              <a:t>Организация пространственной сре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Цели игры: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снимает противоречия между абстрактным характером учебного предмета и реальным характером профессиональн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позволяет соединить широкий охват проблем и глубину их осмыс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способствует большей вовлеченности обучаем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рядок проведения деловой иг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856880"/>
            <a:ext cx="72151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ведение в иг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азделение слушателей на груп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гружение в иг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Изучение и системный анализ ситуации или пробл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Игровой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бщая дискуссия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дведение итогов иг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ефлек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«Выгружение из игр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f25a"/>
                </a:solidFill>
                <a:latin typeface="Tahoma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Цели игры: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насыщена обратной связью, причем более содержательной по сравнению с применяемой в традиционных мето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формирует установки профессиональной деятельности, преодолеваются  стереотипы, корректируется самооце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игре проявляется вся лич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гра позволяет осмыслить полученные результ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imes New Roman"/>
              </a:rPr>
              <a:t>Игра подразделяется по игровой методике следующим образ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Предме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юже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Роле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Дело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Имитацион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imes New Roman"/>
              </a:rPr>
              <a:t>Ролевая иг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3548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Это интерактивный метод, который позволяет обучаться на собственном опыте путем специально организованного и регулируемого «проигрывания» жизненной ситуации или профессиональной ситу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ценарий ролевой игры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ближает события в реальности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значительно отдаленные, позволяя участникам увидеть и понять 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«как слово наше отзовется»,</a:t>
            </a:r>
            <a:br>
              <a:rPr sz="2800"/>
            </a:b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и при желании апробировать иную стратегию поведения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972000" y="544680"/>
            <a:ext cx="744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роигрывание определенной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ценарием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роли, </a:t>
            </a:r>
            <a:br>
              <a:rPr sz="24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тождествляет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  ней и  помогает </a:t>
            </a:r>
            <a:br>
              <a:rPr sz="2400"/>
            </a:b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бучающемуся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258920" y="1989000"/>
            <a:ext cx="4572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Обрести эмоциональный опыт взаимодействия с другими людьми в различных ситуац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Установить связь между своим поведением и его последствиями на основе анализа своих переживаний, а также переживаний партнеров по обще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25a"/>
                </a:solidFill>
                <a:latin typeface="Tahoma"/>
              </a:rPr>
              <a:t>*Пойти на риск экспериментирования с новыми моделями поведения в аналогичных ситуац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31280" cy="17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imes New Roman"/>
              </a:rPr>
              <a:t>Организация учебного процесса на основе ролевой игр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714760"/>
            <a:ext cx="822960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сценарий ролевой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проведение игры как таков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ebf25a"/>
                </a:solidFill>
                <a:latin typeface="Tahoma"/>
              </a:rPr>
              <a:t> этап - подведение итогов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4:45:07Z</dcterms:created>
  <dc:creator>Мама</dc:creator>
  <dc:description/>
  <dc:language>en-US</dc:language>
  <cp:lastModifiedBy>Admin</cp:lastModifiedBy>
  <dcterms:modified xsi:type="dcterms:W3CDTF">2012-08-14T14:01:33Z</dcterms:modified>
  <cp:revision>31</cp:revision>
  <dc:subject/>
  <dc:title>Игровые технологии</dc:title>
</cp:coreProperties>
</file>