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0617-BD11-469B-80C4-3F55F2537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D016-3EC9-4658-8A3C-ED80973837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ей чертой обучения в условиях социальных перемен является его направленность на формирование умения  у детей не только приспосабливаться к изменяющимся ситуациям, но и активно осваивать новые знания, виды деятельности, формы функционирования на рынке труда. На протяжении последних десятилетий в разных странах мира педагогическая наука и практика стремится выбрать педагогические технологии, которые предоставляют студентам  возможность занимать активную, т.е. инициативную позицию в учебном процессе. Ребенок  должен не просто «усваивать» предлагаемый преподавателем материал, а познавать мир, вступая в активный диало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амому искать решения проблем и не останавливаться на найденном, как на окончательной истин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ой активных форм обучения является их связь с непосредственным опытом учащихся, который носит социальный характер и выступает как отправной момент и важнейший источник учебного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насущных требований современного процесса обучения является разработка и применение современных дидактических средств, предназначенных для достижения выше указанных целей.  Игровые технологии - обязательный элемент образовательного процесса в современном образов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245D-1AC8-494A-8A19-CFDC97D456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Но!! Педагог контролирует ход игры и может при необходимости вмещаться в происходяще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В ролевой игре  дети овладевают опытом  деятельности и соответствующих ему переживаний, сходными с тем ,что они получили  бы в действительности, но без опасений и ри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. В остальном исполнители игровых ролей свободны в своих проявлениях. Желательно .чтобы их реакции были естественны и спонтанны. Члены группы ,получившие функциональную роль наблюдателей , не только сопереживают ,но и фиксируют свои оценки происходящего по определенным заранее критер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. Для этого необходимо  специальная подготовка педаг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7FE3-EFE7-460B-A75C-437EBBE890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ой моделью может быть фабрика, музей, отдельное подразделение с достаточно подробным описанием специфики, имеющихся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7087-79D3-43A9-BE1D-03D84C5C1D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ведение итогов  рекомендуется выполнять в определен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нтексте приведенного выше сценария вопросы для рефлексивного анализа  ситуации к участникам ролевой игры могут быть таки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Удовлетворены ли Вы результатами встречи и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Поделитесь переживаниями. которые Вы испытывали в ходе игр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Хотели бы Вы что-либо изменить и что имен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чень важно акцентировать внимание детей на значении  обратной связи, польза которой зависит от формы ее выражения, будь то положительное или отрицательное суждение. Продуктивная  обратная связ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лжна содержать советов или интерпретаций, в ней может присутствовать информация о том, какие чувства испытывает партнер, о чем он думает и как в результате может поступить в данной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9791-0CB8-4E82-AC18-D2C9BC05BF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ведение итогов  рекомендуется выполнять в определен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нтексте приведенного выше сценария вопросы для рефлексивного анализа  ситуации к участникам ролевой игры могут быть таки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Удовлетворены ли Вы результатами встречи и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Поделитесь переживаниями. которые Вы испытывали в ходе игр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Хотели бы Вы что-либо изменить и что имен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чень важно акцентировать внимание студентов на значении  обратной связи, польза которой зависит от формы ее выражения, будь то положительное или отрицательное суждение. Продуктивная  обратная связ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должна содержать советов или интерпретаций, в ней может присутствовать информация о том, какие чувства испытывает партнер, о чем он думает и как в результате может поступить в данной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CFF3-CE54-4E6A-8ACD-498B4088AF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Могут быть реальные ситуации(печатные материал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Зависит от целей и от анализируемой пробл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 сложности ,этапов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Развернутое изложение сущности игры, логическую последовательность ее реализации, 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Разработки бланков, таблиц и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Иногда необходимо иметь несколько поме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4372-8A28-4B44-BD5F-BCA5588314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этапе участников знакомят с ситуацией, общим регламентом ,целью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размер группы 5-7 человек, в каждой группе выбирается лидер; распределяются игровые рол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олучают игровое зад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в рабочей группе, участники анализируют ситуацию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е и выработка вариа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ая связь, мониторинг мнений, степень удовлетворенности ,потери ,приобрет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вязана  с размышлениями участников об их будущем, о перспективах использования  в учебном процессе такого рода технологий, 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16F9-57EC-4F79-9E2A-32865795AD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4A0F-183F-4784-B175-E6AC32D980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метода проигрывания  ролей состоит в том, чтобы создать правдивую ситуацию и затем дать обучаемым возможность оценить роли других участников игры. С психологической точки зрения , содержанием ролевой игры является отношения между людьми – «человек – челове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13CD-12AE-43DF-9051-D75352270D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как готовые методические разработки ролевых игр мало доступны, педагоги вынуждены сами разрабатывать сценарии ролевых игр и планы использования их на занятии. Поэтому необходимо учитывать ряд практических рекоменд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F6F1-3C5B-46F5-8D50-C42A8BAA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5344-C41C-4379-A34F-366D2434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58ED-2DFC-406E-8983-E156B5D0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6CB6-E356-4770-BA30-91114D91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8FE7-009E-4ACB-9E62-ECCC9EDA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413B-12DB-4F98-83F9-23DE46A3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E421-884D-498C-AACD-43B8B92A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C74D-CC0B-4C1C-ACCD-A7F15475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61EC-5C4A-459E-920A-2C35874C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D0FD-23E4-4246-B4B7-4A9EA359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1718-64C2-4B59-B762-D2312ADE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59A3-942B-4232-A989-A35B3D61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9639-CA50-45CB-A4E6-977D09D7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20A4-C429-45AE-A354-59A46416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C015-A42E-4BBB-A579-50ECE39D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B1C6-CF9F-430F-8331-C37CAE2B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DDED-404B-4851-85A8-2868291B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F849-AE7F-474C-83F6-1D346F31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640A-7882-4926-BDDC-089183E7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84FD-E3D7-42DB-8B8F-6DAD1461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4991-BABF-43D0-BCE7-BC5F1B66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968F-E773-4CB1-B08D-245131D5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0DC7-CDF6-4ED9-9707-74A2BB8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C01C-B37F-4A56-940E-1186A530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0971-6D08-4086-8A46-765A395E66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BD9E-440B-4A19-A03A-034582802AC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bf25a"/>
                </a:solidFill>
                <a:latin typeface="Times New Roman"/>
              </a:rPr>
              <a:t>Игровые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ebf25a"/>
                </a:solidFill>
                <a:latin typeface="Times New Roman"/>
              </a:rPr>
              <a:t>технологи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27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Сценарий ролевой игры</a:t>
            </a:r>
            <a:br>
              <a:rPr sz="3800"/>
            </a:br>
            <a:br>
              <a:rPr sz="3800"/>
            </a:b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Существуют различные модификации ролевых игр. Выбирая одну из них для сценария необходимо ориентироваться на ряд факторов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Основные фактор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конкретные дидактические цели занятия в предметно – содержательном и социально-психологическом аспек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степень зрелости воспитанников и их готовность к подобной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временные ресурс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уровень компетентности педагога и его опыт использования интерактивных методов обуч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оведение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Педагог  (создав игровую ситуацию) является нейтральным наблюдателе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в ходе игры происходит «проживание» участниками проблемной ситуации в ее игровом воплоще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цель – достичь компромисса, не жертвуя основными принципа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для повышения эффективности метода ролевой игры возможно использование видеотехн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Характеристики роле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Наличие модели управляемой системы, включенной в конкретную социально-экономическую систем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Наличие ро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Различие целей участников игры, исполняющих разные ро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Взаимодействие ро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Наличие общей цели у всего игрового коллекти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Способы распределения роле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Возможны два вариант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1)Роли распределяются между некоторыми слушателями, а остальные, не получившие ролей, становятся активными зрителями, наблюдател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2)Слушатели разбиваются на небольшие группы единомышленников, и каждая группа коллективно берет на себя роль отдельного лица – участника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одведение итогов игры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Начинать желательно с вербализации участниками игры своих переживаний и обмен эмоциональным опытом между участниками иг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Далее идет анализ ролевой игры, который включает в себя самоанализ участников игры и «обратную связь»в их адрес от других членов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одведение итогов игры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766520"/>
            <a:ext cx="777744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Завершается обсуждение сопоставлением проигранной ситуации с реальными событиями, поиском аналогий из жизни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Одним из результатов обсуждения может быть внесение поправок  и изменений в игру, участники также могут предложить повторное проведение игры, чтобы прожить ситуацию в другой роли или испытать другую стратегию пове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82160" cy="475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Роль наблюдателя очень важна, он не только внимательно следит за развитием ситуации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и сопереживает происходящему.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Он учится видеть чужие промахи и успехи,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замечает чужие проблемы, наблюдатели делают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первый шаг на пути к признанию своего несовершенства.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Наблюдательный лист составляется педагогом, в нем содержится перечень критериев, которые для удобства заполнения сведены в таблицу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6760" y="2071800"/>
            <a:ext cx="7916760" cy="31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Главным итогом ролевой игры </a:t>
            </a:r>
            <a:br>
              <a:rPr sz="3200"/>
            </a:b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можно считать желание участников воплотить полученный опыт в жизнь</a:t>
            </a:r>
            <a:br>
              <a:rPr sz="3200"/>
            </a:b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 и их веру в успех.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Деловые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Это модель процесса принятия управленческого или хозяйственного реш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Такая игра строится на моделировании объекта управления, но для принятия решений в ней обязательно должны быть роли. Как должностные, так и игровые, игровое проектирование решений и взаимодействие участ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2aa68"/>
                </a:solidFill>
                <a:latin typeface="Times New Roman"/>
              </a:rPr>
              <a:t>      </a:t>
            </a:r>
            <a:r>
              <a:rPr b="0" lang="ru-RU" sz="4200" spc="-1" strike="noStrike">
                <a:solidFill>
                  <a:srgbClr val="ebf25a"/>
                </a:solidFill>
                <a:latin typeface="Times New Roman"/>
              </a:rPr>
              <a:t>Игровые технолог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95280" y="1484280"/>
            <a:ext cx="8193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– это вид деятельности в условиях ситуации, направленной на воссоздание и усвоение общественного опыта, в котором складывается и совершенствуется самоуправление повед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301320"/>
            <a:ext cx="8062920" cy="557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ebf25a"/>
                </a:solidFill>
                <a:latin typeface="Tahoma"/>
              </a:rPr>
              <a:t>Деловые игры можно использовать для создания управленческих и коммуникативных обучающих моделей, способствующих лучшему пониманию интерактивных (сотрудничество) и персептивных (восприятие и понимание) механизмов взаимодействия и коллективного принятия решений , развивающих аналитический, диагностический и прогностический потенциал обучаемых.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Виды деловых иг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В зависимости от целевой направленности могут бы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производственные – ставят целью принятие решений по проблемам производства, оказание помощи предприятию, организации или учреждению по переходу на новый хозяйственный механизм, разработку стратегий выживания в условиях стагнации, нерентабельности или конкурентной борьб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Виды деловых иг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77060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исследовательские – связаны с разработкой новых концепций, испытанием проблем и решений гипотетического характера, прогнозированием последствий и потенциальных проблем при внедрении нововвед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квалификационные или аттестационные – проводятся для выявления уровня компетентности, квалификации специалистов, принятия решений по вопросам подбора или увольнения, придвижения, оценки и аттестации кадров, управления компетентностью персонала  предприя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дидактические – развивают репродуктивное и творческое педагогическое и психологическое мышление, адаптационные свойства и способности, профессиональные и коммуникативные знания, умения и навы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изнаки дело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 целенаправленности-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учебная, исследовательская, экспериментальная, проектировочная, производственная,  универсальна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 форме взаимодействия участников – игра с взаимодействием (установление контакта с помощью различных видов связи является обязательным элементом), без взаимодействия (решения одной группы не влияют на результаты и поведение другой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изнаки дело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по динамике моделируемых ситуаций – саморазвивающаяся, с регламентированным временем; с произвольным (зависящим от решения задач) регламент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по способам обработки и передачи информации – ручная  и с использованием обычных технологий тех.средств орг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изнаки дело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 скорости игрового времени- с  реальным масштабом времени, в условно ускоренном времени, в условно замедленном времени, в произвольном масштабе времен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 типу коммуникации – с использованием устной, письменной, визуальной, формальной, неформальной, межличностной, межгрупповой коммуника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 конечному продукту игры – с материализованным конечным продуктом или с абстрактным результат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Характеристики дело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Моделирование процесса деятельности по выработке управленческих реш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Распределение ролей между участниками иг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аличие общей цели у всего игрового коллекти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Коллективная выработка решений участниками иг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Реализация цепочки решений в игровом процесс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Многоальтернативность реш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аличие управляемого эмоционального напря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еимущества деловых иг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вышается интерес к учебным  занятиям и к тем проблемам, которые моделируются и разыгрываются на деловых игра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Обучаемые получают и усваивают большее количество информации, основанной на конкретных примерах, что способствует приобретению участниками игры навыков принятия конструктивных решен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Участие в деловых играх развивает аналитическое, экономическое и психологическое мышление обучаемы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еимущества деловых иг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Изменяется   мотивация  обучаемых  к освоению инновационных зна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Растет самооценка обучаемых, а для тех у кого она была завышена – становиться более объектив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Накопленный в деловых играх опыт помогает  более правильно оценивать возможные реальные ситу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Подготовка к разработке и описанию деловой иг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Источники деловой иг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Состав и количество участников иг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Регламент деловой иг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Сценарий деловой игры или ее блок-структу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Система оценивания результатов деловой иг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Вспомогательный материа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Организация пространственной сре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ebf25a"/>
                </a:solidFill>
                <a:latin typeface="Times New Roman"/>
              </a:rPr>
              <a:t>Цели игры: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снимает противоречия между абстрактным характером учебного предмета и реальным характером профессиональн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позволяет соединить широкий охват проблем и глубину их осмыс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способствует большей вовлеченности обучаем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орядок проведения дело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856880"/>
            <a:ext cx="721512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Введение в иг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Разделение слушателей на груп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гружение в иг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Изучение и системный анализ ситуации или пробл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Игровой проце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Общая дискуссия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дведение итогов иг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Рефлекс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«Выгружение из игры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f25a"/>
                </a:solidFill>
                <a:latin typeface="Tahoma"/>
              </a:rPr>
              <a:t>Спасибо за внимани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ebf25a"/>
                </a:solidFill>
                <a:latin typeface="Times New Roman"/>
              </a:rPr>
              <a:t>Цели игры: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насыщена обратной связью, причем более содержательной по сравнению с применяемой в традиционных мето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формирует установки профессиональной деятельности, преодолеваются  стереотипы, корректируется самооц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В игре проявляется вся лич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позволяет осмыслить полученные результа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imes New Roman"/>
              </a:rPr>
              <a:t>Игра подразделяется по игровой методике следующим образом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Предмет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Сюжет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Ролев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Делов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митацион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imes New Roman"/>
              </a:rPr>
              <a:t>Ролевая иг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3548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Это интерактивный метод, который позволяет обучаться на собственном опыте путем специально организованного и регулируемого «проигрывания» жизненной ситуации или профессиональной ситу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2349000"/>
            <a:ext cx="777708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Сценарий ролевой игры </a:t>
            </a:r>
            <a:br>
              <a:rPr sz="2800"/>
            </a:b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сближает события в реальности </a:t>
            </a:r>
            <a:br>
              <a:rPr sz="2800"/>
            </a:b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значительно отдаленные, позволяя участникам увидеть и понять </a:t>
            </a:r>
            <a:br>
              <a:rPr sz="2800"/>
            </a:b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«как слово наше отзовется»,</a:t>
            </a:r>
            <a:br>
              <a:rPr sz="2800"/>
            </a:b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и при желании апробировать иную стратегию поведения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972000" y="544680"/>
            <a:ext cx="744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роигрывание определенной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сценарием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роли, </a:t>
            </a:r>
            <a:br>
              <a:rPr sz="2400"/>
            </a:b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отождествляет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с  ней и  помогает </a:t>
            </a:r>
            <a:br>
              <a:rPr sz="2400"/>
            </a:b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обучающемуся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258920" y="1989000"/>
            <a:ext cx="45720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*Обрести эмоциональный опыт взаимодействия с другими людьми в различных ситуац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*Установить связь между своим поведением и его последствиями на основе анализа своих переживаний, а также переживаний партнеров по обще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*Пойти на риск экспериментирования с новыми моделями поведения в аналогичных ситуац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31280" cy="17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imes New Roman"/>
              </a:rPr>
              <a:t>Организация учебного процесса на основе ролевой иг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714760"/>
            <a:ext cx="822960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 этап - сценарий ролевой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 этап - проведение игры как таков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 этап - подведение итогов иг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4:45:07Z</dcterms:created>
  <dc:creator>Мама</dc:creator>
  <dc:description/>
  <dc:language>en-US</dc:language>
  <cp:lastModifiedBy>Admin</cp:lastModifiedBy>
  <dcterms:modified xsi:type="dcterms:W3CDTF">2012-08-14T14:01:33Z</dcterms:modified>
  <cp:revision>31</cp:revision>
  <dc:subject/>
  <dc:title>Игровые технологии</dc:title>
</cp:coreProperties>
</file>