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00B-8995-4BE3-B7E9-818C4B00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686-0D91-4FBC-9BF9-1290E32C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AF2-0347-4D30-80A4-7629E5B8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A8B-DE1E-4D26-959E-2ED7DBF3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1FAF-83FB-45EF-A5D4-0279CFEC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8185-6AF0-473E-B3BD-78E44756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BD32-C146-4932-87E5-D546649A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EECE-0CAF-42D8-9B8F-EB3D9AC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DA3-51F1-4342-AB2B-7670340E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2ED-21D2-4CC3-8732-6A91A35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3F9-5200-4A17-885B-6860498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D93-BAA9-4CA1-A484-D4C566D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721-929F-4745-8ECA-2AE9271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733-7FF6-4872-9AB3-52F9589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1BD-4AEA-4D5A-BD5F-FCCAC65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DEE8-0E8E-4FCF-B13D-68834DCA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A9A9-6BA2-4A1B-8769-F3073D6F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D4F-AD30-436C-A5F4-7C97305E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E42-A4FF-498D-9CC0-B1FA96BE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AE0-CAA2-46D6-8D0E-7C5F01A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E63-AC9F-45B1-9712-AC25A032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E3F-C66C-4A50-9E6A-6D30751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89D-A5E3-4E16-A285-967CA2C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14F-EC50-4488-886F-1EB4EBD5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16680"/>
            <a:ext cx="10077480" cy="154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720" y="2554200"/>
            <a:ext cx="90662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535640"/>
            <a:ext cx="9066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26000"/>
          </a:bodyPr>
          <a:p>
            <a:pPr marL="889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5C272-5349-4C62-8783-04DE9154D0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77480" cy="169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108840"/>
            <a:ext cx="10077480" cy="145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BAAC8-F19F-4C41-8CB8-E33B48CECF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144000"/>
            <a:ext cx="907092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СОРЕВ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480000" y="5975280"/>
            <a:ext cx="33832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Каюмова Д.49 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25640" y="1785960"/>
            <a:ext cx="649908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40360" y="4218120"/>
            <a:ext cx="5040360" cy="330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144360" y="78840"/>
            <a:ext cx="10223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Segoe UI"/>
              </a:rPr>
              <a:t>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Segoe UI"/>
              </a:rPr>
              <a:t>егкая атлетика - один из основных и наиболее массовых видов спорта, способствующих всестороннему физическому развитию человека, так как объединяет распространенные и жизненно важные движения – ходьба, бег, прыжки, метания. Систематические занятия легкоатлетическими упражнениями развивают силу, быстроту, выносливость и другие качества, необходимые человеку в повседневной жизн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спортивной классификации насчитывается свыше 60 разновидностей легкоатлетических упражнений. В программе современных Олимпийских игр легкая атлетика представлена 24 номерами для мужчин и 14 - для женщ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216360" y="792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8000"/>
          </a:bodyPr>
          <a:p>
            <a:pPr marL="336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цировать легкоатлетические виды спорта можно по различным параметрам: группы видов лёгкой атлетики, половой и возрастной признаки, места проведения. Основу составляют пять видов лёгкой атлетики: ходьба, бег, прыжки, метания и многоборья. Классификация по половому и возрастному признакам: мужские, женские виды; для юношей и девушек различных возрастов. В последней спортивной классификации по лёгкой атлетике у женщин насчитывается 50 видов спорта, проводимых на стадионах, шоссе и пересеченной местности, и 14 видов спорта, проводимых в помещении, у мужчин – 56 и 15 видов спорта,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7164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0000"/>
          </a:bodyPr>
          <a:p>
            <a:pPr marL="3452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грамму соревнований на стадионе могут входить все виды легкой атлетики; на шоссе обычно проводятся соревнования на длинные, сверхдлинные и ультрадлинные дистанции, это: ходьба, начиная с 10 км и больше, бег с 10 км и больше; в лесном массиве проводятся кроссовые соревнования или бег по пересеченной местности. В закрытых помещениях проводятся соревнования по тем видам легкой атлетики, проведение которых возможно только в условиях помещения. По характеру соревнования подразделяются на личные, командные и лично-коман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1:31:28Z</dcterms:created>
  <dc:creator/>
  <dc:description/>
  <dc:language>en-US</dc:language>
  <cp:lastModifiedBy/>
  <dcterms:modified xsi:type="dcterms:W3CDTF">2019-05-17T11:43:22Z</dcterms:modified>
  <cp:revision>4</cp:revision>
  <dc:subject/>
  <dc:title>Beehive</dc:title>
</cp:coreProperties>
</file>