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81E3-E1A2-4362-83FC-1F03B42A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7EA-9E79-4E48-BBC4-88258E28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DD4-1502-454D-9394-189594A5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9A1-9FF6-4AB5-B088-A676DDEC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508C-B445-4791-B9BD-82E73387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661D-671A-4C11-8455-9FAE0CB0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55F8-AE05-4951-ACE0-3D1727F1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C2A3-4EF6-4C50-B1F4-58777467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2E1C-234A-4F06-9B51-4DE60B71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649B-5506-4C0B-956E-C62DF7D2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2AC9-FE4F-4405-B381-01EE7E8C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7619-A154-4939-BB91-35AA411C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39D1-3258-465B-8AA8-A5EC5379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D602-E05E-45FD-9836-04C3A5E4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B344-3E2E-4362-82A1-9D554ADF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0001-E5D9-437F-B67C-B6E8EDC3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4FC5-3D17-4751-8BB0-CDB2412D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3466-436D-448F-9385-FF0E647C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FB1-6D40-4372-A7EE-EA374413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2E38-B14E-4C59-8F7D-48D175A0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CB4-5575-498F-8983-4374017F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D93-5425-4B04-873F-211A6FDA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DD94-EFF5-40AF-B27D-DE48EB1E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A02-5933-495E-9F39-F7E53C7C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016680"/>
            <a:ext cx="10077480" cy="1542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4720" y="2554200"/>
            <a:ext cx="9066240" cy="16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4535640"/>
            <a:ext cx="9066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26000"/>
          </a:bodyPr>
          <a:p>
            <a:pPr marL="8892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920" indent="-88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920" indent="-88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8920" indent="-88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88920" indent="-88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88920" indent="-88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88920" indent="-88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90146-3CF6-45B6-9956-4738B70076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77480" cy="169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108840"/>
            <a:ext cx="10077480" cy="1450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F4A37-538F-4D2A-8191-C60C6B82F4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144000"/>
            <a:ext cx="9070920" cy="16225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СОРЕВНОВ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480000" y="5975280"/>
            <a:ext cx="338328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: Каюмова Д.49 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25640" y="1785960"/>
            <a:ext cx="6499080" cy="40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40360" y="4218120"/>
            <a:ext cx="5040360" cy="3309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-144360" y="78840"/>
            <a:ext cx="1022328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Segoe UI"/>
              </a:rPr>
              <a:t>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Segoe UI"/>
              </a:rPr>
              <a:t>егкая атлетика - один из основных и наиболее массовых видов спорта, способствующих всестороннему физическому развитию человека, так как объединяет распространенные и жизненно важные движения – ходьба, бег, прыжки, метания. Систематические занятия легкоатлетическими упражнениями развивают силу, быстроту, выносливость и другие качества, необходимые человеку в повседневной жизн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временной спортивной классификации насчитывается свыше 60 разновидностей легкоатлетических упражнений. В программе современных Олимпийских игр легкая атлетика представлена 24 номерами для мужчин и 14 - для женщи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216360" y="7920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8000"/>
          </a:bodyPr>
          <a:p>
            <a:pPr marL="3366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цировать легкоатлетические виды спорта можно по различным параметрам: группы видов лёгкой атлетики, половой и возрастной признаки, места проведения. Основу составляют пять видов лёгкой атлетики: ходьба, бег, прыжки, метания и многоборья. Классификация по половому и возрастному признакам: мужские, женские виды; для юношей и девушек различных возрастов. В последней спортивной классификации по лёгкой атлетике у женщин насчитывается 50 видов спорта, проводимых на стадионах, шоссе и пересеченной местности, и 14 видов спорта, проводимых в помещении, у мужчин – 56 и 15 видов спорта, соответстве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71640" y="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80000"/>
          </a:bodyPr>
          <a:p>
            <a:pPr marL="3452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грамму соревнований на стадионе могут входить все виды легкой атлетики; на шоссе обычно проводятся соревнования на длинные, сверхдлинные и ультрадлинные дистанции, это: ходьба, начиная с 10 км и больше, бег с 10 км и больше; в лесном массиве проводятся кроссовые соревнования или бег по пересеченной местности. В закрытых помещениях проводятся соревнования по тем видам легкой атлетики, проведение которых возможно только в условиях помещения. По характеру соревнования подразделяются на личные, командные и лично-коман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7T11:31:28Z</dcterms:created>
  <dc:creator/>
  <dc:description/>
  <dc:language>en-US</dc:language>
  <cp:lastModifiedBy/>
  <dcterms:modified xsi:type="dcterms:W3CDTF">2019-05-17T11:43:22Z</dcterms:modified>
  <cp:revision>4</cp:revision>
  <dc:subject/>
  <dc:title>Beehive</dc:title>
</cp:coreProperties>
</file>