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9795-3FA9-47A3-9632-A7C833EA16A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C04A-C192-41FB-B6B8-C02936C9D74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 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D543-D034-48D2-B92E-80B3AEFD52C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 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к сада в Монжер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3DC2-ED3F-4438-A7E2-0DE8A172E07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тепло. А иногда жар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ходят в легкой одежде (сарафанчиках, кофточке и шортах), с открытыми руками и ног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лесу поют птич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 и кусты красуются в пышных зеленых нарядах. Земля тоже покрыта зеленой травой и цв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поесть вкусные ягоды. Они растут в лесу: земляника, черника, брусника и клюква. И в саду: клубиник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ыжовник, красная и черная смородина. В конце лета в лесу появляются грибы, а в саду начинают созревать фрукты: яблок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ши; и овощи: помидоры, огурцы, редис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можно купаться в речке или море. А из песка на берегу можно делать куличики и строить за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ом очень краси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692C-F088-4338-A09D-64EFFA0C516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ВАСИЛИЙ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ДМИТРИЕВИЧ</a:t>
            </a:r>
            <a:br>
              <a:rPr sz="1000"/>
            </a:b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ОЛЕН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Вид на Абрамцево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3088-6094-4640-A3DB-CDAF98EDA0B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CLAUDE</a:t>
            </a:r>
            <a:r>
              <a:rPr b="1" lang="ru-RU" sz="1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 Black"/>
              </a:rPr>
              <a:t>MONET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лавная дорожка через сад в Живерн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6BCB-D6D4-4231-9DB7-9ACCC04EA69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нюф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8A9-D252-4345-A82E-05530C56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CE3-1526-43BD-9CED-34550350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58C-17D1-49E6-98C5-38AFCC5A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595-507B-48BB-9C70-BC0B8A46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F69-CD3B-45DD-95AF-42AD8D99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C64-55D5-45AB-BDCF-4A14BE20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CE0-B6D2-4FF9-BD3F-0D0EDF27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C5B-7044-4D02-9D81-C399BA9F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7AB-BB1B-4C5E-A9D2-F03CC2CF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081-8C7C-4FDE-8689-F3ECCE7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686-52F5-4D36-A157-32298E2D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9E7-A417-47F7-9ECC-F7119281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5202-4991-48D2-9F0C-EA18CD55EE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удесное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село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ремя год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–логопе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ского сада №5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симова Виктория Юрье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6" descr="C:\Documents and Settings\OlgaMor\My Documents\My Pictures\ЛЕСНЫЕ ЯГОДЫ ЛЕТОМ.jpg"/>
          <p:cNvPicPr/>
          <p:nvPr/>
        </p:nvPicPr>
        <p:blipFill>
          <a:blip r:embed="rId1"/>
          <a:stretch/>
        </p:blipFill>
        <p:spPr>
          <a:xfrm>
            <a:off x="685800" y="152280"/>
            <a:ext cx="8229600" cy="5781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поесть вкусные ягод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ие ягоды растут в лес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371600" y="2273400"/>
            <a:ext cx="2819520" cy="609480"/>
            <a:chOff x="1371600" y="2273400"/>
            <a:chExt cx="2819520" cy="609480"/>
          </a:xfrm>
        </p:grpSpPr>
        <p:grpSp>
          <p:nvGrpSpPr>
            <p:cNvPr id="70" name="Group 5"/>
            <p:cNvGrpSpPr/>
            <p:nvPr/>
          </p:nvGrpSpPr>
          <p:grpSpPr>
            <a:xfrm>
              <a:off x="1373400" y="2275560"/>
              <a:ext cx="2815560" cy="604800"/>
              <a:chOff x="1373400" y="2275560"/>
              <a:chExt cx="2815560" cy="604800"/>
            </a:xfrm>
          </p:grpSpPr>
          <p:grpSp>
            <p:nvGrpSpPr>
              <p:cNvPr id="71" name="Group 6"/>
              <p:cNvGrpSpPr/>
              <p:nvPr/>
            </p:nvGrpSpPr>
            <p:grpSpPr>
              <a:xfrm>
                <a:off x="1373400" y="2275560"/>
                <a:ext cx="2815560" cy="360"/>
                <a:chOff x="1373400" y="2275560"/>
                <a:chExt cx="2815560" cy="360"/>
              </a:xfrm>
            </p:grpSpPr>
            <p:sp>
              <p:nvSpPr>
                <p:cNvPr id="72" name="Rectangle 7"/>
                <p:cNvSpPr/>
                <p:nvPr/>
              </p:nvSpPr>
              <p:spPr>
                <a:xfrm>
                  <a:off x="1401480" y="2275560"/>
                  <a:ext cx="2759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73" name="Rectangle 8"/>
                <p:cNvSpPr/>
                <p:nvPr/>
              </p:nvSpPr>
              <p:spPr>
                <a:xfrm>
                  <a:off x="1373400" y="2275560"/>
                  <a:ext cx="2815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74" name="Group 9"/>
              <p:cNvGrpSpPr/>
              <p:nvPr/>
            </p:nvGrpSpPr>
            <p:grpSpPr>
              <a:xfrm>
                <a:off x="1373400" y="2275560"/>
                <a:ext cx="2815560" cy="604800"/>
                <a:chOff x="1373400" y="2275560"/>
                <a:chExt cx="2815560" cy="604800"/>
              </a:xfrm>
            </p:grpSpPr>
            <p:sp>
              <p:nvSpPr>
                <p:cNvPr id="75" name="Rectangle 10"/>
                <p:cNvSpPr/>
                <p:nvPr/>
              </p:nvSpPr>
              <p:spPr>
                <a:xfrm>
                  <a:off x="1401480" y="2275560"/>
                  <a:ext cx="275904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ЗЕ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М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ЛЯ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76" name="Rectangle 11"/>
                <p:cNvSpPr/>
                <p:nvPr/>
              </p:nvSpPr>
              <p:spPr>
                <a:xfrm>
                  <a:off x="1373400" y="2275560"/>
                  <a:ext cx="2815560" cy="60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77" name="Rectangle 12"/>
            <p:cNvSpPr/>
            <p:nvPr/>
          </p:nvSpPr>
          <p:spPr>
            <a:xfrm>
              <a:off x="1371600" y="227340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78" name="Group 24"/>
          <p:cNvGrpSpPr/>
          <p:nvPr/>
        </p:nvGrpSpPr>
        <p:grpSpPr>
          <a:xfrm>
            <a:off x="762120" y="5105520"/>
            <a:ext cx="1981080" cy="609480"/>
            <a:chOff x="762120" y="5105520"/>
            <a:chExt cx="1981080" cy="609480"/>
          </a:xfrm>
        </p:grpSpPr>
        <p:grpSp>
          <p:nvGrpSpPr>
            <p:cNvPr id="79" name="Group 25"/>
            <p:cNvGrpSpPr/>
            <p:nvPr/>
          </p:nvGrpSpPr>
          <p:grpSpPr>
            <a:xfrm>
              <a:off x="763200" y="5108760"/>
              <a:ext cx="1978560" cy="602280"/>
              <a:chOff x="763200" y="5108760"/>
              <a:chExt cx="1978560" cy="602280"/>
            </a:xfrm>
          </p:grpSpPr>
          <p:grpSp>
            <p:nvGrpSpPr>
              <p:cNvPr id="80" name="Group 26"/>
              <p:cNvGrpSpPr/>
              <p:nvPr/>
            </p:nvGrpSpPr>
            <p:grpSpPr>
              <a:xfrm>
                <a:off x="763200" y="5108760"/>
                <a:ext cx="1978560" cy="360"/>
                <a:chOff x="763200" y="5108760"/>
                <a:chExt cx="1978560" cy="360"/>
              </a:xfrm>
            </p:grpSpPr>
            <p:sp>
              <p:nvSpPr>
                <p:cNvPr id="81" name="Rectangle 27"/>
                <p:cNvSpPr/>
                <p:nvPr/>
              </p:nvSpPr>
              <p:spPr>
                <a:xfrm>
                  <a:off x="783000" y="5108760"/>
                  <a:ext cx="193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82" name="Rectangle 28"/>
                <p:cNvSpPr/>
                <p:nvPr/>
              </p:nvSpPr>
              <p:spPr>
                <a:xfrm>
                  <a:off x="763200" y="5108760"/>
                  <a:ext cx="197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83" name="Group 29"/>
              <p:cNvGrpSpPr/>
              <p:nvPr/>
            </p:nvGrpSpPr>
            <p:grpSpPr>
              <a:xfrm>
                <a:off x="763200" y="5108760"/>
                <a:ext cx="1978560" cy="602280"/>
                <a:chOff x="763200" y="5108760"/>
                <a:chExt cx="1978560" cy="602280"/>
              </a:xfrm>
            </p:grpSpPr>
            <p:sp>
              <p:nvSpPr>
                <p:cNvPr id="84" name="Rectangle 30"/>
                <p:cNvSpPr/>
                <p:nvPr/>
              </p:nvSpPr>
              <p:spPr>
                <a:xfrm>
                  <a:off x="783000" y="5108760"/>
                  <a:ext cx="19389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ЖЕ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В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85" name="Rectangle 31"/>
                <p:cNvSpPr/>
                <p:nvPr/>
              </p:nvSpPr>
              <p:spPr>
                <a:xfrm>
                  <a:off x="763200" y="5108760"/>
                  <a:ext cx="19785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86" name="Rectangle 32"/>
            <p:cNvSpPr/>
            <p:nvPr/>
          </p:nvSpPr>
          <p:spPr>
            <a:xfrm>
              <a:off x="762120" y="5105520"/>
              <a:ext cx="1981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87" name="Group 34"/>
          <p:cNvGrpSpPr/>
          <p:nvPr/>
        </p:nvGrpSpPr>
        <p:grpSpPr>
          <a:xfrm>
            <a:off x="5029200" y="5354640"/>
            <a:ext cx="2514600" cy="665280"/>
            <a:chOff x="5029200" y="5354640"/>
            <a:chExt cx="2514600" cy="665280"/>
          </a:xfrm>
        </p:grpSpPr>
        <p:grpSp>
          <p:nvGrpSpPr>
            <p:cNvPr id="88" name="Group 35"/>
            <p:cNvGrpSpPr/>
            <p:nvPr/>
          </p:nvGrpSpPr>
          <p:grpSpPr>
            <a:xfrm>
              <a:off x="5030640" y="5358240"/>
              <a:ext cx="2511360" cy="657720"/>
              <a:chOff x="5030640" y="5358240"/>
              <a:chExt cx="2511360" cy="657720"/>
            </a:xfrm>
          </p:grpSpPr>
          <p:grpSp>
            <p:nvGrpSpPr>
              <p:cNvPr id="89" name="Group 36"/>
              <p:cNvGrpSpPr/>
              <p:nvPr/>
            </p:nvGrpSpPr>
            <p:grpSpPr>
              <a:xfrm>
                <a:off x="5030640" y="5358240"/>
                <a:ext cx="2511360" cy="360"/>
                <a:chOff x="5030640" y="5358240"/>
                <a:chExt cx="2511360" cy="360"/>
              </a:xfrm>
            </p:grpSpPr>
            <p:sp>
              <p:nvSpPr>
                <p:cNvPr id="90" name="Rectangle 37"/>
                <p:cNvSpPr/>
                <p:nvPr/>
              </p:nvSpPr>
              <p:spPr>
                <a:xfrm>
                  <a:off x="5055840" y="5358240"/>
                  <a:ext cx="2460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91" name="Rectangle 38"/>
                <p:cNvSpPr/>
                <p:nvPr/>
              </p:nvSpPr>
              <p:spPr>
                <a:xfrm>
                  <a:off x="5030640" y="5358240"/>
                  <a:ext cx="251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92" name="Group 39"/>
              <p:cNvGrpSpPr/>
              <p:nvPr/>
            </p:nvGrpSpPr>
            <p:grpSpPr>
              <a:xfrm>
                <a:off x="5030640" y="5358240"/>
                <a:ext cx="2511360" cy="657720"/>
                <a:chOff x="5030640" y="5358240"/>
                <a:chExt cx="2511360" cy="657720"/>
              </a:xfrm>
            </p:grpSpPr>
            <p:sp>
              <p:nvSpPr>
                <p:cNvPr id="93" name="Rectangle 40"/>
                <p:cNvSpPr/>
                <p:nvPr/>
              </p:nvSpPr>
              <p:spPr>
                <a:xfrm>
                  <a:off x="5055840" y="5358240"/>
                  <a:ext cx="24609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Б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РУ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С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94" name="Rectangle 41"/>
                <p:cNvSpPr/>
                <p:nvPr/>
              </p:nvSpPr>
              <p:spPr>
                <a:xfrm>
                  <a:off x="5030640" y="5358240"/>
                  <a:ext cx="251136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95" name="Rectangle 42"/>
            <p:cNvSpPr/>
            <p:nvPr/>
          </p:nvSpPr>
          <p:spPr>
            <a:xfrm>
              <a:off x="5029200" y="5354640"/>
              <a:ext cx="25146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6781680" y="152280"/>
            <a:ext cx="2057400" cy="609840"/>
            <a:chOff x="6781680" y="152280"/>
            <a:chExt cx="2057400" cy="609840"/>
          </a:xfrm>
        </p:grpSpPr>
        <p:grpSp>
          <p:nvGrpSpPr>
            <p:cNvPr id="97" name="Group 44"/>
            <p:cNvGrpSpPr/>
            <p:nvPr/>
          </p:nvGrpSpPr>
          <p:grpSpPr>
            <a:xfrm>
              <a:off x="6782760" y="154440"/>
              <a:ext cx="2054520" cy="605160"/>
              <a:chOff x="6782760" y="154440"/>
              <a:chExt cx="2054520" cy="605160"/>
            </a:xfrm>
          </p:grpSpPr>
          <p:grpSp>
            <p:nvGrpSpPr>
              <p:cNvPr id="98" name="Group 45"/>
              <p:cNvGrpSpPr/>
              <p:nvPr/>
            </p:nvGrpSpPr>
            <p:grpSpPr>
              <a:xfrm>
                <a:off x="6782760" y="154440"/>
                <a:ext cx="2054520" cy="360"/>
                <a:chOff x="6782760" y="154440"/>
                <a:chExt cx="2054520" cy="360"/>
              </a:xfrm>
            </p:grpSpPr>
            <p:sp>
              <p:nvSpPr>
                <p:cNvPr id="99" name="Rectangle 46"/>
                <p:cNvSpPr/>
                <p:nvPr/>
              </p:nvSpPr>
              <p:spPr>
                <a:xfrm>
                  <a:off x="6803280" y="154440"/>
                  <a:ext cx="2013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100" name="Rectangle 47"/>
                <p:cNvSpPr/>
                <p:nvPr/>
              </p:nvSpPr>
              <p:spPr>
                <a:xfrm>
                  <a:off x="6782760" y="154440"/>
                  <a:ext cx="205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101" name="Group 48"/>
              <p:cNvGrpSpPr/>
              <p:nvPr/>
            </p:nvGrpSpPr>
            <p:grpSpPr>
              <a:xfrm>
                <a:off x="6782760" y="154440"/>
                <a:ext cx="2054520" cy="605160"/>
                <a:chOff x="6782760" y="154440"/>
                <a:chExt cx="2054520" cy="605160"/>
              </a:xfrm>
            </p:grpSpPr>
            <p:sp>
              <p:nvSpPr>
                <p:cNvPr id="102" name="Rectangle 49"/>
                <p:cNvSpPr/>
                <p:nvPr/>
              </p:nvSpPr>
              <p:spPr>
                <a:xfrm>
                  <a:off x="6803280" y="154440"/>
                  <a:ext cx="20131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ЧЕ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А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103" name="Rectangle 50"/>
                <p:cNvSpPr/>
                <p:nvPr/>
              </p:nvSpPr>
              <p:spPr>
                <a:xfrm>
                  <a:off x="6782760" y="154440"/>
                  <a:ext cx="205452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104" name="Rectangle 51"/>
            <p:cNvSpPr/>
            <p:nvPr/>
          </p:nvSpPr>
          <p:spPr>
            <a:xfrm>
              <a:off x="6781680" y="1522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4" descr="C:\Documents and Settings\OlgaMor\My Documents\My Pictures\ЯГОДЫ ЛЕТОМ.jpg"/>
          <p:cNvPicPr/>
          <p:nvPr/>
        </p:nvPicPr>
        <p:blipFill>
          <a:blip r:embed="rId1"/>
          <a:stretch/>
        </p:blipFill>
        <p:spPr>
          <a:xfrm>
            <a:off x="152280" y="76320"/>
            <a:ext cx="8686800" cy="6257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в сад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4"/>
          <p:cNvGrpSpPr/>
          <p:nvPr/>
        </p:nvGrpSpPr>
        <p:grpSpPr>
          <a:xfrm>
            <a:off x="5124600" y="5867280"/>
            <a:ext cx="1885680" cy="609840"/>
            <a:chOff x="5124600" y="5867280"/>
            <a:chExt cx="1885680" cy="609840"/>
          </a:xfrm>
        </p:grpSpPr>
        <p:sp>
          <p:nvSpPr>
            <p:cNvPr id="108" name="Rectangle 15"/>
            <p:cNvSpPr/>
            <p:nvPr/>
          </p:nvSpPr>
          <p:spPr>
            <a:xfrm>
              <a:off x="5124600" y="5867280"/>
              <a:ext cx="188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5124600" y="5867280"/>
              <a:ext cx="1885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А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Л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НА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4876920" y="2286000"/>
            <a:ext cx="4190760" cy="1143000"/>
            <a:chOff x="4876920" y="2286000"/>
            <a:chExt cx="4190760" cy="1143000"/>
          </a:xfrm>
        </p:grpSpPr>
        <p:sp>
          <p:nvSpPr>
            <p:cNvPr id="111" name="Rectangle 23"/>
            <p:cNvSpPr/>
            <p:nvPr/>
          </p:nvSpPr>
          <p:spPr>
            <a:xfrm>
              <a:off x="4876920" y="2286000"/>
              <a:ext cx="419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4876920" y="2286000"/>
              <a:ext cx="4190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ЧЁ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Р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</a:t>
              </a:r>
              <a:r>
                <a:rPr b="0" lang="en-US" sz="3600" spc="-1" strike="noStrike">
                  <a:solidFill>
                    <a:srgbClr val="008000"/>
                  </a:solidFill>
                  <a:latin typeface="Impact"/>
                </a:rPr>
                <a:t> 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 и  К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Я 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С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МО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РО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ДИ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НА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5410080"/>
            <a:ext cx="2819160" cy="609840"/>
            <a:chOff x="1447920" y="5410080"/>
            <a:chExt cx="2819160" cy="609840"/>
          </a:xfrm>
        </p:grpSpPr>
        <p:grpSp>
          <p:nvGrpSpPr>
            <p:cNvPr id="114" name="Group 27"/>
            <p:cNvGrpSpPr/>
            <p:nvPr/>
          </p:nvGrpSpPr>
          <p:grpSpPr>
            <a:xfrm>
              <a:off x="1449720" y="5412240"/>
              <a:ext cx="2815200" cy="605160"/>
              <a:chOff x="1449720" y="5412240"/>
              <a:chExt cx="2815200" cy="605160"/>
            </a:xfrm>
          </p:grpSpPr>
          <p:grpSp>
            <p:nvGrpSpPr>
              <p:cNvPr id="115" name="Group 28"/>
              <p:cNvGrpSpPr/>
              <p:nvPr/>
            </p:nvGrpSpPr>
            <p:grpSpPr>
              <a:xfrm>
                <a:off x="1449720" y="5412240"/>
                <a:ext cx="2815200" cy="360"/>
                <a:chOff x="1449720" y="5412240"/>
                <a:chExt cx="2815200" cy="360"/>
              </a:xfrm>
            </p:grpSpPr>
            <p:sp>
              <p:nvSpPr>
                <p:cNvPr id="116" name="Rectangle 29"/>
                <p:cNvSpPr/>
                <p:nvPr/>
              </p:nvSpPr>
              <p:spPr>
                <a:xfrm>
                  <a:off x="1477800" y="5412240"/>
                  <a:ext cx="275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117" name="Rectangle 30"/>
                <p:cNvSpPr/>
                <p:nvPr/>
              </p:nvSpPr>
              <p:spPr>
                <a:xfrm>
                  <a:off x="1449720" y="5412240"/>
                  <a:ext cx="2815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  <p:grpSp>
            <p:nvGrpSpPr>
              <p:cNvPr id="118" name="Group 31"/>
              <p:cNvGrpSpPr/>
              <p:nvPr/>
            </p:nvGrpSpPr>
            <p:grpSpPr>
              <a:xfrm>
                <a:off x="1449720" y="5412240"/>
                <a:ext cx="2815200" cy="605160"/>
                <a:chOff x="1449720" y="5412240"/>
                <a:chExt cx="2815200" cy="605160"/>
              </a:xfrm>
            </p:grpSpPr>
            <p:sp>
              <p:nvSpPr>
                <p:cNvPr id="119" name="Rectangle 32"/>
                <p:cNvSpPr/>
                <p:nvPr/>
              </p:nvSpPr>
              <p:spPr>
                <a:xfrm>
                  <a:off x="1477800" y="5412240"/>
                  <a:ext cx="275868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К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РЫ</a:t>
                  </a:r>
                  <a:r>
                    <a:rPr b="0" lang="ru-RU" sz="3600" spc="-1" strike="noStrike">
                      <a:solidFill>
                        <a:srgbClr val="000000"/>
                      </a:solidFill>
                      <a:latin typeface="Impact"/>
                    </a:rPr>
                    <a:t>ЖО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В</a:t>
                  </a:r>
                  <a:r>
                    <a:rPr b="0" lang="ru-RU" sz="3600" spc="-1" strike="noStrike">
                      <a:solidFill>
                        <a:srgbClr val="003300"/>
                      </a:solidFill>
                      <a:latin typeface="Impact"/>
                    </a:rPr>
                    <a:t>НИ</a:t>
                  </a:r>
                  <a:r>
                    <a:rPr b="0" lang="ru-RU" sz="3600" spc="-1" strike="noStrike">
                      <a:solidFill>
                        <a:srgbClr val="008000"/>
                      </a:solidFill>
                      <a:latin typeface="Impact"/>
                    </a:rPr>
                    <a:t>К</a:t>
                  </a:r>
                  <a:endParaRPr b="1" lang="en-US" sz="36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  <p:sp>
              <p:nvSpPr>
                <p:cNvPr id="120" name="Rectangle 33"/>
                <p:cNvSpPr/>
                <p:nvPr/>
              </p:nvSpPr>
              <p:spPr>
                <a:xfrm>
                  <a:off x="1449720" y="5412240"/>
                  <a:ext cx="2815200" cy="6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0000" spc="-1" strike="noStrike">
                    <a:solidFill>
                      <a:srgbClr val="3333cc"/>
                    </a:solidFill>
                    <a:latin typeface="Chicago"/>
                  </a:endParaRPr>
                </a:p>
              </p:txBody>
            </p:sp>
          </p:grpSp>
        </p:grpSp>
        <p:sp>
          <p:nvSpPr>
            <p:cNvPr id="121" name="Rectangle 34"/>
            <p:cNvSpPr/>
            <p:nvPr/>
          </p:nvSpPr>
          <p:spPr>
            <a:xfrm>
              <a:off x="1447920" y="5410080"/>
              <a:ext cx="2819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057400" y="2057400"/>
            <a:ext cx="2343240" cy="609480"/>
            <a:chOff x="2057400" y="2057400"/>
            <a:chExt cx="2343240" cy="609480"/>
          </a:xfrm>
        </p:grpSpPr>
        <p:sp>
          <p:nvSpPr>
            <p:cNvPr id="123" name="Rectangle 36"/>
            <p:cNvSpPr/>
            <p:nvPr/>
          </p:nvSpPr>
          <p:spPr>
            <a:xfrm>
              <a:off x="2057400" y="2057400"/>
              <a:ext cx="234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1" lang="en-US" sz="10000" spc="-1" strike="noStrike">
                <a:solidFill>
                  <a:srgbClr val="3333cc"/>
                </a:solidFill>
                <a:latin typeface="Chicago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2057400" y="2057400"/>
              <a:ext cx="2343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</a:t>
              </a:r>
              <a:r>
                <a:rPr b="0" lang="ru-RU" sz="3600" spc="-1" strike="noStrike">
                  <a:solidFill>
                    <a:srgbClr val="003300"/>
                  </a:solidFill>
                  <a:latin typeface="Impact"/>
                </a:rPr>
                <a:t>ЛУ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Б</a:t>
              </a: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НИ</a:t>
              </a:r>
              <a:r>
                <a:rPr b="0" lang="ru-RU" sz="3600" spc="-1" strike="noStrike">
                  <a:solidFill>
                    <a:srgbClr val="008000"/>
                  </a:solidFill>
                  <a:latin typeface="Impact"/>
                </a:rPr>
                <a:t>КА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лета в лесу появляются грибы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D:\My\Изображения\Рисунки\Подберезовик.jpg"/>
          <p:cNvPicPr/>
          <p:nvPr/>
        </p:nvPicPr>
        <p:blipFill>
          <a:blip r:embed="rId1"/>
          <a:stretch/>
        </p:blipFill>
        <p:spPr>
          <a:xfrm>
            <a:off x="282600" y="457200"/>
            <a:ext cx="4213080" cy="472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:\My\Изображения\Рисунки\Боровик.jpg"/>
          <p:cNvPicPr/>
          <p:nvPr/>
        </p:nvPicPr>
        <p:blipFill>
          <a:blip r:embed="rId2"/>
          <a:stretch/>
        </p:blipFill>
        <p:spPr>
          <a:xfrm>
            <a:off x="4572000" y="657360"/>
            <a:ext cx="4419720" cy="42955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1"/>
          <p:cNvSpPr/>
          <p:nvPr/>
        </p:nvSpPr>
        <p:spPr>
          <a:xfrm>
            <a:off x="228960" y="4952880"/>
            <a:ext cx="40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Ё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ЗО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992560" y="49212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5" descr="C:\Documents and Settings\OlgaMor\My Documents\My Pictures\ФРУКТЫ ЛЕТОМ.jpg"/>
          <p:cNvPicPr/>
          <p:nvPr/>
        </p:nvPicPr>
        <p:blipFill>
          <a:blip r:embed="rId1"/>
          <a:stretch/>
        </p:blipFill>
        <p:spPr>
          <a:xfrm>
            <a:off x="152280" y="609480"/>
            <a:ext cx="8991720" cy="5051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а в саду начинают созревать фрукт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692760" y="44197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ШИ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752480" y="54100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Ы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590920" y="22860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Б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Л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О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0" descr="C:\Documents and Settings\OlgaMor\My Documents\My Pictures\ОВОЩИ ЛЕТОМ.jpg"/>
          <p:cNvPicPr/>
          <p:nvPr/>
        </p:nvPicPr>
        <p:blipFill>
          <a:blip r:embed="rId1"/>
          <a:stretch/>
        </p:blipFill>
        <p:spPr>
          <a:xfrm>
            <a:off x="533520" y="303120"/>
            <a:ext cx="8305560" cy="6083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овощ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953600" y="347328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ТА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86880" y="2268360"/>
            <a:ext cx="25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М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116600" y="882720"/>
            <a:ext cx="25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М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ВЬ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991800" y="5029200"/>
            <a:ext cx="20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Г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1" lang="ru-RU" sz="3600" spc="-1" strike="noStrike">
                <a:solidFill>
                  <a:srgbClr val="6699ff"/>
                </a:solidFill>
                <a:latin typeface="Arial"/>
              </a:rPr>
              <a:t>Ц</a:t>
            </a:r>
            <a:endParaRPr b="1" lang="en-US" sz="36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полях собирают пшеницу и рожь, из которых потом пекут хлеб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Шишкин И"/>
          <p:cNvPicPr/>
          <p:nvPr/>
        </p:nvPicPr>
        <p:blipFill>
          <a:blip r:embed="rId1"/>
          <a:stretch/>
        </p:blipFill>
        <p:spPr>
          <a:xfrm>
            <a:off x="285840" y="533520"/>
            <a:ext cx="85723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571500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можно купаться в речке или море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D:\My\Изображения\Рисунки\Месяца и времена года\Лето\Купание.jpg"/>
          <p:cNvPicPr/>
          <p:nvPr/>
        </p:nvPicPr>
        <p:blipFill>
          <a:blip r:embed="rId1"/>
          <a:srcRect l="1430" t="0" r="1787" b="0"/>
          <a:stretch/>
        </p:blipFill>
        <p:spPr>
          <a:xfrm>
            <a:off x="3386160" y="0"/>
            <a:ext cx="57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5623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з песка на берегу можно делать 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троить зам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D:\My\Изображения\Рисунки\Месяца и времена года\Лето\На пляже.jpg"/>
          <p:cNvPicPr/>
          <p:nvPr/>
        </p:nvPicPr>
        <p:blipFill>
          <a:blip r:embed="rId1"/>
          <a:stretch/>
        </p:blipFill>
        <p:spPr>
          <a:xfrm>
            <a:off x="328140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5409720"/>
            <a:ext cx="16765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Уголок сада в Монжероне ,"/>
          <p:cNvPicPr/>
          <p:nvPr/>
        </p:nvPicPr>
        <p:blipFill>
          <a:blip r:embed="rId1"/>
          <a:srcRect l="604" t="0" r="1718" b="0"/>
          <a:stretch/>
        </p:blipFill>
        <p:spPr>
          <a:xfrm>
            <a:off x="1905120" y="0"/>
            <a:ext cx="72388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25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ТО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:\My\Изображения\Рисунки\Дерево Летом.JPG"/>
          <p:cNvPicPr/>
          <p:nvPr/>
        </p:nvPicPr>
        <p:blipFill>
          <a:blip r:embed="rId1"/>
          <a:stretch/>
        </p:blipFill>
        <p:spPr>
          <a:xfrm>
            <a:off x="0" y="619200"/>
            <a:ext cx="4373640" cy="578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:\My\Изображения\Рисунки\Месяца и времена года\лето2.jpg"/>
          <p:cNvPicPr/>
          <p:nvPr/>
        </p:nvPicPr>
        <p:blipFill>
          <a:blip r:embed="rId2"/>
          <a:stretch/>
        </p:blipFill>
        <p:spPr>
          <a:xfrm>
            <a:off x="5105520" y="2057400"/>
            <a:ext cx="344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5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тепло. А иногда жарко. Все ходят в легкой одежде с открытыми руками и ног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D:\My\Photo\лето.jpg"/>
          <p:cNvPicPr/>
          <p:nvPr/>
        </p:nvPicPr>
        <p:blipFill>
          <a:blip r:embed="rId1"/>
          <a:srcRect l="0" t="0" r="8953" b="0"/>
          <a:stretch/>
        </p:blipFill>
        <p:spPr>
          <a:xfrm>
            <a:off x="1143000" y="457200"/>
            <a:ext cx="67816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и кусты красуются в пышных зеленых нарядах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 тоже покрыта зеленой траво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Vasiliy Polenov"/>
          <p:cNvPicPr/>
          <p:nvPr/>
        </p:nvPicPr>
        <p:blipFill>
          <a:blip r:embed="rId1"/>
          <a:stretch/>
        </p:blipFill>
        <p:spPr>
          <a:xfrm>
            <a:off x="457200" y="325440"/>
            <a:ext cx="8234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юду цветут цветы: в садах и пар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лавная дорожка через сад в Живерни"/>
          <p:cNvPicPr/>
          <p:nvPr/>
        </p:nvPicPr>
        <p:blipFill>
          <a:blip r:embed="rId1"/>
          <a:srcRect l="0" t="0" r="0" b="11811"/>
          <a:stretch/>
        </p:blipFill>
        <p:spPr>
          <a:xfrm>
            <a:off x="1247760" y="152280"/>
            <a:ext cx="66769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в лесу и на луг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7" descr="D:\My\Photo\Ланшафты\36003.JPG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даже в пруду и речк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Ненюфары"/>
          <p:cNvPicPr/>
          <p:nvPr/>
        </p:nvPicPr>
        <p:blipFill>
          <a:blip r:embed="rId1"/>
          <a:stretch/>
        </p:blipFill>
        <p:spPr>
          <a:xfrm>
            <a:off x="395280" y="380880"/>
            <a:ext cx="8353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лесу и на луг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ют птички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My\Photo\LiveNature6\6316.JPG"/>
          <p:cNvPicPr/>
          <p:nvPr/>
        </p:nvPicPr>
        <p:blipFill>
          <a:blip r:embed="rId1"/>
          <a:srcRect l="0" t="5561" r="0" b="0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летают бабочк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:\My\Photo\LiveNature6\6334.JPG"/>
          <p:cNvPicPr/>
          <p:nvPr/>
        </p:nvPicPr>
        <p:blipFill>
          <a:blip r:embed="rId1"/>
          <a:srcRect l="0" t="0" r="0" b="6663"/>
          <a:stretch/>
        </p:blipFill>
        <p:spPr>
          <a:xfrm>
            <a:off x="422280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Windows User</cp:lastModifiedBy>
  <dcterms:modified xsi:type="dcterms:W3CDTF">2019-05-17T13:23:46Z</dcterms:modified>
  <cp:revision>60</cp:revision>
  <dc:subject/>
  <dc:title>ЗИМА</dc:title>
</cp:coreProperties>
</file>