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27.jpeg" ContentType="image/jpeg"/>
  <Override PartName="/ppt/media/image14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13.jpeg" ContentType="image/jpeg"/>
  <Override PartName="/ppt/media/image40.jpeg" ContentType="image/jpeg"/>
  <Override PartName="/ppt/media/image34.png" ContentType="image/png"/>
  <Override PartName="/ppt/media/image38.jpeg" ContentType="image/jpeg"/>
  <Override PartName="/ppt/media/image32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72C-AE15-4220-92B7-E562C3CD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514-26A7-4EEC-8C20-B864F43A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F29-6271-469E-ADE5-FDB07781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37A9-3D36-44E7-9E06-C82BF118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F0E22-A380-4D30-9180-E3A7128E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7A3DB-D81C-49AD-A31C-BC0EBC01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7DC1C-F8AA-452A-B590-A0139CE8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1A336-9820-4192-940C-84F358A3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EC912-286D-4330-83FA-2BA4A525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A095D-EDA1-46B0-84AC-E5639679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C4F91-4E33-4629-A5B9-7595684B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0AD-E4D2-48F5-A6BF-137BED78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12E15-2D13-4FD8-83B7-5AC82DBC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74958-6A2B-4A2D-841A-FAF0339C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83739-6995-4A4B-9121-9F1D2C2C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8C0A2-F245-40FD-A899-BE886096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57047-B6C2-49BD-BF9A-567779F4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AED-FEDA-4F7F-A315-A20EFC08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CD6-C91C-49A7-B84D-F53E82A5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C0A-EEF7-4ED5-9515-801F7030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C79-0BA1-4B3A-AD89-E8E6775D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581-A487-4462-A9F0-221C15ED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03F-DD1E-4E3E-8D4D-60971A81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C9D-A4D2-46FA-9DC7-CEEB7A0E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6F0A-4014-4FFA-9536-304660FB0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AF5A-7D31-4BF6-BEAF-B7B645EC80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leo.ru/encyclopedia/cat/wild/lion_12b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leo.ru/encyclopedia/cat/wild/lioness_13b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ОК ТЕХНОЛОГИИ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3 класс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43400" y="3886200"/>
            <a:ext cx="44956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533520" y="1419120"/>
            <a:ext cx="8153280" cy="5438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762120" y="1600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Африканский л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152280" y="23076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ЕВ - АФРИКАНСКОЕ ЖИВОТНОЕ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хотя существуют и его азиатские – индийс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29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0" y="3243240"/>
            <a:ext cx="5257800" cy="3614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8"/>
          <p:cNvSpPr/>
          <p:nvPr/>
        </p:nvSpPr>
        <p:spPr>
          <a:xfrm>
            <a:off x="6174720" y="2286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БЕЛЫЕ ЛЬ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5410080" y="68580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лые львы очень редки. Иногда у родителей, не являющихся носителями гена белой окраски, рождаются белые львята. Они не альбиносы, их относят к подвиду львов из Южной Африк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е 12 лет их можно встретить только в невол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2" descr=""/>
          <p:cNvPicPr/>
          <p:nvPr/>
        </p:nvPicPr>
        <p:blipFill>
          <a:blip r:embed="rId3"/>
          <a:stretch/>
        </p:blipFill>
        <p:spPr>
          <a:xfrm>
            <a:off x="5410080" y="3505320"/>
            <a:ext cx="373392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3400560" cy="30924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5"/>
          <p:cNvGrpSpPr/>
          <p:nvPr/>
        </p:nvGrpSpPr>
        <p:grpSpPr>
          <a:xfrm>
            <a:off x="609480" y="228600"/>
            <a:ext cx="8534520" cy="6629400"/>
            <a:chOff x="609480" y="228600"/>
            <a:chExt cx="8534520" cy="6629400"/>
          </a:xfrm>
        </p:grpSpPr>
        <p:pic>
          <p:nvPicPr>
            <p:cNvPr id="128" name="Picture 5" descr=""/>
            <p:cNvPicPr/>
            <p:nvPr/>
          </p:nvPicPr>
          <p:blipFill>
            <a:blip r:embed="rId2"/>
            <a:stretch/>
          </p:blipFill>
          <p:spPr>
            <a:xfrm>
              <a:off x="609480" y="3505320"/>
              <a:ext cx="4648320" cy="31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0" descr=""/>
            <p:cNvPicPr/>
            <p:nvPr/>
          </p:nvPicPr>
          <p:blipFill>
            <a:blip r:embed="rId3"/>
            <a:stretch/>
          </p:blipFill>
          <p:spPr>
            <a:xfrm>
              <a:off x="609480" y="228600"/>
              <a:ext cx="3353040" cy="31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3" descr=""/>
            <p:cNvPicPr/>
            <p:nvPr/>
          </p:nvPicPr>
          <p:blipFill>
            <a:blip r:embed="rId4"/>
            <a:stretch/>
          </p:blipFill>
          <p:spPr>
            <a:xfrm>
              <a:off x="4191120" y="228600"/>
              <a:ext cx="441936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14"/>
            <p:cNvSpPr/>
            <p:nvPr/>
          </p:nvSpPr>
          <p:spPr>
            <a:xfrm>
              <a:off x="8610480" y="3352680"/>
              <a:ext cx="533520" cy="3505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2" name="Group 21"/>
          <p:cNvGrpSpPr/>
          <p:nvPr/>
        </p:nvGrpSpPr>
        <p:grpSpPr>
          <a:xfrm>
            <a:off x="609480" y="228600"/>
            <a:ext cx="8001000" cy="6378480"/>
            <a:chOff x="609480" y="228600"/>
            <a:chExt cx="8001000" cy="6378480"/>
          </a:xfrm>
        </p:grpSpPr>
        <p:pic>
          <p:nvPicPr>
            <p:cNvPr id="133" name="Picture 17" descr=""/>
            <p:cNvPicPr/>
            <p:nvPr/>
          </p:nvPicPr>
          <p:blipFill>
            <a:blip r:embed="rId5"/>
            <a:stretch/>
          </p:blipFill>
          <p:spPr>
            <a:xfrm>
              <a:off x="609480" y="3505320"/>
              <a:ext cx="4648320" cy="31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8" descr=""/>
            <p:cNvPicPr/>
            <p:nvPr/>
          </p:nvPicPr>
          <p:blipFill>
            <a:blip r:embed="rId6"/>
            <a:stretch/>
          </p:blipFill>
          <p:spPr>
            <a:xfrm>
              <a:off x="609480" y="228600"/>
              <a:ext cx="3353040" cy="31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9" descr=""/>
            <p:cNvPicPr/>
            <p:nvPr/>
          </p:nvPicPr>
          <p:blipFill>
            <a:blip r:embed="rId7"/>
            <a:stretch/>
          </p:blipFill>
          <p:spPr>
            <a:xfrm>
              <a:off x="4191120" y="228600"/>
              <a:ext cx="4419360" cy="311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Rectangle 20"/>
          <p:cNvSpPr/>
          <p:nvPr/>
        </p:nvSpPr>
        <p:spPr>
          <a:xfrm>
            <a:off x="8610480" y="3352680"/>
            <a:ext cx="533520" cy="3505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22" descr=""/>
          <p:cNvPicPr/>
          <p:nvPr/>
        </p:nvPicPr>
        <p:blipFill>
          <a:blip r:embed="rId8"/>
          <a:stretch/>
        </p:blipFill>
        <p:spPr>
          <a:xfrm rot="219600">
            <a:off x="-9360" y="4792680"/>
            <a:ext cx="1706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6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pic>
          <p:nvPicPr>
            <p:cNvPr id="139" name="Picture 6" descr=""/>
            <p:cNvPicPr/>
            <p:nvPr/>
          </p:nvPicPr>
          <p:blipFill>
            <a:blip r:embed="rId1"/>
            <a:stretch/>
          </p:blipFill>
          <p:spPr>
            <a:xfrm>
              <a:off x="228600" y="457200"/>
              <a:ext cx="33526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0" descr="12sh_10"/>
            <p:cNvPicPr/>
            <p:nvPr/>
          </p:nvPicPr>
          <p:blipFill>
            <a:blip r:embed="rId2"/>
            <a:stretch/>
          </p:blipFill>
          <p:spPr>
            <a:xfrm>
              <a:off x="3886200" y="0"/>
              <a:ext cx="525780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3" descr=""/>
            <p:cNvPicPr/>
            <p:nvPr/>
          </p:nvPicPr>
          <p:blipFill>
            <a:blip r:embed="rId3"/>
            <a:stretch/>
          </p:blipFill>
          <p:spPr>
            <a:xfrm>
              <a:off x="0" y="3581280"/>
              <a:ext cx="5638680" cy="30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4" descr=""/>
            <p:cNvPicPr/>
            <p:nvPr/>
          </p:nvPicPr>
          <p:blipFill>
            <a:blip r:embed="rId4"/>
            <a:stretch/>
          </p:blipFill>
          <p:spPr>
            <a:xfrm>
              <a:off x="3733920" y="2438280"/>
              <a:ext cx="2381040" cy="23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1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3276720" cy="2457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7120" y="285840"/>
            <a:ext cx="83296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Делаем из бумаги конус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Вырезаем из желтой цветной бумаги круг радиусом 7 см. Делим на 4 равные части. Отрезаем от круга одну четверть. Склеиваем его в конус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Рисунок 3" descr="http://www.millionpodarkov.ru/podelki/wp-content/uploads/2010/09/PIC_0061.JPG"/>
          <p:cNvPicPr/>
          <p:nvPr/>
        </p:nvPicPr>
        <p:blipFill>
          <a:blip r:embed="rId1"/>
          <a:stretch/>
        </p:blipFill>
        <p:spPr>
          <a:xfrm>
            <a:off x="4857840" y="2214720"/>
            <a:ext cx="3857400" cy="4000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D:\Documents and Settings\Admin\Мои документы\Мои рисунки\cd171e0d51.jpg"/>
          <p:cNvPicPr/>
          <p:nvPr/>
        </p:nvPicPr>
        <p:blipFill>
          <a:blip r:embed="rId2"/>
          <a:stretch/>
        </p:blipFill>
        <p:spPr>
          <a:xfrm>
            <a:off x="714240" y="2286000"/>
            <a:ext cx="36673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85840" y="228240"/>
            <a:ext cx="84009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елаем голову львенк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перь делаем голову львенка. Для этого вырезаем из желтой цветной бумаги еще два круга радиусом 4 см 5 мм. Рисуем или вырезаем из бумаги глаза, нос, рот и усы. Приклеиваем все это к мордочке льве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Рисунок 3" descr="http://www.millionpodarkov.ru/podelki/wp-content/uploads/2010/09/PIC_00641.JPG"/>
          <p:cNvPicPr/>
          <p:nvPr/>
        </p:nvPicPr>
        <p:blipFill>
          <a:blip r:embed="rId1"/>
          <a:stretch/>
        </p:blipFill>
        <p:spPr>
          <a:xfrm>
            <a:off x="5638680" y="3657600"/>
            <a:ext cx="31957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85840" y="285840"/>
            <a:ext cx="8400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оружаем гриву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лосок бумаги сооружаем гри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Рисунок 4" descr="http://www.millionpodarkov.ru/podelki/wp-content/uploads/2010/09/PIC_0068.JPG"/>
          <p:cNvPicPr/>
          <p:nvPr/>
        </p:nvPicPr>
        <p:blipFill>
          <a:blip r:embed="rId1"/>
          <a:stretch/>
        </p:blipFill>
        <p:spPr>
          <a:xfrm>
            <a:off x="2133720" y="2057400"/>
            <a:ext cx="6215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57120" y="285840"/>
            <a:ext cx="83296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Делаем лапки и хвост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Приклеиваем голову к туловищу-конусу. Делаем лапки из бумажных треугольников. Когти рисуем черным фломастером. Из бумажной полоски делаем хвост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Рисунок 3" descr="http://www.millionpodarkov.ru/podelki/wp-content/uploads/2010/09/PIC_0066.JPG"/>
          <p:cNvPicPr/>
          <p:nvPr/>
        </p:nvPicPr>
        <p:blipFill>
          <a:blip r:embed="rId1"/>
          <a:stretch/>
        </p:blipFill>
        <p:spPr>
          <a:xfrm>
            <a:off x="4929120" y="2857680"/>
            <a:ext cx="3786120" cy="3429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D:\Documents and Settings\Admin\Мои документы\Мои рисунки\cd171e0d51.jpg"/>
          <p:cNvPicPr/>
          <p:nvPr/>
        </p:nvPicPr>
        <p:blipFill>
          <a:blip r:embed="rId2"/>
          <a:stretch/>
        </p:blipFill>
        <p:spPr>
          <a:xfrm>
            <a:off x="928800" y="2786040"/>
            <a:ext cx="33098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85840" y="356760"/>
            <a:ext cx="84009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Приклеиваем детали к туловищу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Все детали приклеиваем к туловищу. Все – наш львенок готов. Сооружая поделки из конуса, можно сделать целый зоопарк, в котором будут жить пингвины, птицы, котята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Рисунок 3" descr="http://www.millionpodarkov.ru/podelki/wp-content/uploads/2010/09/PIC_0072.JPG"/>
          <p:cNvPicPr/>
          <p:nvPr/>
        </p:nvPicPr>
        <p:blipFill>
          <a:blip r:embed="rId1"/>
          <a:stretch/>
        </p:blipFill>
        <p:spPr>
          <a:xfrm>
            <a:off x="3643200" y="3000240"/>
            <a:ext cx="47865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:\Documents and Settings\Admin\Мои документы\Мои рисунки\kuzn24.jpg"/>
          <p:cNvPicPr/>
          <p:nvPr/>
        </p:nvPicPr>
        <p:blipFill>
          <a:blip r:embed="rId1"/>
          <a:stretch/>
        </p:blipFill>
        <p:spPr>
          <a:xfrm>
            <a:off x="3809880" y="914400"/>
            <a:ext cx="4286520" cy="5519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282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ьвёнок готов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38120" y="775800"/>
            <a:ext cx="4876920" cy="3643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Апликация  из бумаги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5500" spc="-1" strike="noStrike">
                <a:solidFill>
                  <a:srgbClr val="ffffff"/>
                </a:solidFill>
                <a:latin typeface="Tahoma"/>
              </a:rPr>
              <a:t>Львёнок» 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3" descr="D:\Documents and Settings\Admin\Мои документы\Мои рисунки\kuzn24.jpg"/>
          <p:cNvPicPr/>
          <p:nvPr/>
        </p:nvPicPr>
        <p:blipFill>
          <a:blip r:embed="rId1"/>
          <a:stretch/>
        </p:blipFill>
        <p:spPr>
          <a:xfrm>
            <a:off x="457200" y="685800"/>
            <a:ext cx="3352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685800" y="380880"/>
            <a:ext cx="8458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похож на человечка, но имеет он сердечко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работе круглый год он сердечно отдаё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На мне можно написать, на мне можно рисовать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мне можно разукрашивать, меня можно вырезат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Инструмент бывалый – не большой, не малый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него полно забот: он режет и стрижё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Смогу соединить картон с бумагой, соединить два лис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Хоть я не прачка, друзья, стираю старательно 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Жмутся в узеньком домишке разноцветные детишк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ько выпустишь на волю – где была пустот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м, глядишь – красота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Мой циркач, циркач лихой Чертит круг одной ного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другой проткнул бумагу, Уцепился и ни шаг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107604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7848720" y="1143000"/>
            <a:ext cx="107604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858000" y="2895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tretch/>
        </p:blipFill>
        <p:spPr>
          <a:xfrm>
            <a:off x="7620120" y="4876920"/>
            <a:ext cx="1218960" cy="142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5"/>
          <a:stretch/>
        </p:blipFill>
        <p:spPr>
          <a:xfrm>
            <a:off x="6324480" y="5029200"/>
            <a:ext cx="933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1" descr=""/>
          <p:cNvPicPr/>
          <p:nvPr/>
        </p:nvPicPr>
        <p:blipFill>
          <a:blip r:embed="rId1"/>
          <a:stretch/>
        </p:blipFill>
        <p:spPr>
          <a:xfrm>
            <a:off x="23760" y="103320"/>
            <a:ext cx="4071960" cy="658800"/>
          </a:xfrm>
          <a:prstGeom prst="rect">
            <a:avLst/>
          </a:prstGeom>
          <a:ln w="0">
            <a:noFill/>
          </a:ln>
        </p:spPr>
      </p:pic>
      <p:grpSp>
        <p:nvGrpSpPr>
          <p:cNvPr id="94" name="Прямоугольник 2"/>
          <p:cNvGrpSpPr/>
          <p:nvPr/>
        </p:nvGrpSpPr>
        <p:grpSpPr>
          <a:xfrm>
            <a:off x="182520" y="1170000"/>
            <a:ext cx="3975120" cy="5227920"/>
            <a:chOff x="182520" y="1170000"/>
            <a:chExt cx="3975120" cy="5227920"/>
          </a:xfrm>
        </p:grpSpPr>
        <p:pic>
          <p:nvPicPr>
            <p:cNvPr id="9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82520" y="1170000"/>
              <a:ext cx="3975120" cy="51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28600" y="1219320"/>
              <a:ext cx="3886200" cy="51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ahoma"/>
                </a:rPr>
                <a:t>            </a:t>
              </a:r>
              <a:r>
                <a:rPr b="1" lang="ru-RU" sz="1800" spc="-1" strike="noStrike" u="sng">
                  <a:solidFill>
                    <a:srgbClr val="c00000"/>
                  </a:solidFill>
                  <a:uFillTx/>
                  <a:latin typeface="Tahoma"/>
                </a:rPr>
                <a:t>с  ножницам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1. 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Не держи ножницы концами вверх.</a:t>
              </a:r>
              <a:br>
                <a:rPr sz="1800"/>
              </a:b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2.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Не оставляй ножницы в открытом виде.</a:t>
              </a:r>
              <a:br>
                <a:rPr sz="1800"/>
              </a:b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3. 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Передавай ножницы только в закрытом виде, кольцами в сторону товарища.</a:t>
              </a:r>
              <a:br>
                <a:rPr sz="1800"/>
              </a:b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4. 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При работе следи за пальцами левой руки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5.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Клади ножницы на стол так, чтобы они не свешивались за край стола.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" name="Прямоугольник 3"/>
          <p:cNvGrpSpPr/>
          <p:nvPr/>
        </p:nvGrpSpPr>
        <p:grpSpPr>
          <a:xfrm>
            <a:off x="4522680" y="1859040"/>
            <a:ext cx="4127760" cy="5261400"/>
            <a:chOff x="4522680" y="1859040"/>
            <a:chExt cx="4127760" cy="5261400"/>
          </a:xfrm>
        </p:grpSpPr>
        <p:pic>
          <p:nvPicPr>
            <p:cNvPr id="98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522680" y="1859040"/>
              <a:ext cx="4127760" cy="48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572000" y="1905120"/>
              <a:ext cx="4038480" cy="52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                  </a:t>
              </a:r>
              <a:r>
                <a:rPr b="1" lang="ru-RU" sz="1800" spc="-1" strike="noStrike" u="sng">
                  <a:solidFill>
                    <a:srgbClr val="c00000"/>
                  </a:solidFill>
                  <a:uFillTx/>
                  <a:latin typeface="Tahoma"/>
                </a:rPr>
                <a:t>с </a:t>
              </a:r>
              <a:r>
                <a:rPr b="1" lang="en-US" sz="1800" spc="-1" strike="noStrike" u="sng">
                  <a:solidFill>
                    <a:srgbClr val="c00000"/>
                  </a:solidFill>
                  <a:uFillTx/>
                  <a:latin typeface="Tahoma"/>
                </a:rPr>
                <a:t> </a:t>
              </a:r>
              <a:r>
                <a:rPr b="1" lang="ru-RU" sz="1800" spc="-1" strike="noStrike" u="sng">
                  <a:solidFill>
                    <a:srgbClr val="c00000"/>
                  </a:solidFill>
                  <a:uFillTx/>
                  <a:latin typeface="Tahoma"/>
                </a:rPr>
                <a:t>клеем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1.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При работе с клеем пользуйся кисточкой, если это требуется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2.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 Бери то количество клея, которое требуется для выполнения работы на данном этапе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3.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 Излишки клея убирай мягкой тряпочкой или салфеткой, осторожно прижимая ее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4.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Кисточку и руки после работы хорошо вымой с мылом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00" name="Picture 2" descr="thumbnail"/>
          <p:cNvPicPr/>
          <p:nvPr/>
        </p:nvPicPr>
        <p:blipFill>
          <a:blip r:embed="rId4"/>
          <a:stretch/>
        </p:blipFill>
        <p:spPr>
          <a:xfrm>
            <a:off x="1371600" y="5257800"/>
            <a:ext cx="1828800" cy="6667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"/>
          <p:cNvPicPr/>
          <p:nvPr/>
        </p:nvPicPr>
        <p:blipFill>
          <a:blip r:embed="rId5"/>
          <a:stretch/>
        </p:blipFill>
        <p:spPr>
          <a:xfrm>
            <a:off x="6553080" y="152280"/>
            <a:ext cx="23907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642600"/>
            <a:ext cx="86868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ам потребу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ветная бума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жниц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ломаст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ирку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3" descr="D:\Documents and Settings\Admin\Мои документы\Мои рисунки\kuzn24.jpg"/>
          <p:cNvPicPr/>
          <p:nvPr/>
        </p:nvPicPr>
        <p:blipFill>
          <a:blip r:embed="rId1"/>
          <a:stretch/>
        </p:blipFill>
        <p:spPr>
          <a:xfrm>
            <a:off x="4572000" y="1066680"/>
            <a:ext cx="428616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D:\Documents and Settings\Admin\Мои документы\Мои рисунки\83333_mini-500x300.jpg"/>
          <p:cNvPicPr/>
          <p:nvPr/>
        </p:nvPicPr>
        <p:blipFill>
          <a:blip r:embed="rId1"/>
          <a:stretch/>
        </p:blipFill>
        <p:spPr>
          <a:xfrm>
            <a:off x="357120" y="357120"/>
            <a:ext cx="4048200" cy="2428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:\Documents and Settings\Admin\Мои документы\Мои рисунки\43532-500x300.jpg"/>
          <p:cNvPicPr/>
          <p:nvPr/>
        </p:nvPicPr>
        <p:blipFill>
          <a:blip r:embed="rId2"/>
          <a:stretch/>
        </p:blipFill>
        <p:spPr>
          <a:xfrm>
            <a:off x="4786200" y="357120"/>
            <a:ext cx="3881520" cy="242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D:\Documents and Settings\Admin\Мои документы\Мои рисунки\happy-lions_mini-500x300.jpg"/>
          <p:cNvPicPr/>
          <p:nvPr/>
        </p:nvPicPr>
        <p:blipFill>
          <a:blip r:embed="rId3"/>
          <a:stretch/>
        </p:blipFill>
        <p:spPr>
          <a:xfrm>
            <a:off x="285840" y="314316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D:\Documents and Settings\Admin\Мои документы\Мои рисунки\Asiatic_Lion_Persica_Indian_15_mini-500x300.jpg"/>
          <p:cNvPicPr/>
          <p:nvPr/>
        </p:nvPicPr>
        <p:blipFill>
          <a:blip r:embed="rId4"/>
          <a:stretch/>
        </p:blipFill>
        <p:spPr>
          <a:xfrm>
            <a:off x="4857840" y="3214800"/>
            <a:ext cx="3833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43387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ьв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 –это хищное животное. Оно питается мяс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 - царь зверей. Необычно его поведение: лев животное социальное ,всю свою жизнь он проводит в стае; охотятся львы тоже ста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2" descr="i?id=54146899&amp;tov=5"/>
          <p:cNvPicPr/>
          <p:nvPr/>
        </p:nvPicPr>
        <p:blipFill>
          <a:blip r:embed="rId1"/>
          <a:stretch/>
        </p:blipFill>
        <p:spPr>
          <a:xfrm>
            <a:off x="4724280" y="1143000"/>
            <a:ext cx="4038840" cy="2454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i?id=17788155&amp;tov=3"/>
          <p:cNvPicPr/>
          <p:nvPr/>
        </p:nvPicPr>
        <p:blipFill>
          <a:blip r:embed="rId2"/>
          <a:stretch/>
        </p:blipFill>
        <p:spPr>
          <a:xfrm>
            <a:off x="4800600" y="388620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9"/>
          <p:cNvSpPr/>
          <p:nvPr/>
        </p:nvSpPr>
        <p:spPr>
          <a:xfrm>
            <a:off x="762120" y="152280"/>
            <a:ext cx="81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ычно рождается два-три львенка, изредка - четверо или пятер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8" descr="Лев (увеличить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2057400"/>
            <a:ext cx="3657600" cy="3809880"/>
          </a:xfrm>
          <a:prstGeom prst="rect">
            <a:avLst/>
          </a:prstGeom>
          <a:ln w="0">
            <a:noFill/>
          </a:ln>
        </p:spPr>
      </p:pic>
      <p:sp>
        <p:nvSpPr>
          <p:cNvPr id="115" name="WordArt 9"/>
          <p:cNvSpPr txBox="1"/>
          <p:nvPr/>
        </p:nvSpPr>
        <p:spPr>
          <a:xfrm>
            <a:off x="533520" y="304920"/>
            <a:ext cx="7924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еныши льв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е недели малыши питаются одним материнским молоком, затем начинают пробовать приносимое им мяс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Лев (увеличить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3962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сения</dc:creator>
  <dc:description/>
  <dc:language>en-US</dc:language>
  <cp:lastModifiedBy>Пользователь Windows</cp:lastModifiedBy>
  <dcterms:modified xsi:type="dcterms:W3CDTF">2018-05-20T19:37:46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