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27.jpeg" ContentType="image/jpeg"/>
  <Override PartName="/ppt/media/image14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2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CD2-4AAF-4584-B6E5-4E5DB612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003-A273-4A00-9836-9E31AFE8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48B-B6E0-407F-BF87-FC89E479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62B-3C98-47F4-A0B6-286E41D5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8CEBD-8AE8-4C26-8BE6-BF4E4C34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FCBF0-AC2A-4B9F-A9A5-963C0238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F1213-1FD9-4996-9A33-56364600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6546A-66FA-4CF2-8588-3F499968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E9D9C-3354-45D8-9C24-A9768195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8DD89-7B41-46F3-A700-72F776E2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343F6-BD3C-4B1B-86BD-455F471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D92-AABE-4471-AA43-A136804E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7C9B1-A18C-47D7-8170-48B564FF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80A83-6411-4E88-AB3D-2947951C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57DDE-B54B-4BDF-B129-F9C4CB9E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38418-1B9A-4476-B391-FED1C599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F420B-29BF-4A87-AFBA-DCEA6DF3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633-11F9-491F-B7E3-F55518A7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098-12CD-43D0-ACD3-31CD405F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813-16FD-4279-BA7F-E5302622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11E-5B6A-4D46-99F1-03110BFA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A8A-A453-497B-9E9C-070DD93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3AF-FD09-4655-B314-CFD9604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44E-0158-4FC1-A414-6DAD6891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3687-3D39-4E61-B4D9-D648648F9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F718-ABBB-4F13-9B53-7CEE34164A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leo.ru/encyclopedia/cat/wild/lion_12b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leo.ru/encyclopedia/cat/wild/lioness_13b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ОК ТЕХНОЛОГИИ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3 класс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43400" y="388620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533520" y="1419120"/>
            <a:ext cx="8153280" cy="5438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762120" y="1600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Африканский л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52280" y="2307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В - АФРИКАНСКОЕ ЖИВОТНОЕ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хотя существуют и его азиатские – индий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29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0" y="3243240"/>
            <a:ext cx="5257800" cy="3614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/>
          <p:cNvSpPr/>
          <p:nvPr/>
        </p:nvSpPr>
        <p:spPr>
          <a:xfrm>
            <a:off x="6174720" y="2286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БЕЛЫЕ ЛЬ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410080" y="68580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ые львы очень редки. Иногда у родителей, не являющихся носителями гена белой окраски, рождаются белые львята. Они не альбиносы, их относят к подвиду львов из Южной Афри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12 лет их можно встретить только в нево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3"/>
          <a:stretch/>
        </p:blipFill>
        <p:spPr>
          <a:xfrm>
            <a:off x="5410080" y="3505320"/>
            <a:ext cx="373392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3400560" cy="30924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5"/>
          <p:cNvGrpSpPr/>
          <p:nvPr/>
        </p:nvGrpSpPr>
        <p:grpSpPr>
          <a:xfrm>
            <a:off x="609480" y="228600"/>
            <a:ext cx="8534520" cy="6629400"/>
            <a:chOff x="609480" y="228600"/>
            <a:chExt cx="8534520" cy="6629400"/>
          </a:xfrm>
        </p:grpSpPr>
        <p:pic>
          <p:nvPicPr>
            <p:cNvPr id="128" name="Picture 5" descr=""/>
            <p:cNvPicPr/>
            <p:nvPr/>
          </p:nvPicPr>
          <p:blipFill>
            <a:blip r:embed="rId2"/>
            <a:stretch/>
          </p:blipFill>
          <p:spPr>
            <a:xfrm>
              <a:off x="609480" y="3505320"/>
              <a:ext cx="4648320" cy="31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0" descr=""/>
            <p:cNvPicPr/>
            <p:nvPr/>
          </p:nvPicPr>
          <p:blipFill>
            <a:blip r:embed="rId3"/>
            <a:stretch/>
          </p:blipFill>
          <p:spPr>
            <a:xfrm>
              <a:off x="609480" y="228600"/>
              <a:ext cx="3353040" cy="31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3" descr=""/>
            <p:cNvPicPr/>
            <p:nvPr/>
          </p:nvPicPr>
          <p:blipFill>
            <a:blip r:embed="rId4"/>
            <a:stretch/>
          </p:blipFill>
          <p:spPr>
            <a:xfrm>
              <a:off x="4191120" y="228600"/>
              <a:ext cx="441936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14"/>
            <p:cNvSpPr/>
            <p:nvPr/>
          </p:nvSpPr>
          <p:spPr>
            <a:xfrm>
              <a:off x="8610480" y="3352680"/>
              <a:ext cx="533520" cy="35053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2" name="Group 21"/>
          <p:cNvGrpSpPr/>
          <p:nvPr/>
        </p:nvGrpSpPr>
        <p:grpSpPr>
          <a:xfrm>
            <a:off x="609480" y="228600"/>
            <a:ext cx="8001000" cy="6378480"/>
            <a:chOff x="609480" y="228600"/>
            <a:chExt cx="8001000" cy="6378480"/>
          </a:xfrm>
        </p:grpSpPr>
        <p:pic>
          <p:nvPicPr>
            <p:cNvPr id="133" name="Picture 17" descr=""/>
            <p:cNvPicPr/>
            <p:nvPr/>
          </p:nvPicPr>
          <p:blipFill>
            <a:blip r:embed="rId5"/>
            <a:stretch/>
          </p:blipFill>
          <p:spPr>
            <a:xfrm>
              <a:off x="609480" y="3505320"/>
              <a:ext cx="4648320" cy="31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8" descr=""/>
            <p:cNvPicPr/>
            <p:nvPr/>
          </p:nvPicPr>
          <p:blipFill>
            <a:blip r:embed="rId6"/>
            <a:stretch/>
          </p:blipFill>
          <p:spPr>
            <a:xfrm>
              <a:off x="609480" y="228600"/>
              <a:ext cx="3353040" cy="31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9" descr=""/>
            <p:cNvPicPr/>
            <p:nvPr/>
          </p:nvPicPr>
          <p:blipFill>
            <a:blip r:embed="rId7"/>
            <a:stretch/>
          </p:blipFill>
          <p:spPr>
            <a:xfrm>
              <a:off x="4191120" y="228600"/>
              <a:ext cx="4419360" cy="31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Rectangle 20"/>
          <p:cNvSpPr/>
          <p:nvPr/>
        </p:nvSpPr>
        <p:spPr>
          <a:xfrm>
            <a:off x="8610480" y="3352680"/>
            <a:ext cx="533520" cy="3505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2" descr=""/>
          <p:cNvPicPr/>
          <p:nvPr/>
        </p:nvPicPr>
        <p:blipFill>
          <a:blip r:embed="rId8"/>
          <a:stretch/>
        </p:blipFill>
        <p:spPr>
          <a:xfrm rot="219600">
            <a:off x="-9360" y="4792680"/>
            <a:ext cx="1706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6"/>
          <p:cNvGrpSpPr/>
          <p:nvPr/>
        </p:nvGrpSpPr>
        <p:grpSpPr>
          <a:xfrm>
            <a:off x="0" y="0"/>
            <a:ext cx="9144000" cy="6665760"/>
            <a:chOff x="0" y="0"/>
            <a:chExt cx="9144000" cy="6665760"/>
          </a:xfrm>
        </p:grpSpPr>
        <p:pic>
          <p:nvPicPr>
            <p:cNvPr id="139" name="Picture 6" descr=""/>
            <p:cNvPicPr/>
            <p:nvPr/>
          </p:nvPicPr>
          <p:blipFill>
            <a:blip r:embed="rId1"/>
            <a:stretch/>
          </p:blipFill>
          <p:spPr>
            <a:xfrm>
              <a:off x="228600" y="457200"/>
              <a:ext cx="3352680" cy="244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0" descr="12sh_10"/>
            <p:cNvPicPr/>
            <p:nvPr/>
          </p:nvPicPr>
          <p:blipFill>
            <a:blip r:embed="rId2"/>
            <a:stretch/>
          </p:blipFill>
          <p:spPr>
            <a:xfrm>
              <a:off x="3886200" y="0"/>
              <a:ext cx="5257800" cy="30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3" descr=""/>
            <p:cNvPicPr/>
            <p:nvPr/>
          </p:nvPicPr>
          <p:blipFill>
            <a:blip r:embed="rId3"/>
            <a:stretch/>
          </p:blipFill>
          <p:spPr>
            <a:xfrm>
              <a:off x="0" y="3581280"/>
              <a:ext cx="5638680" cy="30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4" descr=""/>
            <p:cNvPicPr/>
            <p:nvPr/>
          </p:nvPicPr>
          <p:blipFill>
            <a:blip r:embed="rId4"/>
            <a:stretch/>
          </p:blipFill>
          <p:spPr>
            <a:xfrm>
              <a:off x="3733920" y="2438280"/>
              <a:ext cx="238104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1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3276720" cy="2457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7120" y="285840"/>
            <a:ext cx="83296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Делаем из бумаги конус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Вырезаем из желтой цветной бумаги круг радиусом 7 см. Делим на 4 равные части. Отрезаем от круга одну четверть. Склеиваем его в конус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3" descr="http://www.millionpodarkov.ru/podelki/wp-content/uploads/2010/09/PIC_0061.JPG"/>
          <p:cNvPicPr/>
          <p:nvPr/>
        </p:nvPicPr>
        <p:blipFill>
          <a:blip r:embed="rId1"/>
          <a:stretch/>
        </p:blipFill>
        <p:spPr>
          <a:xfrm>
            <a:off x="4857840" y="2214720"/>
            <a:ext cx="3857400" cy="4000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D:\Documents and Settings\Admin\Мои документы\Мои рисунки\cd171e0d51.jpg"/>
          <p:cNvPicPr/>
          <p:nvPr/>
        </p:nvPicPr>
        <p:blipFill>
          <a:blip r:embed="rId2"/>
          <a:stretch/>
        </p:blipFill>
        <p:spPr>
          <a:xfrm>
            <a:off x="714240" y="2286000"/>
            <a:ext cx="36673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85840" y="228240"/>
            <a:ext cx="84009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ем голову львенк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перь делаем голову львенка. Для этого вырезаем из желтой цветной бумаги еще два круга радиусом 4 см 5 мм. Рисуем или вырезаем из бумаги глаза, нос, рот и усы. Приклеиваем все это к мордочке льв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Рисунок 3" descr="http://www.millionpodarkov.ru/podelki/wp-content/uploads/2010/09/PIC_00641.JPG"/>
          <p:cNvPicPr/>
          <p:nvPr/>
        </p:nvPicPr>
        <p:blipFill>
          <a:blip r:embed="rId1"/>
          <a:stretch/>
        </p:blipFill>
        <p:spPr>
          <a:xfrm>
            <a:off x="5638680" y="3657600"/>
            <a:ext cx="31957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85840" y="285840"/>
            <a:ext cx="8400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оружаем гриву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лосок бумаги сооружаем гри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Рисунок 4" descr="http://www.millionpodarkov.ru/podelki/wp-content/uploads/2010/09/PIC_0068.JPG"/>
          <p:cNvPicPr/>
          <p:nvPr/>
        </p:nvPicPr>
        <p:blipFill>
          <a:blip r:embed="rId1"/>
          <a:stretch/>
        </p:blipFill>
        <p:spPr>
          <a:xfrm>
            <a:off x="2133720" y="2057400"/>
            <a:ext cx="6215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57120" y="285840"/>
            <a:ext cx="8329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Делаем лапки и хвост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риклеиваем голову к туловищу-конусу. Делаем лапки из бумажных треугольников. Когти рисуем черным фломастером. Из бумажной полоски делаем хвост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Рисунок 3" descr="http://www.millionpodarkov.ru/podelki/wp-content/uploads/2010/09/PIC_0066.JPG"/>
          <p:cNvPicPr/>
          <p:nvPr/>
        </p:nvPicPr>
        <p:blipFill>
          <a:blip r:embed="rId1"/>
          <a:stretch/>
        </p:blipFill>
        <p:spPr>
          <a:xfrm>
            <a:off x="4929120" y="2857680"/>
            <a:ext cx="3786120" cy="3429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Documents and Settings\Admin\Мои документы\Мои рисунки\cd171e0d51.jpg"/>
          <p:cNvPicPr/>
          <p:nvPr/>
        </p:nvPicPr>
        <p:blipFill>
          <a:blip r:embed="rId2"/>
          <a:stretch/>
        </p:blipFill>
        <p:spPr>
          <a:xfrm>
            <a:off x="928800" y="2786040"/>
            <a:ext cx="33098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85840" y="356760"/>
            <a:ext cx="84009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Приклеиваем детали к туловищу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Все детали приклеиваем к туловищу. Все – наш львенок готов. Сооружая поделки из конуса, можно сделать целый зоопарк, в котором будут жить пингвины, птицы, котят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Рисунок 3" descr="http://www.millionpodarkov.ru/podelki/wp-content/uploads/2010/09/PIC_0072.JPG"/>
          <p:cNvPicPr/>
          <p:nvPr/>
        </p:nvPicPr>
        <p:blipFill>
          <a:blip r:embed="rId1"/>
          <a:stretch/>
        </p:blipFill>
        <p:spPr>
          <a:xfrm>
            <a:off x="3643200" y="3000240"/>
            <a:ext cx="47865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3809880" y="914400"/>
            <a:ext cx="4286520" cy="5519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282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ьвёнок готов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38120" y="775800"/>
            <a:ext cx="4876920" cy="3643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Апликация  из бумаги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5500" spc="-1" strike="noStrike">
                <a:solidFill>
                  <a:srgbClr val="ffffff"/>
                </a:solidFill>
                <a:latin typeface="Tahoma"/>
              </a:rPr>
              <a:t>Львёнок» 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685800" y="380880"/>
            <a:ext cx="8458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охож на человечка, но имеет он сердечко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работе круглый год он сердечно отдаё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а мне можно написать, на мне можно рисовать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не можно разукрашивать, меня можно выреза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нструмент бывалый – не большой, не малый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го полно забот: он режет и стрижё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Смогу соединить картон с бумагой, соединить два лис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Хоть я не прачка, друзья, стираю старательно 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Жмутся в узеньком домишке разноцветные детишк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выпустишь на волю – где была пустот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, глядишь – красота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Мой циркач, циркач лихой Чертит круг одной ного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другой проткнул бумагу, Уцепился и ни шаг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107604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7848720" y="1143000"/>
            <a:ext cx="107604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858000" y="2895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7620120" y="4876920"/>
            <a:ext cx="1218960" cy="142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5"/>
          <a:stretch/>
        </p:blipFill>
        <p:spPr>
          <a:xfrm>
            <a:off x="6324480" y="5029200"/>
            <a:ext cx="933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1" descr=""/>
          <p:cNvPicPr/>
          <p:nvPr/>
        </p:nvPicPr>
        <p:blipFill>
          <a:blip r:embed="rId1"/>
          <a:stretch/>
        </p:blipFill>
        <p:spPr>
          <a:xfrm>
            <a:off x="23760" y="103320"/>
            <a:ext cx="4071960" cy="658800"/>
          </a:xfrm>
          <a:prstGeom prst="rect">
            <a:avLst/>
          </a:prstGeom>
          <a:ln w="0">
            <a:noFill/>
          </a:ln>
        </p:spPr>
      </p:pic>
      <p:grpSp>
        <p:nvGrpSpPr>
          <p:cNvPr id="94" name="Прямоугольник 2"/>
          <p:cNvGrpSpPr/>
          <p:nvPr/>
        </p:nvGrpSpPr>
        <p:grpSpPr>
          <a:xfrm>
            <a:off x="182520" y="1170000"/>
            <a:ext cx="3975120" cy="5227920"/>
            <a:chOff x="182520" y="1170000"/>
            <a:chExt cx="3975120" cy="5227920"/>
          </a:xfrm>
        </p:grpSpPr>
        <p:pic>
          <p:nvPicPr>
            <p:cNvPr id="9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82520" y="1170000"/>
              <a:ext cx="3975120" cy="51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28600" y="1219320"/>
              <a:ext cx="3886200" cy="51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Tahoma"/>
                </a:rPr>
                <a:t>           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с  ножница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1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Не держи ножницы концами вверх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2.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Не оставляй ножницы в открытом виде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3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Передавай ножницы только в закрытом виде, кольцами в сторону товарища.</a:t>
              </a:r>
              <a:br>
                <a:rPr sz="1800"/>
              </a:b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4. 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При работе следи за пальцами левой руки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5. 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Клади ножницы на стол так, чтобы они не свешивались за край стола.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" name="Прямоугольник 3"/>
          <p:cNvGrpSpPr/>
          <p:nvPr/>
        </p:nvGrpSpPr>
        <p:grpSpPr>
          <a:xfrm>
            <a:off x="4522680" y="1859040"/>
            <a:ext cx="4127760" cy="5261400"/>
            <a:chOff x="4522680" y="1859040"/>
            <a:chExt cx="4127760" cy="5261400"/>
          </a:xfrm>
        </p:grpSpPr>
        <p:pic>
          <p:nvPicPr>
            <p:cNvPr id="98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522680" y="1859040"/>
              <a:ext cx="4127760" cy="48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2000" y="1905120"/>
              <a:ext cx="4038480" cy="52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                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с </a:t>
              </a:r>
              <a:r>
                <a:rPr b="1" lang="en-US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 </a:t>
              </a:r>
              <a:r>
                <a:rPr b="1" lang="ru-RU" sz="1800" spc="-1" strike="noStrike" u="sng">
                  <a:solidFill>
                    <a:srgbClr val="c00000"/>
                  </a:solidFill>
                  <a:uFillTx/>
                  <a:latin typeface="Tahoma"/>
                </a:rPr>
                <a:t>клее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1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При работе с клеем пользуйся кисточкой, если это требуется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2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Бери то количество клея, которое требуется для выполнения работы на данном этапе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3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 Излишки клея убирай мягкой тряпочкой или салфеткой, осторожно прижимая ее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10199"/>
                  </a:solidFill>
                  <a:latin typeface="Tahoma"/>
                </a:rPr>
                <a:t>4.</a:t>
              </a: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 Кисточку и руки после работы хорошо вымой с мылом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010199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0" name="Picture 2" descr="thumbnail"/>
          <p:cNvPicPr/>
          <p:nvPr/>
        </p:nvPicPr>
        <p:blipFill>
          <a:blip r:embed="rId4"/>
          <a:stretch/>
        </p:blipFill>
        <p:spPr>
          <a:xfrm>
            <a:off x="1371600" y="5257800"/>
            <a:ext cx="1828800" cy="666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"/>
          <p:cNvPicPr/>
          <p:nvPr/>
        </p:nvPicPr>
        <p:blipFill>
          <a:blip r:embed="rId5"/>
          <a:stretch/>
        </p:blipFill>
        <p:spPr>
          <a:xfrm>
            <a:off x="6553080" y="152280"/>
            <a:ext cx="23907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642600"/>
            <a:ext cx="86868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ам потребу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ветная бума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жниц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ломаст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ирку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3" descr="D:\Documents and Settings\Admin\Мои документы\Мои рисунки\kuzn24.jpg"/>
          <p:cNvPicPr/>
          <p:nvPr/>
        </p:nvPicPr>
        <p:blipFill>
          <a:blip r:embed="rId1"/>
          <a:stretch/>
        </p:blipFill>
        <p:spPr>
          <a:xfrm>
            <a:off x="4572000" y="1066680"/>
            <a:ext cx="42861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Documents and Settings\Admin\Мои документы\Мои рисунки\83333_mini-500x300.jpg"/>
          <p:cNvPicPr/>
          <p:nvPr/>
        </p:nvPicPr>
        <p:blipFill>
          <a:blip r:embed="rId1"/>
          <a:stretch/>
        </p:blipFill>
        <p:spPr>
          <a:xfrm>
            <a:off x="357120" y="357120"/>
            <a:ext cx="4048200" cy="2428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:\Documents and Settings\Admin\Мои документы\Мои рисунки\43532-500x300.jpg"/>
          <p:cNvPicPr/>
          <p:nvPr/>
        </p:nvPicPr>
        <p:blipFill>
          <a:blip r:embed="rId2"/>
          <a:stretch/>
        </p:blipFill>
        <p:spPr>
          <a:xfrm>
            <a:off x="4786200" y="357120"/>
            <a:ext cx="3881520" cy="242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D:\Documents and Settings\Admin\Мои документы\Мои рисунки\happy-lions_mini-500x300.jpg"/>
          <p:cNvPicPr/>
          <p:nvPr/>
        </p:nvPicPr>
        <p:blipFill>
          <a:blip r:embed="rId3"/>
          <a:stretch/>
        </p:blipFill>
        <p:spPr>
          <a:xfrm>
            <a:off x="285840" y="314316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D:\Documents and Settings\Admin\Мои документы\Мои рисунки\Asiatic_Lion_Persica_Indian_15_mini-500x300.jpg"/>
          <p:cNvPicPr/>
          <p:nvPr/>
        </p:nvPicPr>
        <p:blipFill>
          <a:blip r:embed="rId4"/>
          <a:stretch/>
        </p:blipFill>
        <p:spPr>
          <a:xfrm>
            <a:off x="4857840" y="3214800"/>
            <a:ext cx="3833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3387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ьв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 –это хищное животное. Оно питается мяс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 - царь зверей. Необычно его поведение: лев животное социальное ,всю свою жизнь он проводит в стае; охотятся львы тоже ста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2" descr="i?id=54146899&amp;tov=5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2454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i?id=17788155&amp;tov=3"/>
          <p:cNvPicPr/>
          <p:nvPr/>
        </p:nvPicPr>
        <p:blipFill>
          <a:blip r:embed="rId2"/>
          <a:stretch/>
        </p:blipFill>
        <p:spPr>
          <a:xfrm>
            <a:off x="4800600" y="388620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9"/>
          <p:cNvSpPr/>
          <p:nvPr/>
        </p:nvSpPr>
        <p:spPr>
          <a:xfrm>
            <a:off x="762120" y="152280"/>
            <a:ext cx="81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о рождается два-три львенка, изредка - четверо или пятер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Лев (увеличить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057400"/>
            <a:ext cx="365760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9"/>
          <p:cNvSpPr txBox="1"/>
          <p:nvPr/>
        </p:nvSpPr>
        <p:spPr>
          <a:xfrm>
            <a:off x="533520" y="304920"/>
            <a:ext cx="792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еныши льв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е недели малыши питаются одним материнским молоком, затем начинают пробовать приносимое им мяс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Лев (увеличить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3962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сения</dc:creator>
  <dc:description/>
  <dc:language>en-US</dc:language>
  <cp:lastModifiedBy>Пользователь Windows</cp:lastModifiedBy>
  <dcterms:modified xsi:type="dcterms:W3CDTF">2018-05-20T19:37:4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