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291-0C1B-4172-B9D4-FB1630D7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277-8729-44F4-BB1A-41E79FB7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668-ECD6-49B8-837D-A4FBB469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B20-5657-4F50-88D0-03E23EB2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173-551D-4B68-9513-F6482A69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309-A324-42D0-AF88-963C9ACE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A15-43CF-4B2E-B52A-24FE47C3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5A7-D4AD-4381-AF4A-65AC422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416-8C68-4714-B58C-8F659CF1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0EF-556C-4C97-9432-CD04CBE0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FFE-1094-46A6-880F-F4141CF8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B6E-9DEB-4AD3-A274-F6C2CA1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C3FC-61D4-490D-AF3B-CA5D61CC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6028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Путешествие по Москве</a:t>
            </a:r>
            <a:r>
              <a:rPr b="1" lang="en-US" sz="4000" spc="-1" strike="noStrike">
                <a:solidFill>
                  <a:srgbClr val="0000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981000"/>
            <a:ext cx="65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Московский Кремл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2349360"/>
            <a:ext cx="471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«Москва – белокамен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                 </a:t>
            </a: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златогла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                  </a:t>
            </a: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хлебосоль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                  </a:t>
            </a:r>
            <a:r>
              <a:rPr b="1" i="1" lang="en-US" sz="2400" spc="-1" strike="noStrike">
                <a:solidFill>
                  <a:srgbClr val="003300"/>
                </a:solidFill>
                <a:latin typeface="Century Gothic"/>
              </a:rPr>
              <a:t>словоохотливая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61657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чебная демонст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8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3808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Благовещенский собо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5812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62520" y="1523880"/>
            <a:ext cx="464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обор служил домовой церковью русских ца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4290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Он соединялся переходом со стоящим рядом царским двор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533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рхангельский собо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7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8164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167652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Этот собор стал усыпальницей русских князей и ца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3352680"/>
            <a:ext cx="502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 нём покоится прах Ивана Калиты, Дмитрия Донского,Ивана Грозного, Михаила и Алексея Роман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333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ордость площади трёх собо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981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олокольня «Ивана Великог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2133720"/>
            <a:ext cx="4968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ысота колокольни около 80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На её башне находилось 34 кол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х звон любила вся Моск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21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408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26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Одновременно возводились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ворцы Кр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30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27672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36576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емной двор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9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353040" cy="205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15000" y="36576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ружейная па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20" descr=""/>
          <p:cNvPicPr/>
          <p:nvPr/>
        </p:nvPicPr>
        <p:blipFill>
          <a:blip r:embed="rId3"/>
          <a:stretch/>
        </p:blipFill>
        <p:spPr>
          <a:xfrm>
            <a:off x="3505320" y="3886200"/>
            <a:ext cx="2090520" cy="236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57600" y="6392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рсе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24" descr=""/>
          <p:cNvPicPr/>
          <p:nvPr/>
        </p:nvPicPr>
        <p:blipFill>
          <a:blip r:embed="rId4"/>
          <a:stretch/>
        </p:blipFill>
        <p:spPr>
          <a:xfrm>
            <a:off x="5867280" y="4114800"/>
            <a:ext cx="2895840" cy="171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43600" y="60958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Большой Кремлёвский двор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29" descr=""/>
          <p:cNvPicPr/>
          <p:nvPr/>
        </p:nvPicPr>
        <p:blipFill>
          <a:blip r:embed="rId5"/>
          <a:stretch/>
        </p:blipFill>
        <p:spPr>
          <a:xfrm>
            <a:off x="304920" y="4114800"/>
            <a:ext cx="297180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новитая па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260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Теремной дворе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– жилые палаты царской семь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060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О внутренних помещениях Теремного дворца в народе говор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708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Ни в сказке сказать, ни пером описат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7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743200" cy="3038760"/>
          </a:xfrm>
          <a:prstGeom prst="rect">
            <a:avLst/>
          </a:prstGeom>
          <a:ln w="0">
            <a:noFill/>
          </a:ln>
        </p:spPr>
      </p:pic>
      <p:pic>
        <p:nvPicPr>
          <p:cNvPr id="125" name="8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274320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9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Грановитая палата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29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810240" cy="2819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95680" y="114300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Грановитой палате устраивали праздничные обеды, здесь проходили приёмы послов, заседали собрания, где решались важные государственные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0384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алата вместительна – её пространство почти 500 метров, стены украшены фре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70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3886200" cy="2633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5562720"/>
            <a:ext cx="3505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ре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– картины, написанные красками на сырой штукатур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404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реди музейных ценностей Кремля можно выде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1557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арь - пу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арь - кол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5589720"/>
            <a:ext cx="43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Вес  её 40 тон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Длина пушки более 5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5589720"/>
            <a:ext cx="42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Вес  его около 200 тон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Высота более 6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13" descr=""/>
          <p:cNvPicPr/>
          <p:nvPr/>
        </p:nvPicPr>
        <p:blipFill>
          <a:blip r:embed="rId1"/>
          <a:srcRect l="0" t="2334" r="4699" b="0"/>
          <a:stretch/>
        </p:blipFill>
        <p:spPr>
          <a:xfrm>
            <a:off x="838080" y="2284560"/>
            <a:ext cx="2905200" cy="3125520"/>
          </a:xfrm>
          <a:prstGeom prst="rect">
            <a:avLst/>
          </a:prstGeom>
          <a:ln w="0">
            <a:noFill/>
          </a:ln>
        </p:spPr>
      </p:pic>
      <p:pic>
        <p:nvPicPr>
          <p:cNvPr id="139" name="14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297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620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 нераздельном и неотрывном единстве жив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27664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23493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205000"/>
            <a:ext cx="31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Крем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58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умая о Москве, всегда вспоминают Кремль. Говоря о Кремле, люди имеют в виду Мос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0666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А что запомнилос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тебе, дорогой друг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 Московском Кремл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71640" y="62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Дорогой друг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1773360"/>
            <a:ext cx="64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едлагаю тебе совершить путешествие в один из древнейших русских кремлей –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осковский Крем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6021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рем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– это  креп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448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40464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Московский Крем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– сердце Моск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484280"/>
            <a:ext cx="4608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«Как прекрасен, как великолепен Кремль!... Как стройно и величаво поднимаются перед нами древние соборы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Высокие стены, древние башни и царские терема говорят нам о былом, напоминают о веках давно прошедших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324480"/>
            <a:ext cx="64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енесёмся же в те далёкие врем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6019920"/>
            <a:ext cx="1152360" cy="60948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6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581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68360" y="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аницы ис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92280"/>
            <a:ext cx="8391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авным – давно, почти 900 лет назад, на берегу Москвы – реки, на высоком холме появилось небольшое поселение, обнесённое бревенчатыми стенами. Это далёкое время считают основанием города Москвы. Чтобы обезопасить город от набегов врагов, русские князья решили укрепить Москву. Строятся новые дубовые стены и башни Кремля. Они простояли 25 лет, но при одном из пожаров сгорели. Тогда возвели стены Кремля из белого камня. Долго служили они надёжной защитой, со временем и они обветшали. И задумал тогда великий государь Иван 3 перестроить Московский Кремль. Вместо старых белокаменных стен поднялись новые, из красного кирпича. Крепкие, прочные, толщиной до шести метров. Они сохранились до настоящ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25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2152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26" descr=""/>
          <p:cNvPicPr/>
          <p:nvPr/>
        </p:nvPicPr>
        <p:blipFill>
          <a:blip r:embed="rId2"/>
          <a:stretch/>
        </p:blipFill>
        <p:spPr>
          <a:xfrm>
            <a:off x="3048120" y="4724280"/>
            <a:ext cx="304776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27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2209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260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месте со стенами поднялись и новые башни. Всего башен 18, но наиболее мощных пять башен –  пять  каменных сест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1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3429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пас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2133720" cy="1752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429000" y="3352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роиц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4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2133720" cy="1752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2200" y="3352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оровиц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2" descr=""/>
          <p:cNvPicPr/>
          <p:nvPr/>
        </p:nvPicPr>
        <p:blipFill>
          <a:blip r:embed="rId4"/>
          <a:stretch/>
        </p:blipFill>
        <p:spPr>
          <a:xfrm>
            <a:off x="2133720" y="4114800"/>
            <a:ext cx="200016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52480" y="6095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довзв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5" descr=""/>
          <p:cNvPicPr/>
          <p:nvPr/>
        </p:nvPicPr>
        <p:blipFill>
          <a:blip r:embed="rId5"/>
          <a:stretch/>
        </p:blipFill>
        <p:spPr>
          <a:xfrm>
            <a:off x="5181480" y="4114800"/>
            <a:ext cx="211464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61722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рсен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26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мая большая башня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пасск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1844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Через её ворота въезжали в Кремль московские князья и ца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386064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Вся страна каждый день слушает бой часов на Спасской башне, бой кремлёвских курантов. По этим часам мы сверяем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15" descr=""/>
          <p:cNvPicPr/>
          <p:nvPr/>
        </p:nvPicPr>
        <p:blipFill>
          <a:blip r:embed="rId1"/>
          <a:srcRect l="0" t="0" r="0" b="2481"/>
          <a:stretch/>
        </p:blipFill>
        <p:spPr>
          <a:xfrm>
            <a:off x="380880" y="1371600"/>
            <a:ext cx="3353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47640" y="404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Центром Кремля 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98100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оборная площад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6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91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260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оборную площадь окружают три величавых соб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3790440" y="2000160"/>
            <a:ext cx="1008000" cy="360360"/>
          </a:xfrm>
          <a:prstGeom prst="rightArrow">
            <a:avLst>
              <a:gd name="adj1" fmla="val 44500"/>
              <a:gd name="adj2" fmla="val 8202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1676520"/>
            <a:ext cx="360360" cy="1008000"/>
          </a:xfrm>
          <a:prstGeom prst="down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1676520"/>
            <a:ext cx="360360" cy="1008000"/>
          </a:xfrm>
          <a:prstGeom prst="downArrow">
            <a:avLst>
              <a:gd name="adj1" fmla="val 48898"/>
              <a:gd name="adj2" fmla="val 75770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22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590920" cy="240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5791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сп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17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511360" cy="2438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66880" y="5791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рханге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18" descr=""/>
          <p:cNvPicPr/>
          <p:nvPr/>
        </p:nvPicPr>
        <p:blipFill>
          <a:blip r:embed="rId3"/>
          <a:stretch/>
        </p:blipFill>
        <p:spPr>
          <a:xfrm>
            <a:off x="6248520" y="2895480"/>
            <a:ext cx="234936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15000" y="57913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лаговещ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5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лавным собором государства я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83664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спен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1700280"/>
            <a:ext cx="59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Здесь короновали царей, оглашались самые важные сообщения, происходили важнейшие государственные церемо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32000" y="292428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рати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37162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акая красо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37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акое велич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2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286000" cy="2633760"/>
          </a:xfrm>
          <a:prstGeom prst="rect">
            <a:avLst/>
          </a:prstGeom>
          <a:ln w="0">
            <a:noFill/>
          </a:ln>
        </p:spPr>
      </p:pic>
      <p:pic>
        <p:nvPicPr>
          <p:cNvPr id="95" name="10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59092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11" descr=""/>
          <p:cNvPicPr/>
          <p:nvPr/>
        </p:nvPicPr>
        <p:blipFill>
          <a:blip r:embed="rId3"/>
          <a:stretch/>
        </p:blipFill>
        <p:spPr>
          <a:xfrm>
            <a:off x="3429000" y="426708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12" descr=""/>
          <p:cNvPicPr/>
          <p:nvPr/>
        </p:nvPicPr>
        <p:blipFill>
          <a:blip r:embed="rId4"/>
          <a:stretch/>
        </p:blipFill>
        <p:spPr>
          <a:xfrm>
            <a:off x="6095880" y="4267080"/>
            <a:ext cx="2590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4:31:33Z</dcterms:created>
  <dc:creator>gw</dc:creator>
  <dc:description/>
  <dc:language>en-US</dc:language>
  <cp:lastModifiedBy>учитель</cp:lastModifiedBy>
  <dcterms:modified xsi:type="dcterms:W3CDTF">2002-01-16T19:50:52Z</dcterms:modified>
  <cp:revision>15</cp:revision>
  <dc:subject/>
  <dc:title>Слайд 1</dc:title>
</cp:coreProperties>
</file>