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8C018-55E8-40EB-AAEC-D696C08B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10483-233E-4A28-A655-CE70B0A0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BE21-3955-4673-A81E-4EB1A038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3F92E-477B-4F09-84DC-9ADBF08C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7AF2-A98E-4FCA-A0F7-A4244008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BE88-AC23-4A72-89A4-94F26F45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29A0-130E-4F6C-9563-6ED21664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ADED-7E0F-4A4A-B3EA-F569B177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76FA-CCF7-4797-A48F-A6E31480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4536-153D-4947-A9CE-CEC1196E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DC3A-D70C-4359-BBE2-0E7FB08D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905D-0C15-4440-BAC4-9A093D66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BC40-B3CD-4647-ABB8-4FF3BFC1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31F6-C881-450F-AB94-219D9614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30EC-6E10-4737-A521-86E3137B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C484-B8ED-4844-8B3F-462FC786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D4A5-A248-46E1-8FDB-B287F188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83473-3C26-4B9E-9A80-7F790B47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FDF16-B29E-488A-B1B2-B39E4E47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373C5-1AEF-414A-B9BF-686F2E50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ECC38-8210-4D91-942C-A77CC982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BD73C-74E1-4801-ADBA-CD79CB96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99C17-F404-47C6-A7E0-F714FCC8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AEADC-BA75-419F-976C-DF226A73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3712-0335-4F93-BC51-703454120D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8414-50C7-440B-B524-D0525B782DD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revisor.od.ua/pics/apicturepicture8680_87853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0360" y="2205000"/>
            <a:ext cx="6192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ffffff"/>
                </a:solidFill>
                <a:latin typeface="Times New Roman"/>
              </a:rPr>
              <a:t>Где зимуют птицы?</a:t>
            </a:r>
            <a:br>
              <a:rPr sz="5000"/>
            </a:br>
            <a:br>
              <a:rPr sz="46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32000" y="4653000"/>
            <a:ext cx="4033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одготовила Быкова В.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вайте позаботимся о зимующих птицах!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Рисунок3"/>
          <p:cNvPicPr/>
          <p:nvPr/>
        </p:nvPicPr>
        <p:blipFill>
          <a:blip r:embed="rId1"/>
          <a:stretch/>
        </p:blipFill>
        <p:spPr>
          <a:xfrm>
            <a:off x="395280" y="1989000"/>
            <a:ext cx="8424720" cy="2998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755640" y="5734080"/>
            <a:ext cx="79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бята, устраивайте для птиц столов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95280" y="198900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И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РМУ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4360" y="980640"/>
            <a:ext cx="8208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ТИЦЫ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 flipH="1">
            <a:off x="1834920" y="1773360"/>
            <a:ext cx="1871640" cy="107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6012000" y="1844640"/>
            <a:ext cx="172692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Рисунок1"/>
          <p:cNvPicPr/>
          <p:nvPr/>
        </p:nvPicPr>
        <p:blipFill>
          <a:blip r:embed="rId1"/>
          <a:stretch/>
        </p:blipFill>
        <p:spPr>
          <a:xfrm>
            <a:off x="5003640" y="4149720"/>
            <a:ext cx="3708720" cy="237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Рисунок2"/>
          <p:cNvPicPr/>
          <p:nvPr/>
        </p:nvPicPr>
        <p:blipFill>
          <a:blip r:embed="rId2"/>
          <a:stretch/>
        </p:blipFill>
        <p:spPr>
          <a:xfrm>
            <a:off x="539640" y="4149720"/>
            <a:ext cx="3816360" cy="23763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1"/>
          <p:cNvSpPr/>
          <p:nvPr/>
        </p:nvSpPr>
        <p:spPr>
          <a:xfrm>
            <a:off x="5508720" y="3068640"/>
            <a:ext cx="3240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ИМУЮЩ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826920" y="3068640"/>
            <a:ext cx="3238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ЛЕТНЫЕ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ИМУЮЩИЕ ПТ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835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маленькая подвижная птичка с округлой головкой, короткой шеей, яйцевидным туловищем, короткими и  округлыми крыльями. Клюв твердый, к концу заостренный. В холодную пору птицы сидят, плотно прижавшись, друг к другу, нахохливш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чему его так назва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робьи очень прожорливые птички. Часто они летают по полям и садам и истребляют не только насекомых, но и вредят урожаю. Само название говорит об этом: «Вора бей!» - кричали крестьяне, когда видели, как воробей уничтожает их посе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SparrowHouse"/>
          <p:cNvPicPr/>
          <p:nvPr/>
        </p:nvPicPr>
        <p:blipFill>
          <a:blip r:embed="rId1"/>
          <a:stretch/>
        </p:blipFill>
        <p:spPr>
          <a:xfrm>
            <a:off x="5435640" y="1844640"/>
            <a:ext cx="3457440" cy="38163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805440" y="575460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0"/>
                </a:solidFill>
                <a:latin typeface="Times New Roman"/>
              </a:rPr>
              <a:t>во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43280" y="1125000"/>
            <a:ext cx="4043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ловка у этой птицы в черной шапочке, крылья и хвост темные, а грудка ярко – жел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ницы - очень подвижные птицы, перепархивая с ветки на ветку, они подвешиваются к ним вниз головой, качаются, держатся на самых тонких веточках. В этом им помогают их длинные и острые ког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032000" cy="3816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>
            <a:off x="2053800" y="5373720"/>
            <a:ext cx="13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0"/>
                </a:solidFill>
                <a:latin typeface="Times New Roman"/>
              </a:rPr>
              <a:t>си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95640" y="692280"/>
            <a:ext cx="4835520" cy="54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 этой птицы красивое пестрое оперение: верх тела - черный, на голове и шее белые пятна, на сложенных крыльях белые полосы, подхвостье и темя красные. Клюв прочный и острый. (Сту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дятел работает, древесину долбит, деревья лечит: насекомых и их личинок из – под коры и даже из глубины дерева достает. У него очень длинный язык, сантиметров 10, а то и 15. Кроме того, он липкий. С твердыми зазубринами. Им дятел и достает насекомых. Поэтому и называют его «лесным докторо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дятел большой-пёстрый"/>
          <p:cNvPicPr/>
          <p:nvPr/>
        </p:nvPicPr>
        <p:blipFill>
          <a:blip r:embed="rId1"/>
          <a:stretch/>
        </p:blipFill>
        <p:spPr>
          <a:xfrm>
            <a:off x="468360" y="1197000"/>
            <a:ext cx="3240000" cy="4176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1405440" y="558972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0"/>
                </a:solidFill>
                <a:latin typeface="Times New Roman"/>
              </a:rPr>
              <a:t>дя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836640"/>
            <a:ext cx="367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упная птица,  с большими глазами,  серым оперением,  клюв крюч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сшумный полёт, способность видеть в темноте, острый слух, мгновенная реакция – качества, за которые в народе сов прозвали пернатыми кош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сова-1"/>
          <p:cNvPicPr/>
          <p:nvPr/>
        </p:nvPicPr>
        <p:blipFill>
          <a:blip r:embed="rId1"/>
          <a:stretch/>
        </p:blipFill>
        <p:spPr>
          <a:xfrm>
            <a:off x="4500720" y="1125360"/>
            <a:ext cx="3863880" cy="4216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5652720" y="558972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0"/>
                </a:solidFill>
                <a:latin typeface="Times New Roman"/>
              </a:rPr>
              <a:t>с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0244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ОРМ ДЛЯ ЗИМУЮЩИХ ПТ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Рисунок56"/>
          <p:cNvPicPr/>
          <p:nvPr/>
        </p:nvPicPr>
        <p:blipFill>
          <a:blip r:embed="rId1"/>
          <a:stretch/>
        </p:blipFill>
        <p:spPr>
          <a:xfrm>
            <a:off x="5435640" y="3573360"/>
            <a:ext cx="3529080" cy="180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Рисунок61"/>
          <p:cNvPicPr/>
          <p:nvPr/>
        </p:nvPicPr>
        <p:blipFill>
          <a:blip r:embed="rId2"/>
          <a:stretch/>
        </p:blipFill>
        <p:spPr>
          <a:xfrm>
            <a:off x="468360" y="3860640"/>
            <a:ext cx="2762280" cy="1800360"/>
          </a:xfrm>
          <a:prstGeom prst="rect">
            <a:avLst/>
          </a:prstGeom>
          <a:ln w="0">
            <a:noFill/>
          </a:ln>
        </p:spPr>
      </p:pic>
      <p:pic>
        <p:nvPicPr>
          <p:cNvPr id="132" name="i-main-pic" descr="Картинка 1 из 409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413000"/>
            <a:ext cx="2089080" cy="1728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bread loaf half sliced"/>
          <p:cNvPicPr/>
          <p:nvPr/>
        </p:nvPicPr>
        <p:blipFill>
          <a:blip r:embed="rId5"/>
          <a:stretch/>
        </p:blipFill>
        <p:spPr>
          <a:xfrm>
            <a:off x="6732720" y="1413000"/>
            <a:ext cx="1871640" cy="15350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3348000" y="1916280"/>
            <a:ext cx="35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давленные семена подсолнечника, арбуза, тыквы, крошки белого хлеба. Для синиц очень хороши кусочки несоленого с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Рисунок50"/>
          <p:cNvPicPr/>
          <p:nvPr/>
        </p:nvPicPr>
        <p:blipFill>
          <a:blip r:embed="rId1"/>
          <a:stretch/>
        </p:blipFill>
        <p:spPr>
          <a:xfrm>
            <a:off x="6516720" y="765000"/>
            <a:ext cx="2428920" cy="1476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Рисунок49"/>
          <p:cNvPicPr/>
          <p:nvPr/>
        </p:nvPicPr>
        <p:blipFill>
          <a:blip r:embed="rId2"/>
          <a:stretch/>
        </p:blipFill>
        <p:spPr>
          <a:xfrm>
            <a:off x="468360" y="5084640"/>
            <a:ext cx="2438280" cy="122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Рисунок45"/>
          <p:cNvPicPr/>
          <p:nvPr/>
        </p:nvPicPr>
        <p:blipFill>
          <a:blip r:embed="rId3"/>
          <a:stretch/>
        </p:blipFill>
        <p:spPr>
          <a:xfrm>
            <a:off x="6948360" y="4437000"/>
            <a:ext cx="1906560" cy="2003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Рисунок51"/>
          <p:cNvPicPr/>
          <p:nvPr/>
        </p:nvPicPr>
        <p:blipFill>
          <a:blip r:embed="rId4"/>
          <a:stretch/>
        </p:blipFill>
        <p:spPr>
          <a:xfrm>
            <a:off x="0" y="836640"/>
            <a:ext cx="2844720" cy="4149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Image5"/>
          <p:cNvPicPr/>
          <p:nvPr/>
        </p:nvPicPr>
        <p:blipFill>
          <a:blip r:embed="rId5"/>
          <a:stretch/>
        </p:blipFill>
        <p:spPr>
          <a:xfrm>
            <a:off x="2556000" y="2276640"/>
            <a:ext cx="5040360" cy="32083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4"/>
          <p:cNvSpPr/>
          <p:nvPr/>
        </p:nvSpPr>
        <p:spPr>
          <a:xfrm>
            <a:off x="2273400" y="475560"/>
            <a:ext cx="57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ИМНЯЯ СТОЛОВАЯ ДЛЯ ПТИЦ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кормите птиц зи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усть со всех конц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 вам слетятся, как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йки на крыльц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богаты их к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рсть зерна нуж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рсть одна – и не страш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удет им з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снегирь"/>
          <p:cNvPicPr/>
          <p:nvPr/>
        </p:nvPicPr>
        <p:blipFill>
          <a:blip r:embed="rId1"/>
          <a:stretch/>
        </p:blipFill>
        <p:spPr>
          <a:xfrm>
            <a:off x="539640" y="3213000"/>
            <a:ext cx="2568600" cy="3183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Users\999\Pictures\Новая папка (10)\1970282[1].jpg"/>
          <p:cNvPicPr/>
          <p:nvPr/>
        </p:nvPicPr>
        <p:blipFill>
          <a:blip r:embed="rId2"/>
          <a:stretch/>
        </p:blipFill>
        <p:spPr>
          <a:xfrm>
            <a:off x="6012000" y="476280"/>
            <a:ext cx="27842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3:54:45Z</dcterms:created>
  <dc:creator>Workstation</dc:creator>
  <dc:description/>
  <dc:language>en-US</dc:language>
  <cp:lastModifiedBy>Вова</cp:lastModifiedBy>
  <dcterms:modified xsi:type="dcterms:W3CDTF">2019-05-17T05:59:18Z</dcterms:modified>
  <cp:revision>12</cp:revision>
  <dc:subject/>
  <dc:title>Где зимуют птицы? Урок окружающего мира в 1 классе УМК «Школа России»</dc:title>
</cp:coreProperties>
</file>