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E996-58A6-47DD-8552-EA4238D3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E79B-863E-4ACC-AEED-A958CB63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6BCF-84F5-417C-928E-FEA59EA1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20DB-34E1-47FD-AC9C-3D84AAAE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10C-B66A-4767-B99D-CD65C6A4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CED-FB28-4C6B-9D8B-379A279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B43-286B-42FF-A8FE-FF361D4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E1FB-1165-46AB-82EC-840110FB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92EF-608A-43D1-888A-B5AEA35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B2A9-09AC-487C-84B8-FF3CF9F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C2B-4DB9-40C9-B7D3-5FBAA6E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5357-9B3D-434C-9651-D011C77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B51-7D71-460D-9E5A-4187E2E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B8F-6FEB-4E12-84C5-6E2E4DC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E60F-8036-4504-8C05-9575FB8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D231-12AF-4125-AC7E-711755D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9FFD-0155-4654-8555-95A8F785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74D2-F197-40FD-ACD8-973B472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8E6E-4511-4D89-95D4-9D3B2748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43F9-03B8-4BBE-BD57-890B00F7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E259-6127-4629-8657-7AC59FF6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22EC-98A1-40C6-8081-C79F5D0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8F49-3BAF-425F-9C2F-DCF0A43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E4B6-174B-4E59-9F1C-24A9EB72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6FDF-B130-464B-A6E2-BCB719A9A0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247-C4CC-446B-B460-66636DCC30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revisor.od.ua/pics/apicturepicture8680_87853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360" y="2205000"/>
            <a:ext cx="6192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Times New Roman"/>
              </a:rPr>
              <a:t>Где зимуют птицы?</a:t>
            </a:r>
            <a:br>
              <a:rPr sz="5000"/>
            </a:br>
            <a:br>
              <a:rPr sz="46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2000" y="4653000"/>
            <a:ext cx="403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одготовила Быкова В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позаботимся о зимующих птицах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Рисунок3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99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755640" y="573408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ята, устраивайте для птиц столо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95280" y="19890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М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820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ТИЦЫ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1834920" y="1773360"/>
            <a:ext cx="1871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6012000" y="1844640"/>
            <a:ext cx="172692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Рисунок1"/>
          <p:cNvPicPr/>
          <p:nvPr/>
        </p:nvPicPr>
        <p:blipFill>
          <a:blip r:embed="rId1"/>
          <a:stretch/>
        </p:blipFill>
        <p:spPr>
          <a:xfrm>
            <a:off x="5003640" y="4149720"/>
            <a:ext cx="3708720" cy="237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Рисунок2"/>
          <p:cNvPicPr/>
          <p:nvPr/>
        </p:nvPicPr>
        <p:blipFill>
          <a:blip r:embed="rId2"/>
          <a:stretch/>
        </p:blipFill>
        <p:spPr>
          <a:xfrm>
            <a:off x="539640" y="4149720"/>
            <a:ext cx="3816360" cy="2376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5508720" y="3068640"/>
            <a:ext cx="324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УЮЩ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826920" y="3068640"/>
            <a:ext cx="3238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ЛЕТНЫ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ИМУЮЩИЕ 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835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маленькая подвижная птичка с округлой головкой, короткой шеей, яйцевидным туловищем, короткими и  округлыми крыльями. Клюв твердый, к концу заостренный. В холодную пору птицы сидят, плотно прижавшись, друг к другу, нахохливш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чему его так назв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робьи очень прожорливые птички. Часто они летают по полям и садам и истребляют не только насекомых, но и вредят урожаю. Само название говорит об этом: «Вора бей!» - кричали крестьяне, когда видели, как воробей уничтожает их посе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parrowHouse"/>
          <p:cNvPicPr/>
          <p:nvPr/>
        </p:nvPicPr>
        <p:blipFill>
          <a:blip r:embed="rId1"/>
          <a:stretch/>
        </p:blipFill>
        <p:spPr>
          <a:xfrm>
            <a:off x="5435640" y="1844640"/>
            <a:ext cx="345744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805440" y="5754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во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3280" y="1125000"/>
            <a:ext cx="404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ловка у этой птицы в черной шапочке, крылья и хвост темные, а грудка ярко – жел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ницы - очень подвижные птицы,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03200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2053800" y="53737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с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95640" y="692280"/>
            <a:ext cx="483552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 (Ст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дятел работает, древесину долбит, деревья лечит: насекомых и их личинок из – под коры и даже из глубины дерева достает. У него очень длинный язык, сантиметров 10, а то и 15. Кроме того, он липкий. С твердыми зазубринами. Им дятел и достает насекомых. Поэтому и называют его «лесным доктор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дятел большой-пёстрый"/>
          <p:cNvPicPr/>
          <p:nvPr/>
        </p:nvPicPr>
        <p:blipFill>
          <a:blip r:embed="rId1"/>
          <a:stretch/>
        </p:blipFill>
        <p:spPr>
          <a:xfrm>
            <a:off x="468360" y="119700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405440" y="558972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367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ая птица,  с большими глазами,  серым оперением,  клюв крю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сшумный полёт, способность видеть в темноте, острый слух, мгновенная реакция – качества, за которые в народе сов прозвали пернатыми кош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сова-1"/>
          <p:cNvPicPr/>
          <p:nvPr/>
        </p:nvPicPr>
        <p:blipFill>
          <a:blip r:embed="rId1"/>
          <a:stretch/>
        </p:blipFill>
        <p:spPr>
          <a:xfrm>
            <a:off x="4500720" y="1125360"/>
            <a:ext cx="3863880" cy="4216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5652720" y="55897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24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М ДЛЯ ЗИМУЮЩИХ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56"/>
          <p:cNvPicPr/>
          <p:nvPr/>
        </p:nvPicPr>
        <p:blipFill>
          <a:blip r:embed="rId1"/>
          <a:stretch/>
        </p:blipFill>
        <p:spPr>
          <a:xfrm>
            <a:off x="5435640" y="3573360"/>
            <a:ext cx="352908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Рисунок61"/>
          <p:cNvPicPr/>
          <p:nvPr/>
        </p:nvPicPr>
        <p:blipFill>
          <a:blip r:embed="rId2"/>
          <a:stretch/>
        </p:blipFill>
        <p:spPr>
          <a:xfrm>
            <a:off x="468360" y="3860640"/>
            <a:ext cx="2762280" cy="180036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 из 40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413000"/>
            <a:ext cx="208908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read loaf half sliced"/>
          <p:cNvPicPr/>
          <p:nvPr/>
        </p:nvPicPr>
        <p:blipFill>
          <a:blip r:embed="rId5"/>
          <a:stretch/>
        </p:blipFill>
        <p:spPr>
          <a:xfrm>
            <a:off x="6732720" y="1413000"/>
            <a:ext cx="1871640" cy="1535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3348000" y="19162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авленные семена подсолнечника, арбуза, тыквы, крошки белого хлеба. Для синиц очень хороши кусочки несоленого с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Рисунок50"/>
          <p:cNvPicPr/>
          <p:nvPr/>
        </p:nvPicPr>
        <p:blipFill>
          <a:blip r:embed="rId1"/>
          <a:stretch/>
        </p:blipFill>
        <p:spPr>
          <a:xfrm>
            <a:off x="6516720" y="765000"/>
            <a:ext cx="2428920" cy="147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Рисунок49"/>
          <p:cNvPicPr/>
          <p:nvPr/>
        </p:nvPicPr>
        <p:blipFill>
          <a:blip r:embed="rId2"/>
          <a:stretch/>
        </p:blipFill>
        <p:spPr>
          <a:xfrm>
            <a:off x="468360" y="5084640"/>
            <a:ext cx="2438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Рисунок45"/>
          <p:cNvPicPr/>
          <p:nvPr/>
        </p:nvPicPr>
        <p:blipFill>
          <a:blip r:embed="rId3"/>
          <a:stretch/>
        </p:blipFill>
        <p:spPr>
          <a:xfrm>
            <a:off x="6948360" y="4437000"/>
            <a:ext cx="1906560" cy="200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Рисунок51"/>
          <p:cNvPicPr/>
          <p:nvPr/>
        </p:nvPicPr>
        <p:blipFill>
          <a:blip r:embed="rId4"/>
          <a:stretch/>
        </p:blipFill>
        <p:spPr>
          <a:xfrm>
            <a:off x="0" y="836640"/>
            <a:ext cx="2844720" cy="414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mage5"/>
          <p:cNvPicPr/>
          <p:nvPr/>
        </p:nvPicPr>
        <p:blipFill>
          <a:blip r:embed="rId5"/>
          <a:stretch/>
        </p:blipFill>
        <p:spPr>
          <a:xfrm>
            <a:off x="2556000" y="2276640"/>
            <a:ext cx="5040360" cy="3208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2273400" y="47556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ИМНЯЯ СТОЛОВАЯ ДЛЯ ПТИЦ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мите птиц зи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со всех кон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вам слетятся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йки на крыль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богаты их к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сть зерна нуж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сть одна – и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дет им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снегирь"/>
          <p:cNvPicPr/>
          <p:nvPr/>
        </p:nvPicPr>
        <p:blipFill>
          <a:blip r:embed="rId1"/>
          <a:stretch/>
        </p:blipFill>
        <p:spPr>
          <a:xfrm>
            <a:off x="539640" y="3213000"/>
            <a:ext cx="2568600" cy="318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999\Pictures\Новая папка (10)\1970282[1].jpg"/>
          <p:cNvPicPr/>
          <p:nvPr/>
        </p:nvPicPr>
        <p:blipFill>
          <a:blip r:embed="rId2"/>
          <a:stretch/>
        </p:blipFill>
        <p:spPr>
          <a:xfrm>
            <a:off x="6012000" y="476280"/>
            <a:ext cx="278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54:45Z</dcterms:created>
  <dc:creator>Workstation</dc:creator>
  <dc:description/>
  <dc:language>en-US</dc:language>
  <cp:lastModifiedBy>Вова</cp:lastModifiedBy>
  <dcterms:modified xsi:type="dcterms:W3CDTF">2019-05-17T05:59:18Z</dcterms:modified>
  <cp:revision>12</cp:revision>
  <dc:subject/>
  <dc:title>Где зимуют птицы? Урок окружающего мира в 1 классе УМК «Школа России»</dc:title>
</cp:coreProperties>
</file>