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F41-4BAD-416F-B18F-576D7F8B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78D-3B1E-4940-8177-F863B68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114-C638-4F78-AE29-E1B0785E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E40-872F-4DF3-AA4C-A29FBDAA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A4A-92D0-4537-9197-33528385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2EA-CCB5-475B-854A-2F8646DB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4C4-1B78-43E4-89CA-73A1CA9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BFF-6D3B-4D2C-A079-9F2EB68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A20-D3BF-4FA3-A60A-9809BBE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0E0-9507-4F0F-ADA1-96BEC56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B31-E760-4130-A2FA-9095D84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066-186E-4D5A-B022-ECC74FB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B0AC-F7B6-46F1-9AEA-627BEAA178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5"/>
          <p:cNvSpPr/>
          <p:nvPr/>
        </p:nvSpPr>
        <p:spPr>
          <a:xfrm>
            <a:off x="3000240" y="1857240"/>
            <a:ext cx="321480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с двумя скругленными противолежащими углами 6"/>
          <p:cNvSpPr/>
          <p:nvPr/>
        </p:nvSpPr>
        <p:spPr>
          <a:xfrm>
            <a:off x="1857240" y="2571840"/>
            <a:ext cx="5500800" cy="714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го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3"/>
          <p:cNvSpPr/>
          <p:nvPr/>
        </p:nvSpPr>
        <p:spPr>
          <a:xfrm>
            <a:off x="500040" y="428760"/>
            <a:ext cx="4786200" cy="57132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е чтение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вычитывать все виды текстов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нутый угол 7"/>
          <p:cNvSpPr/>
          <p:nvPr/>
        </p:nvSpPr>
        <p:spPr>
          <a:xfrm>
            <a:off x="428760" y="3714840"/>
            <a:ext cx="2643120" cy="228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 чем в тексте сообщается в явном ви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нутый угол 8"/>
          <p:cNvSpPr/>
          <p:nvPr/>
        </p:nvSpPr>
        <p:spPr>
          <a:xfrm>
            <a:off x="6000840" y="2214720"/>
            <a:ext cx="2643120" cy="228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новная идея текста, его главные смыс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нутый угол 9"/>
          <p:cNvSpPr/>
          <p:nvPr/>
        </p:nvSpPr>
        <p:spPr>
          <a:xfrm>
            <a:off x="3214800" y="2928960"/>
            <a:ext cx="2643120" cy="228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екст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 чем в тексте сообщается в неявном виде, читается «между стр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дуктивного чтения позволяет формиров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приемами анализа текста в этой технологии являются диалог с автором и комментированное ч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двумя скругленными противолежащими углами 5"/>
          <p:cNvSpPr/>
          <p:nvPr/>
        </p:nvSpPr>
        <p:spPr>
          <a:xfrm>
            <a:off x="714240" y="1928880"/>
            <a:ext cx="7715520" cy="85716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читывать все виды текстовой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актуальную, концептуальную, подтекстову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с двумя скругленными противолежащими углами 6"/>
          <p:cNvSpPr/>
          <p:nvPr/>
        </p:nvSpPr>
        <p:spPr>
          <a:xfrm>
            <a:off x="714240" y="3071880"/>
            <a:ext cx="7715520" cy="85716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осваивать текст до начала чтения, во время чтения, после ч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71760" y="1571760"/>
          <a:ext cx="6095880" cy="4359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рогнозируют содержание текста: «Предположите, о чём этот текст, по его названию… А иллюстрация подтверждает это?» Возникает мотивация к чт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итаем и ведём диалог с автором: задаём вопросы, прогнозируем ответы, проверяем себя по тексту». Возникает читательская интерпретац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уем и уточняем позицию ав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с двумя скругленными противолежащими углами 3"/>
          <p:cNvSpPr/>
          <p:nvPr/>
        </p:nvSpPr>
        <p:spPr>
          <a:xfrm>
            <a:off x="1143000" y="857160"/>
            <a:ext cx="685800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до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прогнозирование будущего чтения. Задание: предположите, о чем данный текст (его направленность) п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ю, имени ав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ям (перед тексто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м словам (просмотровое чт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я предшествующий читательский 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с двумя скругленными противолежащими углами 3"/>
          <p:cNvSpPr/>
          <p:nvPr/>
        </p:nvSpPr>
        <p:spPr>
          <a:xfrm>
            <a:off x="428760" y="857160"/>
            <a:ext cx="821520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во время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щее чтение (вслух / про себя; индивидуально / классом) в сочетании с разными приемами (комментированное чтение, диалог с автором, словарная работа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: диалог с ав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в тексте прямые и скрытые вопросы (выход на подтекстовый смыс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ть ответы на эти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ть свои прогнозы, по ходу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с двумя скругленными противолежащими углами 3"/>
          <p:cNvSpPr/>
          <p:nvPr/>
        </p:nvSpPr>
        <p:spPr>
          <a:xfrm>
            <a:off x="714240" y="714240"/>
            <a:ext cx="750096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после чтения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цептуальная (смысловая) беседа по текст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обсуждение прочитанного, дискуссия. Соотнесение читательских интерпретаций (истолкований, оценок) произведения с авторской пози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основной идеи текста или совокупности его главных смы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комство с писа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заглавием; иллюстр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ворчески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18-05-20T09:29:24Z</dcterms:modified>
  <cp:revision>437</cp:revision>
  <dc:subject/>
  <dc:title>Diapositiva 1</dc:title>
</cp:coreProperties>
</file>