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90CB-D72A-49B1-A25C-D8B8C8D2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A28A-7DEC-40BB-8A84-6F21F42E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5DA3-BDE2-4ED4-ACB2-03EEE4CD0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0166-C353-434E-903D-42B37FA5C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5912-7F5E-4604-A742-AEB18C8D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00EE-71CD-4BA2-AA60-6A1DDACC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08A8-AD53-4F0D-AFA7-015F55C2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05E0-C178-4070-A356-BA75A124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7554-0945-48C0-8685-52791F75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8267-BBF8-4A5A-9E0B-23A30B4B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1D4E-DD22-43EE-B60A-AD839BF5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CD92-5BAC-4A50-8664-7B558789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E81B-2EE5-4726-BAF8-8DB05B770BA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с двумя скругленными противолежащими углами 5"/>
          <p:cNvSpPr/>
          <p:nvPr/>
        </p:nvSpPr>
        <p:spPr>
          <a:xfrm>
            <a:off x="3000240" y="1857240"/>
            <a:ext cx="3214800" cy="71460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с двумя скругленными противолежащими углами 6"/>
          <p:cNvSpPr/>
          <p:nvPr/>
        </p:nvSpPr>
        <p:spPr>
          <a:xfrm>
            <a:off x="1857240" y="2571840"/>
            <a:ext cx="5500800" cy="71424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85800" y="1356840"/>
            <a:ext cx="777240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ивного ч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с двумя скругленными противолежащими углами 3"/>
          <p:cNvSpPr/>
          <p:nvPr/>
        </p:nvSpPr>
        <p:spPr>
          <a:xfrm>
            <a:off x="500040" y="428760"/>
            <a:ext cx="4786200" cy="57132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ивное чтение –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умение вычитывать все виды текстовой информ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Загнутый угол 7"/>
          <p:cNvSpPr/>
          <p:nvPr/>
        </p:nvSpPr>
        <p:spPr>
          <a:xfrm>
            <a:off x="428760" y="3714840"/>
            <a:ext cx="2643120" cy="2286000"/>
          </a:xfrm>
          <a:prstGeom prst="foldedCorner">
            <a:avLst>
              <a:gd name="adj" fmla="val 16666"/>
            </a:avLst>
          </a:prstGeom>
          <a:solidFill>
            <a:srgbClr val="ffc000"/>
          </a:solidFill>
          <a:ln w="25560">
            <a:solidFill>
              <a:srgbClr val="daa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уаль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 чем в тексте сообщается в явном вид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Загнутый угол 8"/>
          <p:cNvSpPr/>
          <p:nvPr/>
        </p:nvSpPr>
        <p:spPr>
          <a:xfrm>
            <a:off x="6000840" y="2214720"/>
            <a:ext cx="2643120" cy="2286000"/>
          </a:xfrm>
          <a:prstGeom prst="foldedCorner">
            <a:avLst>
              <a:gd name="adj" fmla="val 16666"/>
            </a:avLst>
          </a:prstGeom>
          <a:solidFill>
            <a:srgbClr val="ffc000"/>
          </a:solidFill>
          <a:ln w="25560">
            <a:solidFill>
              <a:srgbClr val="daa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уальна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сновная идея текста, его главные смысл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Загнутый угол 9"/>
          <p:cNvSpPr/>
          <p:nvPr/>
        </p:nvSpPr>
        <p:spPr>
          <a:xfrm>
            <a:off x="3214800" y="2928960"/>
            <a:ext cx="2643120" cy="2286000"/>
          </a:xfrm>
          <a:prstGeom prst="foldedCorner">
            <a:avLst>
              <a:gd name="adj" fmla="val 16666"/>
            </a:avLst>
          </a:prstGeom>
          <a:solidFill>
            <a:srgbClr val="ffc000"/>
          </a:solidFill>
          <a:ln w="25560">
            <a:solidFill>
              <a:srgbClr val="daa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екстов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 чем в тексте сообщается в неявном виде, читается «между строк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продуктивного чтения позволяет формирова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ми приемами анализа текста в этой технологии являются диалог с автором и комментированное чт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с двумя скругленными противолежащими углами 5"/>
          <p:cNvSpPr/>
          <p:nvPr/>
        </p:nvSpPr>
        <p:spPr>
          <a:xfrm>
            <a:off x="714240" y="1928880"/>
            <a:ext cx="7715520" cy="85716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ычитывать все виды текстовой информаци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фактуальную, концептуальную, подтекстовую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с двумя скругленными противолежащими углами 6"/>
          <p:cNvSpPr/>
          <p:nvPr/>
        </p:nvSpPr>
        <p:spPr>
          <a:xfrm>
            <a:off x="714240" y="3071880"/>
            <a:ext cx="7715520" cy="85716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амостоятельно осваивать текст до начала чтения, во время чтения, после ч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71760" y="1571760"/>
          <a:ext cx="6095880" cy="43592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чт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и прогнозируют содержание текста: «Предположите, о чём этот текст, по его названию… А иллюстрация подтверждает это?» Возникает мотивация к чтени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 время чт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итаем и ведём диалог с автором: задаём вопросы, прогнозируем ответы, проверяем себя по тексту». Возникает читательская интерпретац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чт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уем и уточняем позицию автор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с двумя скругленными противолежащими углами 3"/>
          <p:cNvSpPr/>
          <p:nvPr/>
        </p:nvSpPr>
        <p:spPr>
          <a:xfrm>
            <a:off x="1143000" y="857160"/>
            <a:ext cx="6858000" cy="71460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й этап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текстом до ч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прогнозирование будущего чтения. Задание: предположите, о чем данный текст (его направленность) п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ю, имени автор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люстрациям (перед текстом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ным словам (просмотровое чтение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кая предшествующий читательский опы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с двумя скругленными противолежащими углами 3"/>
          <p:cNvSpPr/>
          <p:nvPr/>
        </p:nvSpPr>
        <p:spPr>
          <a:xfrm>
            <a:off x="428760" y="857160"/>
            <a:ext cx="8215200" cy="71460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й этап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текстом во время ч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ющее чтение (вслух / про себя; индивидуально / классом) в сочетании с разными приемами (комментированное чтение, диалог с автором, словарная работа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: диалог с авто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ть в тексте прямые и скрытые вопросы (выход на подтекстовый смыс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ть ответы на эти вопро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ять свои прогнозы, по ходу ч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с двумя скругленными противолежащими углами 3"/>
          <p:cNvSpPr/>
          <p:nvPr/>
        </p:nvSpPr>
        <p:spPr>
          <a:xfrm>
            <a:off x="714240" y="714240"/>
            <a:ext cx="7500960" cy="714600"/>
          </a:xfrm>
          <a:prstGeom prst="pi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й этап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текстом после чтения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онцептуальная (смысловая) беседа по текст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ое обсуждение прочитанного, дискуссия. Соотнесение читательских интерпретаций (истолкований, оценок) произведения с авторской позици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ание основной идеи текста или совокупности его главных смы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накомство с писате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бота с заглавием; иллюстрац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Творческие зад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Пользователь Windows</cp:lastModifiedBy>
  <dcterms:modified xsi:type="dcterms:W3CDTF">2018-05-20T09:29:24Z</dcterms:modified>
  <cp:revision>437</cp:revision>
  <dc:subject/>
  <dc:title>Diapositiva 1</dc:title>
</cp:coreProperties>
</file>