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DDB-87E1-4AF5-A12A-C62FC54D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DB5-A837-4414-8FB8-FD045801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227-E603-48DE-81B8-913522C0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F46-C256-468E-8D98-A5EFBE12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BE1-0850-4835-9720-ABC713E8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74B-D108-4081-B121-12EDFA41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7E0-6DCF-4227-91FB-C0A12E6A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4EE-B45D-4466-A2BB-35EA82C1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108-FD1D-4009-9544-8BDBEA23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9EC-CDEA-4CF4-9AD3-F6BFB3ED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9A5-6688-4537-B34A-7673DBEF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5CF-060A-4C16-BE7A-C14E494E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0FFE-4E36-4A36-BBC3-BC21B080A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828684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детский сад «Радуга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157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– логопед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вой квалификационной категор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ватик Татьяна Михайловн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16002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</a:rPr>
              <a:t>Сформированность грамматического строя речи: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27280" y="1197000"/>
            <a:ext cx="4025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уметь правильно строить  предложения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видеть связь слов в предложениях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выделять слова в предложении (называть первое, второе и т. д. слово)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составлять предложения по опорным словам и картинкам и т. д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уметь пользоваться различными способами словоизменения и словообразования ( стол – столик, ковер - коврик, варенье из вишни вишневое, сок из ананаса- ананасовый)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уметь образовывать и использовать в речи имена существительные в единственном и множественном числе (ухо - уши, лист - листья много карандашей, пней лис);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согласовывать имена существительные с именами прилагательными (коричневая юбка, коричневое пальто),с числительными, правильно употреблять в речи относительные и притяжательные прилагательные (лисий хвост, медвежье ухо)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употреблять не только простые, но и сложные предлоги и т.д. (из-под стола, из-за дерева)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SAM_2149"/>
          <p:cNvPicPr/>
          <p:nvPr/>
        </p:nvPicPr>
        <p:blipFill>
          <a:blip r:embed="rId1"/>
          <a:stretch/>
        </p:blipFill>
        <p:spPr>
          <a:xfrm>
            <a:off x="1100160" y="134136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SAM_2174"/>
          <p:cNvPicPr/>
          <p:nvPr/>
        </p:nvPicPr>
        <p:blipFill>
          <a:blip r:embed="rId2"/>
          <a:stretch/>
        </p:blipFill>
        <p:spPr>
          <a:xfrm>
            <a:off x="911160" y="3933720"/>
            <a:ext cx="33591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</a:rPr>
              <a:t>Связная речь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1316b"/>
                </a:solidFill>
                <a:latin typeface="Arial"/>
              </a:rPr>
              <a:t>К 7 годам ребёнок должен уметь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пересказывать небольшие по объёму рассказы и сказк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составлять рассказ по картинк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отвечать на вопросы по тексту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составлять рассказ по серии картин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1316b"/>
                </a:solidFill>
                <a:latin typeface="Arial"/>
              </a:rPr>
              <a:t>При пересказе (рассказе) обращается внимание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на понимание ребёнком текста (он должен правильно формулировать основную мысль),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на структуру текста (он должен уметь последовательно и точно строить пересказ),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на лексику (полнота и точность использования слов),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на грамматику (он должен правильно строить предложения, уметь использовать сложные предложения)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SAM_2155"/>
          <p:cNvPicPr/>
          <p:nvPr/>
        </p:nvPicPr>
        <p:blipFill>
          <a:blip r:embed="rId1"/>
          <a:stretch/>
        </p:blipFill>
        <p:spPr>
          <a:xfrm>
            <a:off x="4284720" y="4076640"/>
            <a:ext cx="3743280" cy="266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SAM_2163"/>
          <p:cNvPicPr/>
          <p:nvPr/>
        </p:nvPicPr>
        <p:blipFill>
          <a:blip r:embed="rId2"/>
          <a:stretch/>
        </p:blipFill>
        <p:spPr>
          <a:xfrm>
            <a:off x="5076720" y="1557360"/>
            <a:ext cx="29512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кольку в школе ребенку предстоит овладеть новым, сложным для него видом деятельности – письменной речью, рука должна быть готова. Виртуозное нажимание кнопок на игровых приставках и игрушках в дошкольном детстве не подразумевает должного уровня развития мелких мышц руки , наличия необходимого тонуса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</a:rPr>
              <a:t>Мелкая моторика.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SAM_2218"/>
          <p:cNvPicPr/>
          <p:nvPr/>
        </p:nvPicPr>
        <p:blipFill>
          <a:blip r:embed="rId1"/>
          <a:stretch/>
        </p:blipFill>
        <p:spPr>
          <a:xfrm>
            <a:off x="5003640" y="299736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DSCF1323"/>
          <p:cNvPicPr/>
          <p:nvPr/>
        </p:nvPicPr>
        <p:blipFill>
          <a:blip r:embed="rId2"/>
          <a:stretch/>
        </p:blipFill>
        <p:spPr>
          <a:xfrm>
            <a:off x="611280" y="3041640"/>
            <a:ext cx="35290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09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DSCF1425"/>
          <p:cNvPicPr/>
          <p:nvPr/>
        </p:nvPicPr>
        <p:blipFill>
          <a:blip r:embed="rId1"/>
          <a:stretch/>
        </p:blipFill>
        <p:spPr>
          <a:xfrm>
            <a:off x="5364000" y="260280"/>
            <a:ext cx="3527640" cy="300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DSCF1430"/>
          <p:cNvPicPr/>
          <p:nvPr/>
        </p:nvPicPr>
        <p:blipFill>
          <a:blip r:embed="rId2"/>
          <a:stretch/>
        </p:blipFill>
        <p:spPr>
          <a:xfrm>
            <a:off x="1187280" y="26028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SAM_2216"/>
          <p:cNvPicPr/>
          <p:nvPr/>
        </p:nvPicPr>
        <p:blipFill>
          <a:blip r:embed="rId3"/>
          <a:stretch/>
        </p:blipFill>
        <p:spPr>
          <a:xfrm>
            <a:off x="1908000" y="3213000"/>
            <a:ext cx="6191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5400"/>
            </a:b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305080" y="1386000"/>
            <a:ext cx="45338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 !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спехов!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cc"/>
                </a:solidFill>
                <a:uFillTx/>
                <a:latin typeface="Arial"/>
              </a:rPr>
              <a:t>Речевая готовность ребёнка к школ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DSCF1525"/>
          <p:cNvPicPr/>
          <p:nvPr/>
        </p:nvPicPr>
        <p:blipFill>
          <a:blip r:embed="rId1"/>
          <a:stretch/>
        </p:blipFill>
        <p:spPr>
          <a:xfrm>
            <a:off x="755640" y="299736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-3492360" y="2059560"/>
            <a:ext cx="1613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«Весь умственный процесс совершается в слова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и нельзя представить себе мышления без слов, без речи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Н. Ф. Буна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620280"/>
            <a:ext cx="82756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7 лет дошкольник становится школьником. Это новый социальный статус. Переход от игровой деятельности к учебной очень важен для ребёнка. Готовность к школьному обучению  формируется задолго до поступления в школу и включает не только  хорошее физическое развитие, достаточный запас  знаний и представлений об окружающем, но и уровень развития обобщающей деятельности мышления. Школьное  обучение предъявляет ребёнку новые требования к его речи, вниманию, памяти. Существенную роль играет психологическая готовность к обучению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формированная речь – важный показатель готовности ребёнка к обучению в начальной школе в условиях нового Федерального государственного образовательного стандарта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446520" y="-9028080"/>
            <a:ext cx="26427240" cy="165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437000"/>
            <a:ext cx="820728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собые критерии готовности 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кольному обучению предъявляются к усвоению ребенком родного языка как средства общения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ечислим их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DSCF1447"/>
          <p:cNvPicPr/>
          <p:nvPr/>
        </p:nvPicPr>
        <p:blipFill>
          <a:blip r:embed="rId1"/>
          <a:stretch/>
        </p:blipFill>
        <p:spPr>
          <a:xfrm>
            <a:off x="684360" y="765000"/>
            <a:ext cx="3887640" cy="324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SCF1650"/>
          <p:cNvPicPr/>
          <p:nvPr/>
        </p:nvPicPr>
        <p:blipFill>
          <a:blip r:embed="rId2"/>
          <a:stretch/>
        </p:blipFill>
        <p:spPr>
          <a:xfrm>
            <a:off x="4859280" y="765000"/>
            <a:ext cx="4284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99"/>
                </a:solidFill>
                <a:latin typeface="Arial"/>
              </a:rPr>
              <a:t>Звуковая сторона речи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  ребёнка уже достаточно развит артикуляционный праксис и он  должен владеть правильным четким произношением звуков всех фонетических групп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DSCF1335"/>
          <p:cNvPicPr/>
          <p:nvPr/>
        </p:nvPicPr>
        <p:blipFill>
          <a:blip r:embed="rId1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SAM_2153"/>
          <p:cNvPicPr/>
          <p:nvPr/>
        </p:nvPicPr>
        <p:blipFill>
          <a:blip r:embed="rId2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-73080" y="436464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4352760" y="452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Сформированность фонематических процессов:</a:t>
            </a: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пособность слышать, различать и  дифференцировать фонемы (звуки) родного язык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AM_2142"/>
          <p:cNvPicPr/>
          <p:nvPr/>
        </p:nvPicPr>
        <p:blipFill>
          <a:blip r:embed="rId1"/>
          <a:stretch/>
        </p:blipFill>
        <p:spPr>
          <a:xfrm>
            <a:off x="611280" y="3213000"/>
            <a:ext cx="360036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SAM_2194"/>
          <p:cNvPicPr/>
          <p:nvPr/>
        </p:nvPicPr>
        <p:blipFill>
          <a:blip r:embed="rId2"/>
          <a:stretch/>
        </p:blipFill>
        <p:spPr>
          <a:xfrm>
            <a:off x="4284720" y="3213000"/>
            <a:ext cx="38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Готовность к звукобуквенному  анализу и синтезу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делять гласный начальный звук из слова, слышать и выделять первый и последний согласный звук в слове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ти должны знать и правильно употреблять термины “звук”, “слог”, “слово”, “предложение”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вать характеристику звука (гласный, согласный, звонкий, глухой, твердый, мягкий )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меть работать со схемой слова, разрезной азбукой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меть делить слова на слог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еть навыки слияния звуков в слог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SAM_2190"/>
          <p:cNvPicPr/>
          <p:nvPr/>
        </p:nvPicPr>
        <p:blipFill>
          <a:blip r:embed="rId1"/>
          <a:stretch/>
        </p:blipFill>
        <p:spPr>
          <a:xfrm>
            <a:off x="4572000" y="571680"/>
            <a:ext cx="3384720" cy="244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857160" y="50004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DSCF1511"/>
          <p:cNvPicPr/>
          <p:nvPr/>
        </p:nvPicPr>
        <p:blipFill>
          <a:blip r:embed="rId3"/>
          <a:stretch/>
        </p:blipFill>
        <p:spPr>
          <a:xfrm>
            <a:off x="755640" y="3860640"/>
            <a:ext cx="3456000" cy="2521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SAM_2169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Словарный запас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280" y="-4780080"/>
            <a:ext cx="7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859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7 годам словарь нормально развивающегося ребенка составляет от 5000 до 7000 слов. Дошкольник может: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спользовать  в речи  обобщающие  понятия: цветы, посуда, звери, птицы  и т.д.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зными способами образовывать новые слова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вильно употреблять слова уменьшительно-ласкательного значения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разовывать слова в нужной форме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ыделять звуковые и смысловые различия между словами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разовывать прилагательные от существительных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яснять  значение  слова: например, сахарница — это посуда, в которой находится сахар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нимать и использовать в речи пары слов с противоположным значением: высокий — низкий, горячий —холодный…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SAM_2149"/>
          <p:cNvPicPr/>
          <p:nvPr/>
        </p:nvPicPr>
        <p:blipFill>
          <a:blip r:embed="rId1"/>
          <a:stretch/>
        </p:blipFill>
        <p:spPr>
          <a:xfrm>
            <a:off x="10764720" y="4653000"/>
            <a:ext cx="15620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SAM_2181"/>
          <p:cNvPicPr/>
          <p:nvPr/>
        </p:nvPicPr>
        <p:blipFill>
          <a:blip r:embed="rId2"/>
          <a:stretch/>
        </p:blipFill>
        <p:spPr>
          <a:xfrm>
            <a:off x="5219640" y="198900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SAM_2212"/>
          <p:cNvPicPr/>
          <p:nvPr/>
        </p:nvPicPr>
        <p:blipFill>
          <a:blip r:embed="rId3"/>
          <a:stretch/>
        </p:blipFill>
        <p:spPr>
          <a:xfrm>
            <a:off x="5292720" y="4365720"/>
            <a:ext cx="295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13:12:11Z</dcterms:created>
  <dc:creator>User</dc:creator>
  <dc:description/>
  <dc:language>en-US</dc:language>
  <cp:lastModifiedBy>Радуга</cp:lastModifiedBy>
  <dcterms:modified xsi:type="dcterms:W3CDTF">2019-05-17T04:15:15Z</dcterms:modified>
  <cp:revision>6</cp:revision>
  <dc:subject/>
  <dc:title>Your Title Here…</dc:title>
</cp:coreProperties>
</file>