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3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media/image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C60-6E59-453D-94B0-7E274589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F30-B2E4-4AB3-8231-FE370100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49B-D636-45BE-A281-A703BDF5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640-5A23-4BBD-AFDA-09C9DD92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9B0-8B0F-4D46-A4AF-54CA1DD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8C3-66FB-4039-9B07-566F281C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FE4-137E-46FC-AEB4-66ECEF29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1A9-0F6B-44F3-9BEE-EEA69EB0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E7F-9E55-4CAF-8E18-4DF06F8A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FB4-5409-41D1-BA60-C2E5D31A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288-AE31-4DD9-A6C2-F6CD28AF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BF4-9EF3-4FBD-8D9C-7C1BD511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1EBB-A3AF-4C1B-9C9A-0ADBB3C6C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grass1.jpg"/>
          <p:cNvPicPr/>
          <p:nvPr/>
        </p:nvPicPr>
        <p:blipFill>
          <a:blip r:embed="rId1"/>
          <a:stretch/>
        </p:blipFill>
        <p:spPr>
          <a:xfrm>
            <a:off x="179280" y="260280"/>
            <a:ext cx="8998200" cy="659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http://content.foto.mail.ru/mail/natalisladkova/_animated/i-478.gif"/>
          <p:cNvPicPr/>
          <p:nvPr/>
        </p:nvPicPr>
        <p:blipFill>
          <a:blip r:embed="rId2"/>
          <a:stretch/>
        </p:blipFill>
        <p:spPr>
          <a:xfrm>
            <a:off x="971640" y="333360"/>
            <a:ext cx="2741400" cy="2747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Женя\Шаблоны для презентаций\125_nabor_fonov_12\nabor_fonov_12\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Похожее изображение"/>
          <p:cNvPicPr/>
          <p:nvPr/>
        </p:nvPicPr>
        <p:blipFill>
          <a:blip r:embed="rId1"/>
          <a:srcRect l="12499" t="0" r="0" b="0"/>
          <a:stretch/>
        </p:blipFill>
        <p:spPr>
          <a:xfrm>
            <a:off x="285840" y="285840"/>
            <a:ext cx="8858160" cy="657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Женя\Шаблоны для презентаций\125_nabor_fonov_12\nabor_fonov_12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3238560" y="69912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– </a:t>
            </a: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разговор был интересен и полез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3022560" y="2574000"/>
            <a:ext cx="60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– </a:t>
            </a: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обязательно следует продолжить разговор на эту тем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2590920" y="473472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–  </a:t>
            </a: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разговор был непродуктивным и неинтерес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Овал 8"/>
          <p:cNvGrpSpPr/>
          <p:nvPr/>
        </p:nvGrpSpPr>
        <p:grpSpPr>
          <a:xfrm>
            <a:off x="768240" y="512640"/>
            <a:ext cx="1914480" cy="1906560"/>
            <a:chOff x="768240" y="512640"/>
            <a:chExt cx="1914480" cy="1906560"/>
          </a:xfrm>
        </p:grpSpPr>
        <p:pic>
          <p:nvPicPr>
            <p:cNvPr id="84" name="Овал 8" descr=""/>
            <p:cNvPicPr/>
            <p:nvPr/>
          </p:nvPicPr>
          <p:blipFill>
            <a:blip r:embed="rId2"/>
            <a:stretch/>
          </p:blipFill>
          <p:spPr>
            <a:xfrm>
              <a:off x="768240" y="512640"/>
              <a:ext cx="191448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90440" y="812880"/>
              <a:ext cx="1273320" cy="12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Овал 9"/>
          <p:cNvGrpSpPr/>
          <p:nvPr/>
        </p:nvGrpSpPr>
        <p:grpSpPr>
          <a:xfrm>
            <a:off x="695160" y="2603520"/>
            <a:ext cx="1914840" cy="1908000"/>
            <a:chOff x="695160" y="2603520"/>
            <a:chExt cx="1914840" cy="1908000"/>
          </a:xfrm>
        </p:grpSpPr>
        <p:pic>
          <p:nvPicPr>
            <p:cNvPr id="87" name="Овал 9" descr=""/>
            <p:cNvPicPr/>
            <p:nvPr/>
          </p:nvPicPr>
          <p:blipFill>
            <a:blip r:embed="rId3"/>
            <a:stretch/>
          </p:blipFill>
          <p:spPr>
            <a:xfrm>
              <a:off x="695160" y="2603520"/>
              <a:ext cx="19148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019160" y="2900520"/>
              <a:ext cx="1273320" cy="12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Овал 10"/>
          <p:cNvGrpSpPr/>
          <p:nvPr/>
        </p:nvGrpSpPr>
        <p:grpSpPr>
          <a:xfrm>
            <a:off x="695160" y="4687920"/>
            <a:ext cx="1914840" cy="1908000"/>
            <a:chOff x="695160" y="4687920"/>
            <a:chExt cx="1914840" cy="1908000"/>
          </a:xfrm>
        </p:grpSpPr>
        <p:pic>
          <p:nvPicPr>
            <p:cNvPr id="90" name="Овал 10" descr=""/>
            <p:cNvPicPr/>
            <p:nvPr/>
          </p:nvPicPr>
          <p:blipFill>
            <a:blip r:embed="rId4"/>
            <a:stretch/>
          </p:blipFill>
          <p:spPr>
            <a:xfrm>
              <a:off x="695160" y="4687920"/>
              <a:ext cx="19148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19160" y="4989600"/>
              <a:ext cx="1273320" cy="12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gras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http://content.foto.mail.ru/mail/natalisladkova/_animated/i-478.gif"/>
          <p:cNvPicPr/>
          <p:nvPr/>
        </p:nvPicPr>
        <p:blipFill>
          <a:blip r:embed="rId2"/>
          <a:stretch/>
        </p:blipFill>
        <p:spPr>
          <a:xfrm>
            <a:off x="2786040" y="1071720"/>
            <a:ext cx="4343400" cy="4143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 rot="20418000">
            <a:off x="423720" y="542520"/>
            <a:ext cx="400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Monotype Corsiva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Monotype Corsiva"/>
              </a:rPr>
              <a:t>за работу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D:\Женя\Шаблоны для презентаций\125_nabor_fonov_12\nabor_fonov_12\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Похожее изображение"/>
          <p:cNvPicPr/>
          <p:nvPr/>
        </p:nvPicPr>
        <p:blipFill>
          <a:blip r:embed="rId2"/>
          <a:stretch/>
        </p:blipFill>
        <p:spPr>
          <a:xfrm rot="21354600">
            <a:off x="652320" y="712800"/>
            <a:ext cx="813276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D:\Женя\Учитель года 2014\Новая папка\С‡РµР»РѕРІРµС‡РµРє 3.jpg"/>
          <p:cNvPicPr/>
          <p:nvPr/>
        </p:nvPicPr>
        <p:blipFill>
          <a:blip r:embed="rId3"/>
          <a:stretch/>
        </p:blipFill>
        <p:spPr>
          <a:xfrm>
            <a:off x="6858000" y="4700520"/>
            <a:ext cx="2292480" cy="2163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 rot="21342000">
            <a:off x="968400" y="5524920"/>
            <a:ext cx="64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Детство  -  беззаботная п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493560" y="1639800"/>
            <a:ext cx="8656920" cy="52246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790560" y="28584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Monotype Corsiva"/>
              </a:rPr>
              <a:t>Эксперимен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539640" y="126828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Monotype Corsiva"/>
              </a:rPr>
              <a:t>Простой другой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Monotype Corsiva"/>
              </a:rPr>
              <a:t>Легко ли быт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Monotype Corsiva"/>
              </a:rPr>
              <a:t>«белой вороной»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D:\Женя\Учитель года 2014\Новая папка\С‡РµР»РѕРІРµС‡РµРє 3.jpg"/>
          <p:cNvPicPr/>
          <p:nvPr/>
        </p:nvPicPr>
        <p:blipFill>
          <a:blip r:embed="rId2"/>
          <a:stretch/>
        </p:blipFill>
        <p:spPr>
          <a:xfrm>
            <a:off x="3340080" y="4370400"/>
            <a:ext cx="27259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790560" y="28584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Monotype Corsiva"/>
              </a:rPr>
              <a:t>Стереотип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1571760" y="1785960"/>
            <a:ext cx="63086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ÐÐ°ÑÑÐ¸Ð½ÐºÐ¸ Ð¿Ð¾ Ð·Ð°Ð¿ÑÐ¾ÑÑ ÐÐµÐ´Ð¸ ÐÐ°Ð³Ð°"/>
          <p:cNvPicPr/>
          <p:nvPr/>
        </p:nvPicPr>
        <p:blipFill>
          <a:blip r:embed="rId2"/>
          <a:stretch/>
        </p:blipFill>
        <p:spPr>
          <a:xfrm rot="21343800">
            <a:off x="836640" y="1114200"/>
            <a:ext cx="1727280" cy="2220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 rot="21342600">
            <a:off x="676800" y="328464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</a:rPr>
              <a:t>Леди Г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2520720" y="3284640"/>
            <a:ext cx="45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</a:rPr>
              <a:t>Анджелина Дж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ÐÐ°ÑÑÐ¸Ð½ÐºÐ¸ Ð¿Ð¾ Ð·Ð°Ð¿ÑÐ¾ÑÑ ÐÐ½Ð´Ð¶ÐµÐ»Ð¸Ð½Ð° ÐÐ¶Ð¾Ð»Ð¸"/>
          <p:cNvPicPr/>
          <p:nvPr/>
        </p:nvPicPr>
        <p:blipFill>
          <a:blip r:embed="rId3"/>
          <a:stretch/>
        </p:blipFill>
        <p:spPr>
          <a:xfrm>
            <a:off x="3132000" y="1052640"/>
            <a:ext cx="3111480" cy="22604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3554640" y="6211800"/>
            <a:ext cx="48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</a:rPr>
              <a:t>Леонардо Ди Капри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ÐÐ¾ÑÐ¾Ð¶ÐµÐµ Ð¸Ð·Ð¾Ð±ÑÐ°Ð¶ÐµÐ½Ð¸Ðµ"/>
          <p:cNvPicPr/>
          <p:nvPr/>
        </p:nvPicPr>
        <p:blipFill>
          <a:blip r:embed="rId4"/>
          <a:stretch/>
        </p:blipFill>
        <p:spPr>
          <a:xfrm>
            <a:off x="4140360" y="4149720"/>
            <a:ext cx="3585960" cy="2016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9"/>
          <p:cNvSpPr/>
          <p:nvPr/>
        </p:nvSpPr>
        <p:spPr>
          <a:xfrm>
            <a:off x="-334440" y="189000"/>
            <a:ext cx="1056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Monotype Corsiva"/>
              </a:rPr>
              <a:t>Знаменитые белые воро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ÐÐ°ÑÑÐ¸Ð½ÐºÐ¸ Ð¿Ð¾ Ð·Ð°Ð¿ÑÐ¾ÑÑ ÐÐ°ÑÑÑ ÐÐ°Ð´Ð¾ÑÐ¾Ð¶Ð½Ð°Ñ"/>
          <p:cNvPicPr/>
          <p:nvPr/>
        </p:nvPicPr>
        <p:blipFill>
          <a:blip r:embed="rId5"/>
          <a:stretch/>
        </p:blipFill>
        <p:spPr>
          <a:xfrm rot="333600">
            <a:off x="6834240" y="1131840"/>
            <a:ext cx="1728720" cy="21938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 rot="21342000">
            <a:off x="378360" y="610056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</a:rPr>
              <a:t>Джордж Клу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ÐÐ¾ÑÐ¾Ð¶ÐµÐµ Ð¸Ð·Ð¾Ð±ÑÐ°Ð¶ÐµÐ½Ð¸Ðµ"/>
          <p:cNvPicPr/>
          <p:nvPr/>
        </p:nvPicPr>
        <p:blipFill>
          <a:blip r:embed="rId6"/>
          <a:stretch/>
        </p:blipFill>
        <p:spPr>
          <a:xfrm rot="21378600">
            <a:off x="673200" y="4029120"/>
            <a:ext cx="3043080" cy="2016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3"/>
          <p:cNvSpPr/>
          <p:nvPr/>
        </p:nvSpPr>
        <p:spPr>
          <a:xfrm rot="289200">
            <a:off x="6250680" y="3235320"/>
            <a:ext cx="30672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</a:rPr>
              <a:t>Наст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</a:rPr>
              <a:t>Задорож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uchportal.ru/_pu/19/84817921.jpg"/>
          <p:cNvPicPr/>
          <p:nvPr/>
        </p:nvPicPr>
        <p:blipFill>
          <a:blip r:embed="rId2"/>
          <a:stretch/>
        </p:blipFill>
        <p:spPr>
          <a:xfrm>
            <a:off x="2286000" y="3144960"/>
            <a:ext cx="4556160" cy="37130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357120" y="40464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17375e"/>
                </a:solidFill>
                <a:latin typeface="Monotype Corsiva"/>
              </a:rPr>
              <a:t>«Белой вороной» быть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Monotype Corsiva"/>
              </a:rPr>
              <a:t>легко?</a:t>
            </a:r>
            <a:r>
              <a:rPr b="0" lang="ru-RU" sz="9600" spc="-1" strike="noStrike">
                <a:solidFill>
                  <a:srgbClr val="17375e"/>
                </a:solidFill>
                <a:latin typeface="Monotype Corsiva"/>
              </a:rPr>
              <a:t>       </a:t>
            </a:r>
            <a:r>
              <a:rPr b="0" lang="ru-RU" sz="9600" spc="-1" strike="noStrike">
                <a:solidFill>
                  <a:srgbClr val="953735"/>
                </a:solidFill>
                <a:latin typeface="Monotype Corsiva"/>
              </a:rPr>
              <a:t>трудно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help-hr.ru/catalog/likbez/st13/image008.jpg"/>
          <p:cNvPicPr/>
          <p:nvPr/>
        </p:nvPicPr>
        <p:blipFill>
          <a:blip r:embed="rId2"/>
          <a:stretch/>
        </p:blipFill>
        <p:spPr>
          <a:xfrm>
            <a:off x="1279440" y="1279440"/>
            <a:ext cx="6999480" cy="53769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684360" y="260280"/>
            <a:ext cx="81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Monotype Corsiva"/>
              </a:rPr>
              <a:t>Совет 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5" descr="Безымянный.jpg"/>
          <p:cNvPicPr/>
          <p:nvPr/>
        </p:nvPicPr>
        <p:blipFill>
          <a:blip r:embed="rId1"/>
          <a:stretch/>
        </p:blipFill>
        <p:spPr>
          <a:xfrm>
            <a:off x="357120" y="428760"/>
            <a:ext cx="8786880" cy="6429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Женя\Шаблоны для презентаций\125_nabor_fonov_12\nabor_fonov_12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8:27:11Z</dcterms:created>
  <dc:creator>Win 7</dc:creator>
  <dc:description/>
  <dc:language>en-US</dc:language>
  <cp:lastModifiedBy>Wln7</cp:lastModifiedBy>
  <dcterms:modified xsi:type="dcterms:W3CDTF">2019-05-17T12:12:21Z</dcterms:modified>
  <cp:revision>62</cp:revision>
  <dc:subject/>
  <dc:title>Слайд 1</dc:title>
</cp:coreProperties>
</file>