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E2D-9AEB-4200-B195-846D05F3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004-4EA2-4B69-A0B2-0C271CE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EC2-4875-4884-989D-4826BD12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4A4-D855-40E2-84EA-BDC7294C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011-6615-4807-BA01-10937F8F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18A-77D3-4744-B01C-0EABBEE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09B-6677-4B9F-B012-727420DA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0EB-7C3D-46AC-AA39-8919FD9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63B-D88C-4121-8F8D-9ED441C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C8F-3B32-4F5C-BC97-7EF9AA3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B32-A5E3-4698-8224-A223BCB3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AF4-4C81-45C6-9A63-9306441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45F0-903E-4E4A-9D28-2994F6C2E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3"/>
          <p:cNvSpPr/>
          <p:nvPr/>
        </p:nvSpPr>
        <p:spPr>
          <a:xfrm>
            <a:off x="1857240" y="1857240"/>
            <a:ext cx="542952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с двумя скругленными противолежащими углами 4"/>
          <p:cNvSpPr/>
          <p:nvPr/>
        </p:nvSpPr>
        <p:spPr>
          <a:xfrm>
            <a:off x="3000240" y="2571840"/>
            <a:ext cx="3214800" cy="714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с двумя скругленными противолежащими углами 5"/>
          <p:cNvSpPr/>
          <p:nvPr/>
        </p:nvSpPr>
        <p:spPr>
          <a:xfrm>
            <a:off x="2571840" y="500040"/>
            <a:ext cx="40003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с двумя скругленными противолежащими углами 6"/>
          <p:cNvSpPr/>
          <p:nvPr/>
        </p:nvSpPr>
        <p:spPr>
          <a:xfrm>
            <a:off x="928800" y="1643040"/>
            <a:ext cx="642924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с двумя скругленными противолежащими углами 7"/>
          <p:cNvSpPr/>
          <p:nvPr/>
        </p:nvSpPr>
        <p:spPr>
          <a:xfrm>
            <a:off x="857160" y="2786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хательная гимнасти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с двумя скругленными противолежащими углами 8"/>
          <p:cNvSpPr/>
          <p:nvPr/>
        </p:nvSpPr>
        <p:spPr>
          <a:xfrm>
            <a:off x="857160" y="3929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с двумя скругленными противолежащими углами 9"/>
          <p:cNvSpPr/>
          <p:nvPr/>
        </p:nvSpPr>
        <p:spPr>
          <a:xfrm>
            <a:off x="857160" y="5072040"/>
            <a:ext cx="642960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ртикуляционная разми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с двумя скругленными противолежащими углами 3"/>
          <p:cNvSpPr/>
          <p:nvPr/>
        </p:nvSpPr>
        <p:spPr>
          <a:xfrm>
            <a:off x="857160" y="214200"/>
            <a:ext cx="75009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с двумя скругленными противолежащими углами 4"/>
          <p:cNvSpPr/>
          <p:nvPr/>
        </p:nvSpPr>
        <p:spPr>
          <a:xfrm>
            <a:off x="2357280" y="1000080"/>
            <a:ext cx="44294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428760" y="33480"/>
            <a:ext cx="82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0. Санитарно - гигиеническое состояние кла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1320" y="2071800"/>
            <a:ext cx="8001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и свежесть воздуха (чистота воздуха – фактор работоспособности и успешности учащих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свещения класса и доски (помните естественно освещение благоприятнее, чем искусственн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помещения, аккура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классной д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с двумя скругленными противолежащими углами 3"/>
          <p:cNvSpPr/>
          <p:nvPr/>
        </p:nvSpPr>
        <p:spPr>
          <a:xfrm>
            <a:off x="357120" y="1143000"/>
            <a:ext cx="742968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ая технолог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это 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с двумя скругленными противолежащими углами 4"/>
          <p:cNvSpPr/>
          <p:nvPr/>
        </p:nvSpPr>
        <p:spPr>
          <a:xfrm>
            <a:off x="2428920" y="1000080"/>
            <a:ext cx="38577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с двумя скругленными противолежащими углами 3"/>
          <p:cNvSpPr/>
          <p:nvPr/>
        </p:nvSpPr>
        <p:spPr>
          <a:xfrm>
            <a:off x="2000160" y="285840"/>
            <a:ext cx="48578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1262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ученик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рме, е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71680" y="2000160"/>
            <a:ext cx="814356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физическ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доровье позволяет ему справляться с учебной нагрузкой, ребенок умеет преодолевать устал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оци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н коммуникабелен, общителе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эмоцион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ебенок уравновешен, способен удивляться и восхищать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интеллектуаль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учащийся проявляет хорошие умственные способности, наблюдательность, воображение, самообучае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равственном пл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н признает основные общечеловеческие ц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двумя скругленными противолежащими углами 7"/>
          <p:cNvSpPr/>
          <p:nvPr/>
        </p:nvSpPr>
        <p:spPr>
          <a:xfrm>
            <a:off x="1285920" y="285840"/>
            <a:ext cx="67863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642960" y="28584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Эмоциональный наст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Загнутый угол 8"/>
          <p:cNvSpPr/>
          <p:nvPr/>
        </p:nvSpPr>
        <p:spPr>
          <a:xfrm>
            <a:off x="642960" y="1571760"/>
            <a:ext cx="3714840" cy="2214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гожданный дан звонок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т затеи и задач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ы, шутки – всё для в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желаем вам удачи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 работу, в добрый ч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Загнутый угол 9"/>
          <p:cNvSpPr/>
          <p:nvPr/>
        </p:nvSpPr>
        <p:spPr>
          <a:xfrm>
            <a:off x="4500720" y="1571760"/>
            <a:ext cx="3714480" cy="221436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вас надеюсь я, друзь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 хороший дружный кла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ё получится у нас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Загнутый угол 11"/>
          <p:cNvSpPr/>
          <p:nvPr/>
        </p:nvSpPr>
        <p:spPr>
          <a:xfrm>
            <a:off x="2286000" y="4071960"/>
            <a:ext cx="3714840" cy="221472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и прозвенел зво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инается ур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чень тихо вы садите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работать не лените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с двумя скругленными противолежащими углами 7"/>
          <p:cNvSpPr/>
          <p:nvPr/>
        </p:nvSpPr>
        <p:spPr>
          <a:xfrm>
            <a:off x="1928880" y="3571920"/>
            <a:ext cx="507204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й темп проведения урока, демократичный стиль общения позволяют учащимся сосредоточиться на работе, лучше усвоить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материала должна быть в доступной форме, понятной младшему школьнику, с учётом его возраст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57120" y="342900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Подача материа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с двумя скругленными противолежащими углами 6"/>
          <p:cNvSpPr/>
          <p:nvPr/>
        </p:nvSpPr>
        <p:spPr>
          <a:xfrm>
            <a:off x="2571840" y="357120"/>
            <a:ext cx="40003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мп и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с двумя скругленными противолежащими углами 7"/>
          <p:cNvSpPr/>
          <p:nvPr/>
        </p:nvSpPr>
        <p:spPr>
          <a:xfrm>
            <a:off x="928800" y="3214800"/>
            <a:ext cx="728640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с двумя скругленными противолежащими углами 6"/>
          <p:cNvSpPr/>
          <p:nvPr/>
        </p:nvSpPr>
        <p:spPr>
          <a:xfrm>
            <a:off x="2643120" y="357120"/>
            <a:ext cx="385776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, используемая на уроке, способствует конкретизации изучаемого материала, повышает интерес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 доски, с учебником, устно, в тетрадях и т. д., разнообразие заданий, направлены на поддержание интереса и снятие повышенной утомляе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DC13230"/>
          <p:cNvPicPr/>
          <p:nvPr/>
        </p:nvPicPr>
        <p:blipFill>
          <a:blip r:embed="rId1"/>
          <a:stretch/>
        </p:blipFill>
        <p:spPr>
          <a:xfrm>
            <a:off x="25885800" y="14085720"/>
            <a:ext cx="6265800" cy="12182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гляд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3"/>
          <p:cNvSpPr/>
          <p:nvPr/>
        </p:nvSpPr>
        <p:spPr>
          <a:xfrm>
            <a:off x="500040" y="31431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Смена видов деятель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с двумя скругленными противолежащими углами 4"/>
          <p:cNvSpPr/>
          <p:nvPr/>
        </p:nvSpPr>
        <p:spPr>
          <a:xfrm>
            <a:off x="2000160" y="214200"/>
            <a:ext cx="514368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изкультмин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нутый угол 5"/>
          <p:cNvSpPr/>
          <p:nvPr/>
        </p:nvSpPr>
        <p:spPr>
          <a:xfrm>
            <a:off x="642960" y="1357200"/>
            <a:ext cx="3071880" cy="471492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веет над полям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качается трава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Дети плавно качают руками над головой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ко плывет над нам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но белая гора.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отягивания — руки вверх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пыль над полем нос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клоняются колосья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раво-влево, взад-вперё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отом наоборот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аклоны вправо-влево, вперёд-наза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взбираемся на холм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м немного отдохнём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Дети садятся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Загнутый угол 6"/>
          <p:cNvSpPr/>
          <p:nvPr/>
        </p:nvSpPr>
        <p:spPr>
          <a:xfrm>
            <a:off x="4214880" y="1357200"/>
            <a:ext cx="3143160" cy="142884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дует нам в лиц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ачалось деревц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ер тише, тише, ти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ревцо всё выше,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Загнутый угол 7"/>
          <p:cNvSpPr/>
          <p:nvPr/>
        </p:nvSpPr>
        <p:spPr>
          <a:xfrm>
            <a:off x="4214880" y="3000240"/>
            <a:ext cx="3143160" cy="307188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2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 — стоит раке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и, четыре — самолё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 — хлопок в ладоши,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Прыжки на одной и двух ногах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отом на каждый счё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, три, четыре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и выше, плечи ши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, два, три, четыре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месте походили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с двумя скругленными противолежащими углами 3"/>
          <p:cNvSpPr/>
          <p:nvPr/>
        </p:nvSpPr>
        <p:spPr>
          <a:xfrm>
            <a:off x="428760" y="500040"/>
            <a:ext cx="835812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ифференцирова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04384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дифференцированном обуч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ебёнок получает от урока только  положительные эмоции, ощущает защищённость и испытывает интерес к учё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с двумя скругленными противолежащими углами 5"/>
          <p:cNvSpPr/>
          <p:nvPr/>
        </p:nvSpPr>
        <p:spPr>
          <a:xfrm>
            <a:off x="1143000" y="500040"/>
            <a:ext cx="6858000" cy="78588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гра и 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гровых технологий на уроке в комплексе с другими приёмами и методами организации учебных занятий укрепляет мотивацию на изучение предмета, помогает вызвать положительные эмоции, увидеть индивидуальность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 Windows</cp:lastModifiedBy>
  <dcterms:modified xsi:type="dcterms:W3CDTF">2018-05-20T10:38:02Z</dcterms:modified>
  <cp:revision>60</cp:revision>
  <dc:subject/>
  <dc:title>Слайд 1</dc:title>
</cp:coreProperties>
</file>