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F61-2D4D-4C36-A4BF-D3199390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E8A-2DF1-46D5-B31C-6E0F9EB1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695-AB41-4BD1-9670-46B71917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987-197B-4C17-A063-4D5098B3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141-2A2A-45D8-9A03-DEDAB5F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A7B-E0DA-436D-8415-26A04309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FB23-25D8-4762-9717-7C7613D3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E4B-6CCE-4228-A8B1-3AF34C3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374-E93F-4D6A-AB6C-DF7B6743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9F6-632F-40A9-9BE9-F15864B2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311-641D-43A1-A513-92D04EE1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CB1-D01E-43C5-A0E9-DC8C1A7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DFA-3086-4AEC-B0BA-B5B4351016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1763640" y="2997360"/>
            <a:ext cx="60404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5" descr=""/>
          <p:cNvPicPr/>
          <p:nvPr/>
        </p:nvPicPr>
        <p:blipFill>
          <a:blip r:embed="rId1"/>
          <a:stretch/>
        </p:blipFill>
        <p:spPr>
          <a:xfrm>
            <a:off x="1865160" y="652320"/>
            <a:ext cx="5694480" cy="2810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33577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редняя 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изкультуру очень любим.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Бегать, прыгать и играть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Если очень будет нужно 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ожем все рекорды вз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22-dTz3h4ZjDFk.jpg"/>
          <p:cNvPicPr/>
          <p:nvPr/>
        </p:nvPicPr>
        <p:blipFill>
          <a:blip r:embed="rId1"/>
          <a:stretch/>
        </p:blipFill>
        <p:spPr>
          <a:xfrm>
            <a:off x="539640" y="1989000"/>
            <a:ext cx="3635640" cy="431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Светлана\Pictures\спотр развлечение\SAM_1833.JPG"/>
          <p:cNvPicPr/>
          <p:nvPr/>
        </p:nvPicPr>
        <p:blipFill>
          <a:blip r:embed="rId2"/>
          <a:stretch/>
        </p:blipFill>
        <p:spPr>
          <a:xfrm>
            <a:off x="4716360" y="1916280"/>
            <a:ext cx="39592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Уголок природы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У природы нет плохой погоды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Это знают все давн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обывали мы в походах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усть пока не далек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тичек мы не обижали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 цветочки зря не рвали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Лишь природный материа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аждый  понемногу взял: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зо мха и веток сделали букеты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Ежика – из шишек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з картошки – мишк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_pNuxyWO1iM.jpg"/>
          <p:cNvPicPr/>
          <p:nvPr/>
        </p:nvPicPr>
        <p:blipFill>
          <a:blip r:embed="rId1"/>
          <a:stretch/>
        </p:blipFill>
        <p:spPr>
          <a:xfrm>
            <a:off x="539640" y="3284640"/>
            <a:ext cx="4824360" cy="29797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wUcswvrzPBg.jpg"/>
          <p:cNvPicPr/>
          <p:nvPr/>
        </p:nvPicPr>
        <p:blipFill>
          <a:blip r:embed="rId2"/>
          <a:stretch/>
        </p:blipFill>
        <p:spPr>
          <a:xfrm>
            <a:off x="5580000" y="260280"/>
            <a:ext cx="330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нижки нам пока читают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Воспитатели для нас.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Ежедневно наступает</a:t>
            </a:r>
            <a:br>
              <a:rPr sz="2000"/>
            </a:b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Чтенья книг желанный час!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y9nwOkAq96k.jpg"/>
          <p:cNvPicPr/>
          <p:nvPr/>
        </p:nvPicPr>
        <p:blipFill>
          <a:blip r:embed="rId1"/>
          <a:stretch/>
        </p:blipFill>
        <p:spPr>
          <a:xfrm>
            <a:off x="395280" y="1484280"/>
            <a:ext cx="4176720" cy="3889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2000" y="404280"/>
            <a:ext cx="3754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«Музыкально –                         театральный»       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Артистов нам не заним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Умеем петь и танце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Роли разные игр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  <a:ea typeface="Times New Roman"/>
              </a:rPr>
              <a:t>В тексте слов не забыва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5" descr="h58LTdQrv2o.jpg"/>
          <p:cNvPicPr/>
          <p:nvPr/>
        </p:nvPicPr>
        <p:blipFill>
          <a:blip r:embed="rId2"/>
          <a:stretch/>
        </p:blipFill>
        <p:spPr>
          <a:xfrm>
            <a:off x="4788000" y="2257560"/>
            <a:ext cx="388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360" y="274320"/>
            <a:ext cx="48960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Мы играем»!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Играя, мы учимся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Играя, живем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С игрой интересной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     Мы мир познаем!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Кто серьезно заболел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 Есть у нас больниц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А постричься не успел-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Не надобно сердиться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Есть у нас и доктора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   Есть причесок масте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5" descr="NXMhsXwpgHg.jpg"/>
          <p:cNvPicPr/>
          <p:nvPr/>
        </p:nvPicPr>
        <p:blipFill>
          <a:blip r:embed="rId1"/>
          <a:stretch/>
        </p:blipFill>
        <p:spPr>
          <a:xfrm>
            <a:off x="539640" y="404640"/>
            <a:ext cx="3819600" cy="389448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7" descr="35-jN8Bxn2aIwY.jpg"/>
          <p:cNvPicPr/>
          <p:nvPr/>
        </p:nvPicPr>
        <p:blipFill>
          <a:blip r:embed="rId2"/>
          <a:stretch/>
        </p:blipFill>
        <p:spPr>
          <a:xfrm>
            <a:off x="4932360" y="3068640"/>
            <a:ext cx="3095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8876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«Уголок для девочек»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Куклы, бантики, коляски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Сумочки, посуда…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Тут девчонок государство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И порядок всюду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Будущей хозяйке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Много надо знать -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ироги постряпать,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Платье постират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:\40-a2EiBj6Oj9M.jpg"/>
          <p:cNvPicPr/>
          <p:nvPr/>
        </p:nvPicPr>
        <p:blipFill>
          <a:blip r:embed="rId1"/>
          <a:stretch/>
        </p:blipFill>
        <p:spPr>
          <a:xfrm>
            <a:off x="395280" y="2349360"/>
            <a:ext cx="3024360" cy="40370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7" descr="34-FPxM9rtmCxQ.jpg"/>
          <p:cNvPicPr/>
          <p:nvPr/>
        </p:nvPicPr>
        <p:blipFill>
          <a:blip r:embed="rId2"/>
          <a:stretch/>
        </p:blipFill>
        <p:spPr>
          <a:xfrm>
            <a:off x="6156360" y="189000"/>
            <a:ext cx="2712960" cy="361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:\BwaHHn0qfj4.jpg"/>
          <p:cNvPicPr/>
          <p:nvPr/>
        </p:nvPicPr>
        <p:blipFill>
          <a:blip r:embed="rId3"/>
          <a:stretch/>
        </p:blipFill>
        <p:spPr>
          <a:xfrm>
            <a:off x="3348000" y="1268280"/>
            <a:ext cx="3311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4248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Есть в группе тихий уголок. 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Там тишина. Слышно сопенье…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В нем совершенствует уменье 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В настольную игру игрок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4" descr="38-yIqukgXEGHc.jpg"/>
          <p:cNvPicPr/>
          <p:nvPr/>
        </p:nvPicPr>
        <p:blipFill>
          <a:blip r:embed="rId1"/>
          <a:stretch/>
        </p:blipFill>
        <p:spPr>
          <a:xfrm>
            <a:off x="395280" y="26370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G:\w3oQ78KkXDk.jpg"/>
          <p:cNvPicPr/>
          <p:nvPr/>
        </p:nvPicPr>
        <p:blipFill>
          <a:blip r:embed="rId2"/>
          <a:stretch/>
        </p:blipFill>
        <p:spPr>
          <a:xfrm>
            <a:off x="4932360" y="620640"/>
            <a:ext cx="37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Любим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pqN9LdXn5Jk.jpg"/>
          <p:cNvPicPr/>
          <p:nvPr/>
        </p:nvPicPr>
        <p:blipFill>
          <a:blip r:embed="rId1"/>
          <a:stretch/>
        </p:blipFill>
        <p:spPr>
          <a:xfrm>
            <a:off x="3564000" y="3860640"/>
            <a:ext cx="4038480" cy="26910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5" descr="dX2ZuNcs91k.jpg"/>
          <p:cNvPicPr/>
          <p:nvPr/>
        </p:nvPicPr>
        <p:blipFill>
          <a:blip r:embed="rId2"/>
          <a:stretch/>
        </p:blipFill>
        <p:spPr>
          <a:xfrm>
            <a:off x="4932360" y="1268280"/>
            <a:ext cx="3887640" cy="2351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G:\ciOumV7YCY0.jpg"/>
          <p:cNvPicPr/>
          <p:nvPr/>
        </p:nvPicPr>
        <p:blipFill>
          <a:blip r:embed="rId3"/>
          <a:stretch/>
        </p:blipFill>
        <p:spPr>
          <a:xfrm>
            <a:off x="468360" y="1341360"/>
            <a:ext cx="2590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иходите в гос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novo</cp:lastModifiedBy>
  <dcterms:modified xsi:type="dcterms:W3CDTF">2019-05-17T17:57:42Z</dcterms:modified>
  <cp:revision>7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b0000000000010282210207f7000400038000</vt:lpwstr>
  </property>
</Properties>
</file>