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862-AD51-413B-91BA-02852040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4A1-B945-46FC-AED3-9F9D8C67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FE9-8C3F-4542-ABD7-E34A4669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4DF-4F44-447B-970F-C29F171E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539-A06A-4D9E-9D42-5E6DB8EA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9B6-0050-469C-8AC9-90785CB8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CF1-3660-47F3-943A-6EFE3CA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D17-723F-4207-9AB2-4F384BA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069-EB63-4D80-9D3B-767BB8D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E03-6269-476F-AB6C-9C9DB58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756-78CF-4A00-BDEB-72C72C6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068-56E6-4DE4-AC04-785F31F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6E8-813B-4794-AC8C-CF9C00C8F6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763640" y="2997360"/>
            <a:ext cx="604044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865160" y="652320"/>
            <a:ext cx="5694480" cy="2810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33577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редняя 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изкультуру очень любим. 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Бегать, прыгать и играть 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Если очень будет нужно 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ожем все рекорды взя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22-dTz3h4ZjDFk.jpg"/>
          <p:cNvPicPr/>
          <p:nvPr/>
        </p:nvPicPr>
        <p:blipFill>
          <a:blip r:embed="rId1"/>
          <a:stretch/>
        </p:blipFill>
        <p:spPr>
          <a:xfrm>
            <a:off x="539640" y="1989000"/>
            <a:ext cx="363564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Светлана\Pictures\спотр развлечение\SAM_1833.JPG"/>
          <p:cNvPicPr/>
          <p:nvPr/>
        </p:nvPicPr>
        <p:blipFill>
          <a:blip r:embed="rId2"/>
          <a:stretch/>
        </p:blipFill>
        <p:spPr>
          <a:xfrm>
            <a:off x="4716360" y="1916280"/>
            <a:ext cx="39592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«Уголок природы»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У природы нет плохой погоды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Это знают все давно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обывали мы в походах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усть пока не далеко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тичек мы не обижали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 цветочки зря не рвали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Лишь природный материал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аждый  понемногу взял: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зо мха и веток сделали букеты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Ежика – из шишек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з картошки – мишк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:\_pNuxyWO1iM.jpg"/>
          <p:cNvPicPr/>
          <p:nvPr/>
        </p:nvPicPr>
        <p:blipFill>
          <a:blip r:embed="rId1"/>
          <a:stretch/>
        </p:blipFill>
        <p:spPr>
          <a:xfrm>
            <a:off x="539640" y="3284640"/>
            <a:ext cx="4824360" cy="29797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wUcswvrzPBg.jpg"/>
          <p:cNvPicPr/>
          <p:nvPr/>
        </p:nvPicPr>
        <p:blipFill>
          <a:blip r:embed="rId2"/>
          <a:stretch/>
        </p:blipFill>
        <p:spPr>
          <a:xfrm>
            <a:off x="5580000" y="260280"/>
            <a:ext cx="330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нижки нам пока читают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оспитатели для нас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Ежедневно наступает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Чтенья книг желанный час!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y9nwOkAq96k.jpg"/>
          <p:cNvPicPr/>
          <p:nvPr/>
        </p:nvPicPr>
        <p:blipFill>
          <a:blip r:embed="rId1"/>
          <a:stretch/>
        </p:blipFill>
        <p:spPr>
          <a:xfrm>
            <a:off x="395280" y="1484280"/>
            <a:ext cx="4176720" cy="3889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2000" y="404280"/>
            <a:ext cx="37544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«Музыкально –                         театральный»       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Артистов нам не заним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Умеем петь и танцев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Роли разные игр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В тексте слов не забыв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5" descr="h58LTdQrv2o.jpg"/>
          <p:cNvPicPr/>
          <p:nvPr/>
        </p:nvPicPr>
        <p:blipFill>
          <a:blip r:embed="rId2"/>
          <a:stretch/>
        </p:blipFill>
        <p:spPr>
          <a:xfrm>
            <a:off x="4788000" y="2257560"/>
            <a:ext cx="388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08360" y="274320"/>
            <a:ext cx="48960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«Мы играем»!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Играя, мы учимся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Играя, живем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С игрой интересной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Мы мир познаем!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Кто серьезно заболел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Есть у нас больница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А постричься не успел-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Не надобно сердиться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Есть у нас и доктора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Есть причесок маст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NXMhsXwpgHg.jpg"/>
          <p:cNvPicPr/>
          <p:nvPr/>
        </p:nvPicPr>
        <p:blipFill>
          <a:blip r:embed="rId1"/>
          <a:stretch/>
        </p:blipFill>
        <p:spPr>
          <a:xfrm>
            <a:off x="539640" y="404640"/>
            <a:ext cx="3819600" cy="38944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7" descr="35-jN8Bxn2aIwY.jpg"/>
          <p:cNvPicPr/>
          <p:nvPr/>
        </p:nvPicPr>
        <p:blipFill>
          <a:blip r:embed="rId2"/>
          <a:stretch/>
        </p:blipFill>
        <p:spPr>
          <a:xfrm>
            <a:off x="4932360" y="3068640"/>
            <a:ext cx="3095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876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«Уголок для девочек»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уклы, бантики, коляски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Сумочки, посуда…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Тут девчонок государство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 порядок всюду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Будущей хозяйке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Много надо знать -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ироги постряпать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латье постират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:\40-a2EiBj6Oj9M.jpg"/>
          <p:cNvPicPr/>
          <p:nvPr/>
        </p:nvPicPr>
        <p:blipFill>
          <a:blip r:embed="rId1"/>
          <a:stretch/>
        </p:blipFill>
        <p:spPr>
          <a:xfrm>
            <a:off x="395280" y="2349360"/>
            <a:ext cx="3024360" cy="40370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7" descr="34-FPxM9rtmCxQ.jpg"/>
          <p:cNvPicPr/>
          <p:nvPr/>
        </p:nvPicPr>
        <p:blipFill>
          <a:blip r:embed="rId2"/>
          <a:stretch/>
        </p:blipFill>
        <p:spPr>
          <a:xfrm>
            <a:off x="6156360" y="189000"/>
            <a:ext cx="2712960" cy="361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:\BwaHHn0qfj4.jpg"/>
          <p:cNvPicPr/>
          <p:nvPr/>
        </p:nvPicPr>
        <p:blipFill>
          <a:blip r:embed="rId3"/>
          <a:stretch/>
        </p:blipFill>
        <p:spPr>
          <a:xfrm>
            <a:off x="3348000" y="1268280"/>
            <a:ext cx="331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4248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Есть в группе тихий уголок. 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Там тишина. Слышно сопенье…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В нем совершенствует уменье 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В настольную игру игрок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4" descr="38-yIqukgXEGHc.jpg"/>
          <p:cNvPicPr/>
          <p:nvPr/>
        </p:nvPicPr>
        <p:blipFill>
          <a:blip r:embed="rId1"/>
          <a:stretch/>
        </p:blipFill>
        <p:spPr>
          <a:xfrm>
            <a:off x="395280" y="2637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G:\w3oQ78KkXDk.jpg"/>
          <p:cNvPicPr/>
          <p:nvPr/>
        </p:nvPicPr>
        <p:blipFill>
          <a:blip r:embed="rId2"/>
          <a:stretch/>
        </p:blipFill>
        <p:spPr>
          <a:xfrm>
            <a:off x="4932360" y="620640"/>
            <a:ext cx="37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Любим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4" descr="pqN9LdXn5Jk.jpg"/>
          <p:cNvPicPr/>
          <p:nvPr/>
        </p:nvPicPr>
        <p:blipFill>
          <a:blip r:embed="rId1"/>
          <a:stretch/>
        </p:blipFill>
        <p:spPr>
          <a:xfrm>
            <a:off x="3564000" y="3860640"/>
            <a:ext cx="4038480" cy="26910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5" descr="dX2ZuNcs91k.jpg"/>
          <p:cNvPicPr/>
          <p:nvPr/>
        </p:nvPicPr>
        <p:blipFill>
          <a:blip r:embed="rId2"/>
          <a:stretch/>
        </p:blipFill>
        <p:spPr>
          <a:xfrm>
            <a:off x="4932360" y="1268280"/>
            <a:ext cx="3887640" cy="235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G:\ciOumV7YCY0.jpg"/>
          <p:cNvPicPr/>
          <p:nvPr/>
        </p:nvPicPr>
        <p:blipFill>
          <a:blip r:embed="rId3"/>
          <a:stretch/>
        </p:blipFill>
        <p:spPr>
          <a:xfrm>
            <a:off x="468360" y="1341360"/>
            <a:ext cx="2590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иходите в гос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novo</cp:lastModifiedBy>
  <dcterms:modified xsi:type="dcterms:W3CDTF">2019-05-17T17:57:42Z</dcterms:modified>
  <cp:revision>7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b0000000000010282210207f7000400038000</vt:lpwstr>
  </property>
</Properties>
</file>