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20A-F2A5-4F3B-81BC-C73B5F34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1C1-3B90-4A3F-9A69-05BD5A02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8C6-8B07-47EA-99B6-3198AFEA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926-4216-40ED-9EC4-EBE53CF8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9206-6C8D-47D8-8A2D-862E224E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066B-78F2-42A5-A18D-5FC7DBE5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346E-64B2-40D6-80D2-4FB52640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D9DE-68BC-4744-80FB-81F154F9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A5B4-BCB2-4894-96F4-EB7B3973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8A8E-F799-48BE-B5E3-3CF83582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E477-E9EB-43F1-9DD2-5B153553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0DF-1FC8-404B-9B1A-C5E6C3C9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1667-6912-4D88-8AEC-B8648E10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3B51-CE45-4D7F-B94B-D73F79D0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8168-41FE-488F-B0DB-92E3621D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CD37-8969-49D0-BC97-30A0D730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F4F6-83F4-4A9F-BC5C-9900FFC7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D2B5-30E8-4915-964A-A634A5C3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0F01-AFBC-4375-A8FA-E935ABEA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89DD-A825-440C-AC8A-F2CEE6DC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A92C-9650-48BE-908D-2FAD56F1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2C7F-A737-491C-B34F-2FF0CB0E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B2B-77B6-4DAD-BED8-C1EB898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5550-A571-4F6A-B364-9945D9A7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91D8-F1DD-4EF7-A993-ACF1553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DFECC-814B-4C17-B930-8A21C87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1E041-A7E1-4130-B6E7-F48F797B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21AB-8BD8-4A0A-98DC-6037B198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AD831-E40A-4453-A771-982D6987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A870-640F-45C5-94AA-ABCC721C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5030-E91D-4637-912A-3A3EBC57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453C-0E15-4D04-BDBF-8C6D11AF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2750-6AB2-4B05-B5FC-D1CD5459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2CC-03D1-493C-8CF0-5D29DF47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871F1-5C61-451E-93F1-527D79B7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0452A-95A6-4043-AAC3-2D895D89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0B21-2D58-426A-8C01-F51DAF1C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5E246-491D-4DD4-A3C2-96DAC97E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81FE9-44EF-42C2-8F47-10E6C30D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6DCF-59BB-40AF-84B5-B1C8868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E89B-6842-41F8-9C1B-93B9BC28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E7B21-3152-4D5B-BF9C-1FCFB63A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6395-8A4B-4D98-8625-28945B4E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944-59FE-4FD7-8162-A476B525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05F-3CB2-4335-AA8D-A6DA803A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D69-E8A3-4032-9079-7E32225D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F27-9D2D-4840-9FFE-D40A332A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B6A-515C-43C5-BC5E-BFE106EB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8A2F-0EE3-46CA-AA93-74C66CC15C5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26C7-B793-45CB-8150-7BB7F0D740B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C839-C1BE-44D1-A2CF-2374DA3176D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8A8F-5D87-44F7-BE01-792B39C994E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2"/>
          <p:cNvSpPr/>
          <p:nvPr/>
        </p:nvSpPr>
        <p:spPr>
          <a:xfrm>
            <a:off x="0" y="17146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исание ЧА – ЩА, ЧУ – Щ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ая соединительная линия 2"/>
          <p:cNvSpPr/>
          <p:nvPr/>
        </p:nvSpPr>
        <p:spPr>
          <a:xfrm>
            <a:off x="785880" y="3429000"/>
            <a:ext cx="2643120" cy="0"/>
          </a:xfrm>
          <a:prstGeom prst="line">
            <a:avLst/>
          </a:prstGeom>
          <a:ln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6"/>
          <p:cNvSpPr/>
          <p:nvPr/>
        </p:nvSpPr>
        <p:spPr>
          <a:xfrm>
            <a:off x="4572000" y="3071880"/>
            <a:ext cx="264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7"/>
          <p:cNvSpPr/>
          <p:nvPr/>
        </p:nvSpPr>
        <p:spPr>
          <a:xfrm>
            <a:off x="4572000" y="3929040"/>
            <a:ext cx="264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8D7E-F170-4F01-9080-3B9B263467D8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17A9-F128-4112-927A-1B0BBD3CF03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C:\Documents and Settings\Admin\Рабочий стол\картинки на урок 1 класс\3602015.jpg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стук дятла" descr=""/>
          <p:cNvPicPr/>
          <p:nvPr/>
        </p:nvPicPr>
        <p:blipFill>
          <a:blip r:embed="rId2"/>
          <a:stretch/>
        </p:blipFill>
        <p:spPr>
          <a:xfrm>
            <a:off x="136440" y="4898880"/>
            <a:ext cx="169884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1952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-214200" y="1808280"/>
            <a:ext cx="93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…йка                  уш…                     скач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ж…н                    щ…ка                   та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ч…                     рощ…                   кач…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0" y="20361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Щ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А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ши с буквой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Щ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иши с буквой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1000080" y="1071720"/>
            <a:ext cx="1571760" cy="1584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71720" y="4643280"/>
            <a:ext cx="1643040" cy="16434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000080" y="2857680"/>
            <a:ext cx="1571760" cy="1500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 flipH="1" flipV="1">
            <a:off x="1357200" y="3214080"/>
            <a:ext cx="214560" cy="214200"/>
          </a:xfrm>
          <a:prstGeom prst="flowChartConnector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 flipH="1" flipV="1">
            <a:off x="1928160" y="3214080"/>
            <a:ext cx="214200" cy="214200"/>
          </a:xfrm>
          <a:prstGeom prst="flowChartConnector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9"/>
          <p:cNvSpPr/>
          <p:nvPr/>
        </p:nvSpPr>
        <p:spPr>
          <a:xfrm>
            <a:off x="1428840" y="3857760"/>
            <a:ext cx="7142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2"/>
          <p:cNvSpPr/>
          <p:nvPr/>
        </p:nvSpPr>
        <p:spPr>
          <a:xfrm>
            <a:off x="2643120" y="164304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cf9b"/>
                </a:solidFill>
                <a:latin typeface="Times New Roman"/>
                <a:ea typeface="Times New Roman"/>
              </a:rPr>
              <a:t>- всё получилось сегодн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3"/>
          <p:cNvSpPr/>
          <p:nvPr/>
        </p:nvSpPr>
        <p:spPr>
          <a:xfrm>
            <a:off x="2786040" y="3500280"/>
            <a:ext cx="50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- были сомн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4"/>
          <p:cNvSpPr/>
          <p:nvPr/>
        </p:nvSpPr>
        <p:spPr>
          <a:xfrm>
            <a:off x="2857680" y="4929120"/>
            <a:ext cx="62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постоянно требовалась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1"/>
          <p:cNvSpPr/>
          <p:nvPr/>
        </p:nvSpPr>
        <p:spPr>
          <a:xfrm>
            <a:off x="714240" y="1000080"/>
            <a:ext cx="807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аланжина Е. с. Учимся писать буквы Щ, Ч. http://www.slideboom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/presentations/296841/%D0%A3%D1%87%D0%B8%D0%BC%D1%81%D1%8F-%D0%BF%D0%B8%D1%81%D0%B0%D1%82%D1%8C-%D0%B1%D1%83%D0%BA%D0%B2%D1%8B-%D0%A7%2C-%D1%87%2C-%D0%A9%2C-%D1%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 flipV="1" rot="10800000">
            <a:off x="714240" y="2713680"/>
            <a:ext cx="56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hoto.sunduk.ru/przima/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а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714240" y="3071880"/>
            <a:ext cx="55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rikol.bigmir.net/view/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5"/>
          <p:cNvSpPr/>
          <p:nvPr/>
        </p:nvSpPr>
        <p:spPr>
          <a:xfrm>
            <a:off x="714240" y="378612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pesiq.ru/forum/showthre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6"/>
          <p:cNvSpPr/>
          <p:nvPr/>
        </p:nvSpPr>
        <p:spPr>
          <a:xfrm>
            <a:off x="714240" y="407196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horek.net/viewtopic.php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со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785880" y="43578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mybirds.ru/forums/l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9"/>
          <p:cNvSpPr/>
          <p:nvPr/>
        </p:nvSpPr>
        <p:spPr>
          <a:xfrm>
            <a:off x="714240" y="478620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trendgifts.ru/good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ча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0"/>
          <p:cNvSpPr/>
          <p:nvPr/>
        </p:nvSpPr>
        <p:spPr>
          <a:xfrm>
            <a:off x="714240" y="521496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fable.ro/forum/18-4814-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р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2"/>
          <p:cNvSpPr/>
          <p:nvPr/>
        </p:nvSpPr>
        <p:spPr>
          <a:xfrm>
            <a:off x="2786040" y="28584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631080" y="5786280"/>
            <a:ext cx="45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galt-auto.ru/publ/168-1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щав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473760" y="5500800"/>
            <a:ext cx="50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new2012.comcouponcode.c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785880" y="34290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xn----btblb4acma9as1h.x…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шк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Левая круглая скобка 1"/>
          <p:cNvSpPr/>
          <p:nvPr/>
        </p:nvSpPr>
        <p:spPr>
          <a:xfrm>
            <a:off x="428760" y="135720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Левая круглая скобка 2"/>
          <p:cNvSpPr/>
          <p:nvPr/>
        </p:nvSpPr>
        <p:spPr>
          <a:xfrm>
            <a:off x="2786040" y="1357200"/>
            <a:ext cx="439920" cy="914400"/>
          </a:xfrm>
          <a:custGeom>
            <a:avLst/>
            <a:gdLst>
              <a:gd name="textAreaLeft" fmla="*/ 129240 w 439920"/>
              <a:gd name="textAreaRight" fmla="*/ 440280 w 439920"/>
              <a:gd name="textAreaTop" fmla="*/ 18000 h 914400"/>
              <a:gd name="textAreaBottom" fmla="*/ 8964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3"/>
                  <a:pt x="0" y="866"/>
                </a:cubicBezTo>
                <a:lnTo>
                  <a:pt x="0" y="20734"/>
                </a:lnTo>
                <a:cubicBezTo>
                  <a:pt x="0" y="2116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Левая круглая скобка 3"/>
          <p:cNvSpPr/>
          <p:nvPr/>
        </p:nvSpPr>
        <p:spPr>
          <a:xfrm>
            <a:off x="5000760" y="128592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Левая круглая скобка 4"/>
          <p:cNvSpPr/>
          <p:nvPr/>
        </p:nvSpPr>
        <p:spPr>
          <a:xfrm>
            <a:off x="7000920" y="1214280"/>
            <a:ext cx="287280" cy="91440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3"/>
                  <a:pt x="0" y="566"/>
                </a:cubicBezTo>
                <a:lnTo>
                  <a:pt x="0" y="21034"/>
                </a:lnTo>
                <a:cubicBezTo>
                  <a:pt x="0" y="2131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авая круглая скобка 5"/>
          <p:cNvSpPr/>
          <p:nvPr/>
        </p:nvSpPr>
        <p:spPr>
          <a:xfrm>
            <a:off x="3929040" y="128592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авая круглая скобка 6"/>
          <p:cNvSpPr/>
          <p:nvPr/>
        </p:nvSpPr>
        <p:spPr>
          <a:xfrm>
            <a:off x="1643040" y="135720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авая круглая скобка 7"/>
          <p:cNvSpPr/>
          <p:nvPr/>
        </p:nvSpPr>
        <p:spPr>
          <a:xfrm>
            <a:off x="6000840" y="128592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авая круглая скобка 8"/>
          <p:cNvSpPr/>
          <p:nvPr/>
        </p:nvSpPr>
        <p:spPr>
          <a:xfrm>
            <a:off x="8001000" y="1214280"/>
            <a:ext cx="214200" cy="92880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928800"/>
              <a:gd name="textAreaBottom" fmla="*/ 920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08"/>
                  <a:pt x="21600" y="415"/>
                </a:cubicBezTo>
                <a:lnTo>
                  <a:pt x="21600" y="21185"/>
                </a:lnTo>
                <a:cubicBezTo>
                  <a:pt x="21600" y="21393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642960" y="14288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3071880" y="1428840"/>
            <a:ext cx="96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5286240" y="1428840"/>
            <a:ext cx="9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7286760" y="1357200"/>
            <a:ext cx="12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3"/>
          <p:cNvSpPr/>
          <p:nvPr/>
        </p:nvSpPr>
        <p:spPr>
          <a:xfrm>
            <a:off x="0" y="257184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5"/>
          <p:cNvSpPr/>
          <p:nvPr/>
        </p:nvSpPr>
        <p:spPr>
          <a:xfrm>
            <a:off x="7215120" y="457200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6"/>
          <p:cNvSpPr/>
          <p:nvPr/>
        </p:nvSpPr>
        <p:spPr>
          <a:xfrm>
            <a:off x="4714920" y="307188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7"/>
          <p:cNvSpPr/>
          <p:nvPr/>
        </p:nvSpPr>
        <p:spPr>
          <a:xfrm>
            <a:off x="5929200" y="600084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ГЛ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8"/>
          <p:cNvSpPr/>
          <p:nvPr/>
        </p:nvSpPr>
        <p:spPr>
          <a:xfrm>
            <a:off x="6786720" y="2357280"/>
            <a:ext cx="192852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ВОН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9"/>
          <p:cNvSpPr/>
          <p:nvPr/>
        </p:nvSpPr>
        <p:spPr>
          <a:xfrm>
            <a:off x="1214280" y="407196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ЁРД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0"/>
          <p:cNvSpPr/>
          <p:nvPr/>
        </p:nvSpPr>
        <p:spPr>
          <a:xfrm>
            <a:off x="0" y="478620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1"/>
          <p:cNvSpPr/>
          <p:nvPr/>
        </p:nvSpPr>
        <p:spPr>
          <a:xfrm>
            <a:off x="285840" y="342900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2"/>
          <p:cNvSpPr/>
          <p:nvPr/>
        </p:nvSpPr>
        <p:spPr>
          <a:xfrm>
            <a:off x="4286160" y="400068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3"/>
          <p:cNvSpPr/>
          <p:nvPr/>
        </p:nvSpPr>
        <p:spPr>
          <a:xfrm>
            <a:off x="2500200" y="292896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УХ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4"/>
          <p:cNvSpPr/>
          <p:nvPr/>
        </p:nvSpPr>
        <p:spPr>
          <a:xfrm>
            <a:off x="1357200" y="571500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5"/>
          <p:cNvSpPr/>
          <p:nvPr/>
        </p:nvSpPr>
        <p:spPr>
          <a:xfrm>
            <a:off x="3786120" y="228600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П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6"/>
          <p:cNvSpPr/>
          <p:nvPr/>
        </p:nvSpPr>
        <p:spPr>
          <a:xfrm>
            <a:off x="6858000" y="3500280"/>
            <a:ext cx="192888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П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7"/>
          <p:cNvSpPr/>
          <p:nvPr/>
        </p:nvSpPr>
        <p:spPr>
          <a:xfrm>
            <a:off x="2571840" y="485784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ЯГ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8"/>
          <p:cNvSpPr/>
          <p:nvPr/>
        </p:nvSpPr>
        <p:spPr>
          <a:xfrm>
            <a:off x="3214800" y="628668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ЯГ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9"/>
          <p:cNvSpPr/>
          <p:nvPr/>
        </p:nvSpPr>
        <p:spPr>
          <a:xfrm>
            <a:off x="4572000" y="5000760"/>
            <a:ext cx="19288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ЁРД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34" name="Line 3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4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009dd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6"/>
          <p:cNvGrpSpPr/>
          <p:nvPr/>
        </p:nvGrpSpPr>
        <p:grpSpPr>
          <a:xfrm>
            <a:off x="5500800" y="2637000"/>
            <a:ext cx="1663560" cy="2157120"/>
            <a:chOff x="5500800" y="2637000"/>
            <a:chExt cx="1663560" cy="2157120"/>
          </a:xfrm>
        </p:grpSpPr>
        <p:sp>
          <p:nvSpPr>
            <p:cNvPr id="238" name="Freeform 7"/>
            <p:cNvSpPr/>
            <p:nvPr/>
          </p:nvSpPr>
          <p:spPr>
            <a:xfrm>
              <a:off x="6140520" y="2637000"/>
              <a:ext cx="1023840" cy="215712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2157120"/>
                <a:gd name="textAreaBottom" fmla="*/ 2157480 h 215712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"/>
            <p:cNvSpPr/>
            <p:nvPr/>
          </p:nvSpPr>
          <p:spPr>
            <a:xfrm>
              <a:off x="5573880" y="2637000"/>
              <a:ext cx="1211040" cy="314280"/>
            </a:xfrm>
            <a:custGeom>
              <a:avLst/>
              <a:gdLst>
                <a:gd name="textAreaLeft" fmla="*/ 0 w 1211040"/>
                <a:gd name="textAreaRight" fmla="*/ 1211400 w 12110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763" h="198">
                  <a:moveTo>
                    <a:pt x="0" y="186"/>
                  </a:moveTo>
                  <a:cubicBezTo>
                    <a:pt x="29" y="160"/>
                    <a:pt x="117" y="23"/>
                    <a:pt x="174" y="21"/>
                  </a:cubicBezTo>
                  <a:cubicBezTo>
                    <a:pt x="231" y="19"/>
                    <a:pt x="286" y="152"/>
                    <a:pt x="341" y="175"/>
                  </a:cubicBezTo>
                  <a:cubicBezTo>
                    <a:pt x="396" y="198"/>
                    <a:pt x="433" y="187"/>
                    <a:pt x="503" y="158"/>
                  </a:cubicBezTo>
                  <a:cubicBezTo>
                    <a:pt x="573" y="129"/>
                    <a:pt x="709" y="33"/>
                    <a:pt x="763" y="0"/>
                  </a:cubicBezTo>
                </a:path>
              </a:pathLst>
            </a:custGeom>
            <a:noFill/>
            <a:ln w="152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9"/>
            <p:cNvSpPr/>
            <p:nvPr/>
          </p:nvSpPr>
          <p:spPr>
            <a:xfrm>
              <a:off x="5500800" y="2878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0"/>
          <p:cNvGrpSpPr/>
          <p:nvPr/>
        </p:nvGrpSpPr>
        <p:grpSpPr>
          <a:xfrm>
            <a:off x="2174760" y="476280"/>
            <a:ext cx="2468520" cy="4317840"/>
            <a:chOff x="2174760" y="476280"/>
            <a:chExt cx="2468520" cy="4317840"/>
          </a:xfrm>
        </p:grpSpPr>
        <p:sp>
          <p:nvSpPr>
            <p:cNvPr id="242" name="Freeform 11"/>
            <p:cNvSpPr/>
            <p:nvPr/>
          </p:nvSpPr>
          <p:spPr>
            <a:xfrm>
              <a:off x="2247840" y="504720"/>
              <a:ext cx="1760760" cy="2179800"/>
            </a:xfrm>
            <a:custGeom>
              <a:avLst/>
              <a:gdLst>
                <a:gd name="textAreaLeft" fmla="*/ 0 w 1760760"/>
                <a:gd name="textAreaRight" fmla="*/ 1761120 w 1760760"/>
                <a:gd name="textAreaTop" fmla="*/ 0 h 2179800"/>
                <a:gd name="textAreaBottom" fmla="*/ 2180160 h 2179800"/>
              </a:gdLst>
              <a:ahLst/>
              <a:rect l="textAreaLeft" t="textAreaTop" r="textAreaRight" b="textAreaBottom"/>
              <a:pathLst>
                <a:path w="1109" h="1373">
                  <a:moveTo>
                    <a:pt x="1109" y="867"/>
                  </a:moveTo>
                  <a:cubicBezTo>
                    <a:pt x="1019" y="943"/>
                    <a:pt x="704" y="1275"/>
                    <a:pt x="571" y="1324"/>
                  </a:cubicBezTo>
                  <a:cubicBezTo>
                    <a:pt x="438" y="1373"/>
                    <a:pt x="292" y="1335"/>
                    <a:pt x="312" y="1160"/>
                  </a:cubicBezTo>
                  <a:cubicBezTo>
                    <a:pt x="332" y="985"/>
                    <a:pt x="638" y="461"/>
                    <a:pt x="692" y="274"/>
                  </a:cubicBezTo>
                  <a:cubicBezTo>
                    <a:pt x="746" y="87"/>
                    <a:pt x="688" y="72"/>
                    <a:pt x="638" y="37"/>
                  </a:cubicBezTo>
                  <a:cubicBezTo>
                    <a:pt x="588" y="2"/>
                    <a:pt x="500" y="0"/>
                    <a:pt x="394" y="66"/>
                  </a:cubicBezTo>
                  <a:cubicBezTo>
                    <a:pt x="288" y="132"/>
                    <a:pt x="82" y="359"/>
                    <a:pt x="0" y="436"/>
                  </a:cubicBezTo>
                </a:path>
              </a:pathLst>
            </a:custGeom>
            <a:noFill/>
            <a:ln w="1522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2927520" y="479520"/>
              <a:ext cx="1644480" cy="431460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314600"/>
                <a:gd name="textAreaBottom" fmla="*/ 4314960 h 431460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3"/>
            <p:cNvSpPr/>
            <p:nvPr/>
          </p:nvSpPr>
          <p:spPr>
            <a:xfrm>
              <a:off x="2174760" y="1123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4"/>
            <p:cNvSpPr/>
            <p:nvPr/>
          </p:nvSpPr>
          <p:spPr>
            <a:xfrm>
              <a:off x="4498920" y="4762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AutoShape 15"/>
          <p:cNvSpPr/>
          <p:nvPr/>
        </p:nvSpPr>
        <p:spPr>
          <a:xfrm rot="12875400">
            <a:off x="2139840" y="1452240"/>
            <a:ext cx="812880" cy="73080"/>
          </a:xfrm>
          <a:custGeom>
            <a:avLst/>
            <a:gdLst>
              <a:gd name="textAreaLeft" fmla="*/ 0 w 812880"/>
              <a:gd name="textAreaRight" fmla="*/ 813240 w 8128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46821E-007 C 0.01615 -0.01919 0.07674 -0.10682 0.09653 -0.11491 C 0.11632 -0.12301 0.12848 -0.09896 0.11875 -0.04925 C 0.10903 0.000460000000000002 0.04306 0.13919 0.03785 0.18312 C 0.03264 0.22705 0.06424 0.22289 0.08698 0.2148 C 0.10973 0.20671 0.15608 0.15121 0.17431 0.13457 E">
                                      <p:cBhvr>
                                        <p:cTn id="6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365 -0.10636 C 0.24601 -0.08116 0.23594 -0.04185 0.20764 0.04786 C 0.17934 0.13757 0.10035 0.35399 0.08386 0.4326 C 0.06737 0.51121 0.08733 0.51815 0.10921 0.51931 C 0.13108 0.52046 0.19341 0.45572 0.21563 0.43908 E">
                                      <p:cBhvr>
                                        <p:cTn id="9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51 0.24671 C 0.3632 0.24116 0.379 0.21225 0.38698 0.21272 C 0.39497 0.21318 0.3974 0.24069 0.40608 0.24879 C 0.41476 0.25688 0.42466 0.26867 0.43941 0.2615 C 0.45417 0.25434 0.48334 0.21804 0.49497 0.20647 E">
                                      <p:cBhvr>
                                        <p:cTn id="12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983 0.22335 C 0.48785 0.27191 0.43195 0.46613 0.4283 0.51306 C 0.42466 0.56 0.45955 0.51653 0.47761 0.50451 C 0.49566 0.49249 0.52414 0.45434 0.53629 0.44116 E">
                                      <p:cBhvr>
                                        <p:cTn id="15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48" name="Line 3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009dd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"/>
          <p:cNvGrpSpPr/>
          <p:nvPr/>
        </p:nvGrpSpPr>
        <p:grpSpPr>
          <a:xfrm>
            <a:off x="5138640" y="2635200"/>
            <a:ext cx="3532320" cy="3408480"/>
            <a:chOff x="5138640" y="2635200"/>
            <a:chExt cx="3532320" cy="3408480"/>
          </a:xfrm>
        </p:grpSpPr>
        <p:grpSp>
          <p:nvGrpSpPr>
            <p:cNvPr id="252" name="Group 7"/>
            <p:cNvGrpSpPr/>
            <p:nvPr/>
          </p:nvGrpSpPr>
          <p:grpSpPr>
            <a:xfrm>
              <a:off x="5138640" y="2635200"/>
              <a:ext cx="3387960" cy="2141640"/>
              <a:chOff x="5138640" y="2635200"/>
              <a:chExt cx="3387960" cy="2141640"/>
            </a:xfrm>
          </p:grpSpPr>
          <p:sp>
            <p:nvSpPr>
              <p:cNvPr id="253" name="Freeform 8"/>
              <p:cNvSpPr/>
              <p:nvPr/>
            </p:nvSpPr>
            <p:spPr>
              <a:xfrm>
                <a:off x="6156360" y="2637000"/>
                <a:ext cx="1289160" cy="213984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139840"/>
                  <a:gd name="textAreaBottom" fmla="*/ 2140200 h 213984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9"/>
              <p:cNvSpPr/>
              <p:nvPr/>
            </p:nvSpPr>
            <p:spPr>
              <a:xfrm>
                <a:off x="5138640" y="2708280"/>
                <a:ext cx="1289160" cy="206856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068560"/>
                  <a:gd name="textAreaBottom" fmla="*/ 2068920 h 206856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"/>
              <p:cNvSpPr/>
              <p:nvPr/>
            </p:nvSpPr>
            <p:spPr>
              <a:xfrm>
                <a:off x="7237440" y="2708280"/>
                <a:ext cx="1289160" cy="206856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068560"/>
                  <a:gd name="textAreaBottom" fmla="*/ 2068920 h 206856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11"/>
              <p:cNvSpPr/>
              <p:nvPr/>
            </p:nvSpPr>
            <p:spPr>
              <a:xfrm>
                <a:off x="6012000" y="26352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12"/>
              <p:cNvSpPr/>
              <p:nvPr/>
            </p:nvSpPr>
            <p:spPr>
              <a:xfrm>
                <a:off x="6946920" y="26370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3"/>
              <p:cNvSpPr/>
              <p:nvPr/>
            </p:nvSpPr>
            <p:spPr>
              <a:xfrm>
                <a:off x="8101080" y="26370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Freeform 14"/>
            <p:cNvSpPr/>
            <p:nvPr/>
          </p:nvSpPr>
          <p:spPr>
            <a:xfrm>
              <a:off x="7531200" y="4229280"/>
              <a:ext cx="1139760" cy="181440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1814400"/>
                <a:gd name="textAreaBottom" fmla="*/ 1814760 h 1814400"/>
              </a:gdLst>
              <a:ahLst/>
              <a:rect l="textAreaLeft" t="textAreaTop" r="textAreaRight" b="textAreaBottom"/>
              <a:pathLst>
                <a:path w="718" h="1095">
                  <a:moveTo>
                    <a:pt x="718" y="113"/>
                  </a:moveTo>
                  <a:cubicBezTo>
                    <a:pt x="636" y="180"/>
                    <a:pt x="342" y="393"/>
                    <a:pt x="223" y="515"/>
                  </a:cubicBezTo>
                  <a:cubicBezTo>
                    <a:pt x="104" y="637"/>
                    <a:pt x="6" y="771"/>
                    <a:pt x="3" y="844"/>
                  </a:cubicBezTo>
                  <a:cubicBezTo>
                    <a:pt x="0" y="917"/>
                    <a:pt x="114" y="1095"/>
                    <a:pt x="206" y="954"/>
                  </a:cubicBezTo>
                  <a:cubicBezTo>
                    <a:pt x="298" y="813"/>
                    <a:pt x="482" y="199"/>
                    <a:pt x="554" y="0"/>
                  </a:cubicBezTo>
                </a:path>
              </a:pathLst>
            </a:custGeom>
            <a:noFill/>
            <a:ln w="15228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5"/>
          <p:cNvGrpSpPr/>
          <p:nvPr/>
        </p:nvGrpSpPr>
        <p:grpSpPr>
          <a:xfrm>
            <a:off x="382680" y="447840"/>
            <a:ext cx="4332240" cy="5608440"/>
            <a:chOff x="382680" y="447840"/>
            <a:chExt cx="4332240" cy="5608440"/>
          </a:xfrm>
        </p:grpSpPr>
        <p:grpSp>
          <p:nvGrpSpPr>
            <p:cNvPr id="261" name="Group 16"/>
            <p:cNvGrpSpPr/>
            <p:nvPr/>
          </p:nvGrpSpPr>
          <p:grpSpPr>
            <a:xfrm>
              <a:off x="382680" y="447840"/>
              <a:ext cx="4332240" cy="4372920"/>
              <a:chOff x="382680" y="447840"/>
              <a:chExt cx="4332240" cy="4372920"/>
            </a:xfrm>
          </p:grpSpPr>
          <p:sp>
            <p:nvSpPr>
              <p:cNvPr id="262" name="Freeform 17"/>
              <p:cNvSpPr/>
              <p:nvPr/>
            </p:nvSpPr>
            <p:spPr>
              <a:xfrm>
                <a:off x="455760" y="461880"/>
                <a:ext cx="1795320" cy="4358880"/>
              </a:xfrm>
              <a:custGeom>
                <a:avLst/>
                <a:gdLst>
                  <a:gd name="textAreaLeft" fmla="*/ 0 w 1795320"/>
                  <a:gd name="textAreaRight" fmla="*/ 1795680 w 1795320"/>
                  <a:gd name="textAreaTop" fmla="*/ 0 h 4358880"/>
                  <a:gd name="textAreaBottom" fmla="*/ 4359240 h 4358880"/>
                </a:gdLst>
                <a:ahLst/>
                <a:rect l="textAreaLeft" t="textAreaTop" r="textAreaRight" b="textAreaBottom"/>
                <a:pathLst>
                  <a:path w="1131" h="2746">
                    <a:moveTo>
                      <a:pt x="888" y="2341"/>
                    </a:moveTo>
                    <a:cubicBezTo>
                      <a:pt x="784" y="2403"/>
                      <a:pt x="395" y="2678"/>
                      <a:pt x="259" y="2712"/>
                    </a:cubicBezTo>
                    <a:cubicBezTo>
                      <a:pt x="123" y="2746"/>
                      <a:pt x="60" y="2697"/>
                      <a:pt x="74" y="2546"/>
                    </a:cubicBezTo>
                    <a:cubicBezTo>
                      <a:pt x="88" y="2395"/>
                      <a:pt x="184" y="2171"/>
                      <a:pt x="344" y="1806"/>
                    </a:cubicBezTo>
                    <a:cubicBezTo>
                      <a:pt x="504" y="1441"/>
                      <a:pt x="937" y="654"/>
                      <a:pt x="1034" y="358"/>
                    </a:cubicBezTo>
                    <a:cubicBezTo>
                      <a:pt x="1131" y="62"/>
                      <a:pt x="1008" y="64"/>
                      <a:pt x="927" y="32"/>
                    </a:cubicBezTo>
                    <a:cubicBezTo>
                      <a:pt x="846" y="0"/>
                      <a:pt x="703" y="86"/>
                      <a:pt x="549" y="166"/>
                    </a:cubicBezTo>
                    <a:cubicBezTo>
                      <a:pt x="395" y="246"/>
                      <a:pt x="114" y="442"/>
                      <a:pt x="0" y="514"/>
                    </a:cubicBezTo>
                  </a:path>
                </a:pathLst>
              </a:custGeom>
              <a:noFill/>
              <a:ln w="1522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8"/>
              <p:cNvSpPr/>
              <p:nvPr/>
            </p:nvSpPr>
            <p:spPr>
              <a:xfrm>
                <a:off x="2998800" y="529920"/>
                <a:ext cx="1644480" cy="428904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4289040"/>
                  <a:gd name="textAreaBottom" fmla="*/ 4289040 h 428904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19"/>
              <p:cNvSpPr/>
              <p:nvPr/>
            </p:nvSpPr>
            <p:spPr>
              <a:xfrm>
                <a:off x="382680" y="116820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20"/>
              <p:cNvSpPr/>
              <p:nvPr/>
            </p:nvSpPr>
            <p:spPr>
              <a:xfrm>
                <a:off x="4570560" y="44784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1"/>
              <p:cNvSpPr/>
              <p:nvPr/>
            </p:nvSpPr>
            <p:spPr>
              <a:xfrm>
                <a:off x="1785960" y="529920"/>
                <a:ext cx="1644480" cy="427968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4279680"/>
                  <a:gd name="textAreaBottom" fmla="*/ 4280040 h 427968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w="1522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22"/>
              <p:cNvSpPr/>
              <p:nvPr/>
            </p:nvSpPr>
            <p:spPr>
              <a:xfrm>
                <a:off x="3357720" y="44784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23"/>
            <p:cNvSpPr/>
            <p:nvPr/>
          </p:nvSpPr>
          <p:spPr>
            <a:xfrm>
              <a:off x="3430440" y="4229280"/>
              <a:ext cx="1140120" cy="182700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718" h="1151">
                  <a:moveTo>
                    <a:pt x="718" y="161"/>
                  </a:moveTo>
                  <a:cubicBezTo>
                    <a:pt x="636" y="228"/>
                    <a:pt x="342" y="441"/>
                    <a:pt x="223" y="563"/>
                  </a:cubicBezTo>
                  <a:cubicBezTo>
                    <a:pt x="104" y="685"/>
                    <a:pt x="6" y="819"/>
                    <a:pt x="3" y="892"/>
                  </a:cubicBezTo>
                  <a:cubicBezTo>
                    <a:pt x="0" y="965"/>
                    <a:pt x="121" y="1151"/>
                    <a:pt x="206" y="1002"/>
                  </a:cubicBezTo>
                  <a:cubicBezTo>
                    <a:pt x="291" y="853"/>
                    <a:pt x="451" y="209"/>
                    <a:pt x="515" y="0"/>
                  </a:cubicBezTo>
                </a:path>
              </a:pathLst>
            </a:custGeom>
            <a:noFill/>
            <a:ln w="152280">
              <a:solidFill>
                <a:srgbClr val="009d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AutoShape 24"/>
          <p:cNvSpPr/>
          <p:nvPr/>
        </p:nvSpPr>
        <p:spPr>
          <a:xfrm rot="12875400">
            <a:off x="414360" y="1469520"/>
            <a:ext cx="876240" cy="73080"/>
          </a:xfrm>
          <a:custGeom>
            <a:avLst/>
            <a:gdLst>
              <a:gd name="textAreaLeft" fmla="*/ 0 w 876240"/>
              <a:gd name="textAreaRight" fmla="*/ 876600 w 8762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46821E-007 C 0.03021 -0.01179 0.17466 -0.13064 0.18073 -0.07052 C 0.18681 -0.0104 0.06598 0.26798 0.03629 0.36069 C 0.0066 0.45341 0.00608 0.4578 0.00295 0.48555 C -0.00017 0.5133 -0.00312 0.52902 0.01719 0.52786 C 0.0375 0.52671 0.10278 0.48925 0.12518 0.47908 E">
                                      <p:cBhvr>
                                        <p:cTn id="21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4 -0.07884 C 0.22466 0.1563 0.14098 0.39168 0.13542 0.48116 C 0.12986 0.57064 0.25174 0.46197 0.275 0.45804 E">
                                      <p:cBhvr>
                                        <p:cTn id="24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122 -0.09156 C 0.42309 -0.00532000000000001 0.30782 0.32439 0.28455 0.42613 C 0.26129 0.52786 0.2915 0.51769 0.31164 0.51931 C 0.33177 0.52069 0.39775 0.40971 0.40521 0.43468 C 0.41268 0.45942 0.37188 0.63561 0.35608 0.66936 C 0.34028 0.70312 0.2974 0.66821 0.31007 0.63769 C 0.32275 0.60717 0.40677 0.51723 0.43229 0.48555 E">
                                      <p:cBhvr>
                                        <p:cTn id="27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799 0.21272 C 0.59236 0.25503 0.52761 0.41387 0.51441 0.46636 C 0.50122 0.51884 0.50729 0.53295 0.52865 0.52763 C 0.55 0.52231 0.61927 0.4541 0.64306 0.43468 E">
                                      <p:cBhvr>
                                        <p:cTn id="30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834 0.21711 C 0.69479 0.26682 0.61789 0.47954 0.62743 0.51514 C 0.63698 0.55075 0.73681 0.44809 0.76563 0.43052 E">
                                      <p:cBhvr>
                                        <p:cTn id="33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917 0.21711 C 0.82118 0.23977 0.79532 0.30751 0.78004 0.35283 C 0.76476 0.39815 0.74462 0.46058 0.73716 0.48971 C 0.72969 0.51884 0.73143 0.51977 0.73559 0.52786 C 0.73976 0.53595 0.74271 0.55191 0.7625 0.53827 C 0.78229 0.52462 0.84896 0.42312 0.85452 0.44532 C 0.86007 0.46751 0.81094 0.64439 0.79566 0.67145 C 0.78039 0.6985 0.74757 0.63977 0.76233 0.60809 C 0.77709 0.57642 0.85903 0.50751 0.88455 0.48116 E">
                                      <p:cBhvr>
                                        <p:cTn id="36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C:\Documents and Settings\Admin\Рабочий стол\ча-ща\часы.jpg"/>
          <p:cNvPicPr/>
          <p:nvPr/>
        </p:nvPicPr>
        <p:blipFill>
          <a:blip r:embed="rId1"/>
          <a:stretch/>
        </p:blipFill>
        <p:spPr>
          <a:xfrm>
            <a:off x="857160" y="1714680"/>
            <a:ext cx="2643120" cy="2571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Documents and Settings\Admin\Рабочий стол\ча-ща\шкаф.jpg"/>
          <p:cNvPicPr/>
          <p:nvPr/>
        </p:nvPicPr>
        <p:blipFill>
          <a:blip r:embed="rId2"/>
          <a:stretch/>
        </p:blipFill>
        <p:spPr>
          <a:xfrm>
            <a:off x="5143680" y="1785960"/>
            <a:ext cx="2286000" cy="25002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3"/>
          <p:cNvSpPr/>
          <p:nvPr/>
        </p:nvSpPr>
        <p:spPr>
          <a:xfrm>
            <a:off x="3571920" y="78588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7715160" y="714240"/>
            <a:ext cx="7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6"/>
          <p:cNvSpPr/>
          <p:nvPr/>
        </p:nvSpPr>
        <p:spPr>
          <a:xfrm>
            <a:off x="2786040" y="5143680"/>
            <a:ext cx="34290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Ч</a:t>
            </a: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Ш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1857240" y="2143080"/>
            <a:ext cx="171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Щ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3500280" y="1071720"/>
            <a:ext cx="53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C:\Documents and Settings\Admin\Рабочий стол\ча-ща\рука.jpg"/>
          <p:cNvPicPr/>
          <p:nvPr/>
        </p:nvPicPr>
        <p:blipFill>
          <a:blip r:embed="rId1"/>
          <a:stretch/>
        </p:blipFill>
        <p:spPr>
          <a:xfrm>
            <a:off x="4071960" y="2143080"/>
            <a:ext cx="1396800" cy="139716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2786040" y="4643280"/>
            <a:ext cx="3071880" cy="914400"/>
          </a:xfrm>
          <a:prstGeom prst="rect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Щ</a:t>
            </a:r>
            <a:r>
              <a:rPr b="1" lang="ru-RU" sz="60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Documents and Settings\Admin\Рабочий стол\ча-ща\волк.jpg"/>
          <p:cNvPicPr/>
          <p:nvPr/>
        </p:nvPicPr>
        <p:blipFill>
          <a:blip r:embed="rId1"/>
          <a:stretch/>
        </p:blipFill>
        <p:spPr>
          <a:xfrm>
            <a:off x="357120" y="714240"/>
            <a:ext cx="2714760" cy="1928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Documents and Settings\Admin\Рабочий стол\ча-ща\заяц.jpg"/>
          <p:cNvPicPr/>
          <p:nvPr/>
        </p:nvPicPr>
        <p:blipFill>
          <a:blip r:embed="rId2"/>
          <a:stretch/>
        </p:blipFill>
        <p:spPr>
          <a:xfrm>
            <a:off x="6000840" y="857160"/>
            <a:ext cx="278604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C:\Documents and Settings\Admin\Рабочий стол\ча-ща\сорока.jpg"/>
          <p:cNvPicPr/>
          <p:nvPr/>
        </p:nvPicPr>
        <p:blipFill>
          <a:blip r:embed="rId3"/>
          <a:stretch/>
        </p:blipFill>
        <p:spPr>
          <a:xfrm>
            <a:off x="3000240" y="2786040"/>
            <a:ext cx="2571840" cy="1752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C:\Documents and Settings\Admin\Рабочий стол\ча-ща\галка.gif"/>
          <p:cNvPicPr/>
          <p:nvPr/>
        </p:nvPicPr>
        <p:blipFill>
          <a:blip r:embed="rId4"/>
          <a:stretch/>
        </p:blipFill>
        <p:spPr>
          <a:xfrm>
            <a:off x="285840" y="464328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C:\Documents and Settings\Admin\Рабочий стол\ча-ща\белка.jpg"/>
          <p:cNvPicPr/>
          <p:nvPr/>
        </p:nvPicPr>
        <p:blipFill>
          <a:blip r:embed="rId5"/>
          <a:stretch/>
        </p:blipFill>
        <p:spPr>
          <a:xfrm>
            <a:off x="5715000" y="4429080"/>
            <a:ext cx="3174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2143080" y="85716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2214720" y="342900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571680" y="528624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3857760" y="200016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5572080" y="307188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4572000" y="507204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7"/>
          <p:cNvSpPr/>
          <p:nvPr/>
        </p:nvSpPr>
        <p:spPr>
          <a:xfrm>
            <a:off x="7286760" y="142884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8"/>
          <p:cNvSpPr/>
          <p:nvPr/>
        </p:nvSpPr>
        <p:spPr>
          <a:xfrm>
            <a:off x="7286760" y="4714920"/>
            <a:ext cx="1357200" cy="914400"/>
          </a:xfrm>
          <a:prstGeom prst="rect">
            <a:avLst/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Щ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642960" y="20718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5214960" y="1785960"/>
            <a:ext cx="4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Admin\Рабочий стол\ча-ща\120px-Rumex_acetosa_cultivar_01.jpg"/>
          <p:cNvPicPr/>
          <p:nvPr/>
        </p:nvPicPr>
        <p:blipFill>
          <a:blip r:embed="rId1"/>
          <a:stretch/>
        </p:blipFill>
        <p:spPr>
          <a:xfrm>
            <a:off x="2214720" y="4071960"/>
            <a:ext cx="4429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4:45:25Z</dcterms:created>
  <dc:creator>Admin</dc:creator>
  <dc:description/>
  <dc:language>en-US</dc:language>
  <cp:lastModifiedBy>Юлия</cp:lastModifiedBy>
  <dcterms:modified xsi:type="dcterms:W3CDTF">2019-02-11T16:47:52Z</dcterms:modified>
  <cp:revision>15</cp:revision>
  <dc:subject/>
  <dc:title>Слайд 1</dc:title>
</cp:coreProperties>
</file>