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9.jpeg" ContentType="image/jpeg"/>
  <Override PartName="/ppt/media/image11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6C34-BBCD-4502-90E4-CA3AE836C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48C6-F65D-43E3-BFE9-E3AA0968F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1DC5-D3FC-42E7-8506-F2D4867F3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632C-70D9-4316-A1A4-D67ADE0BE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166BE-C503-410A-A59C-EA2888DB2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6BDA1-C685-46C5-B3EC-14E6D7B25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683DC-0B96-4391-8533-ED7C2EC8A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0EC8E-2FF5-4915-A833-54B6BC071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6E13E-BD5D-44AA-A7A8-1391D2C24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3FDFE-6631-43F2-9432-2AABB961A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9ED46-BBF3-453F-B805-E48CF955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3F36-F045-41B2-8CC8-31929E1A0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8D8FE-ED39-4179-9AC2-EFCE0E02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E31C3-CB24-477C-AAAA-2580FC7E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77FD9-9CA0-415E-BAFA-0C6A72898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3A5EC-E279-4518-B4CC-5815E2F37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E9C92-27A6-4A58-A94A-D585FAEA7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97BB4-1AA1-4B2A-A7C1-531FF565C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3DCA0-15CD-4014-9B60-3FF62C84D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EA754-4CC2-4B28-BA1F-7238F4532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3B9E6-6E1D-4216-80E5-E91B1A43F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06E04-4195-4C91-85D1-3605F5897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3B0A-BD27-4258-90F8-631545F8E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8C8B2-3E31-40B4-9A95-561FFDB99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2718E-DA48-4B6D-98AD-3BBD5D75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D6135-568B-44AC-9E7D-2E374DF3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B0BAE-0FF0-4A7E-9BD9-21BDB46F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4D5BF-AA67-4ABF-B6DD-C0FBC1CFD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71F5B-613C-46A8-A19F-BA754D065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D4490-D39A-47B4-891D-648C0B0A1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A0140-A45F-4AEE-A990-6357FBC3D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B3CE4-6B9C-46B8-AE99-320DB71A4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05798-D761-4372-9D2D-1868E0EA9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6A75-E22E-4A46-AFCA-EAECA544A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4E420-E23D-4C0B-9449-F989BDFD0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B3BB7-DC97-42B4-9465-2EC55CEE3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5CE38-F6FB-4E8C-991C-92EA3007B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02386-C34D-4EA3-ABBE-5382C0B4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21537-12DC-4B66-A4A7-A4A41DA9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E58C3-4C33-4B85-88DE-26E529F1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9408E-1C4A-4CD9-9D9F-0DEB6EECD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93F4F-915D-4885-BE68-F274DA7FF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F7C80-0A99-4655-8860-F2898E121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1739-0829-4590-A008-580C72928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AC3C-DF47-4F83-B487-D760B2AC1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F6B3-01F6-41A1-80F2-93397267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99E6-CE51-4601-B5CD-97C0B25B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FDD8-431D-4F72-9BDE-6F5791E5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82B72-8CE2-454B-B868-D4B6AC22555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5711B-0AE4-4329-9EFD-1B22F299E730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E2D25-1AFB-41F9-A2B7-E2272654923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6A64D-E63F-493E-9388-2FC3F72E0C1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Box 2"/>
          <p:cNvSpPr/>
          <p:nvPr/>
        </p:nvSpPr>
        <p:spPr>
          <a:xfrm>
            <a:off x="0" y="1714680"/>
            <a:ext cx="91440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писание ЧА – ЩА, ЧУ – ЩУ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Прямая соединительная линия 2"/>
          <p:cNvSpPr/>
          <p:nvPr/>
        </p:nvSpPr>
        <p:spPr>
          <a:xfrm>
            <a:off x="785880" y="3429000"/>
            <a:ext cx="2643120" cy="0"/>
          </a:xfrm>
          <a:prstGeom prst="line">
            <a:avLst/>
          </a:prstGeom>
          <a:ln w="7632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рямая соединительная линия 6"/>
          <p:cNvSpPr/>
          <p:nvPr/>
        </p:nvSpPr>
        <p:spPr>
          <a:xfrm>
            <a:off x="4572000" y="3071880"/>
            <a:ext cx="2643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ая соединительная линия 7"/>
          <p:cNvSpPr/>
          <p:nvPr/>
        </p:nvSpPr>
        <p:spPr>
          <a:xfrm>
            <a:off x="4572000" y="3929040"/>
            <a:ext cx="2643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F324B-5749-471D-82F3-C1F20CD65488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Номер слайда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8D687-C4DF-480E-B781-5597434505C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6" descr="C:\Documents and Settings\Admin\Рабочий стол\картинки на урок 1 класс\3602015.jpg"/>
          <p:cNvPicPr/>
          <p:nvPr/>
        </p:nvPicPr>
        <p:blipFill>
          <a:blip r:embed="rId1"/>
          <a:stretch/>
        </p:blipFill>
        <p:spPr>
          <a:xfrm>
            <a:off x="-3636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2" name="стук дятла" descr=""/>
          <p:cNvPicPr/>
          <p:nvPr/>
        </p:nvPicPr>
        <p:blipFill>
          <a:blip r:embed="rId2"/>
          <a:stretch/>
        </p:blipFill>
        <p:spPr>
          <a:xfrm>
            <a:off x="136440" y="4898880"/>
            <a:ext cx="169884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restart="whenNotActive" nodeType="interactiveSeq" fill="hold">
                <p:stCondLst>
                  <p:cond evt="onClick">
                    <p:tgtEl>
                      <p:spTgt spid="302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302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41952" fill="hold"/>
                                        <p:tgtEl>
                                          <p:spTgt spid="3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"/>
          <p:cNvSpPr/>
          <p:nvPr/>
        </p:nvSpPr>
        <p:spPr>
          <a:xfrm>
            <a:off x="-214200" y="1808280"/>
            <a:ext cx="93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Ч…йка                  уш…                     скач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уж…н                    щ…ка                   тащ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ч…                     рощ…                   кач…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1"/>
          <p:cNvSpPr/>
          <p:nvPr/>
        </p:nvSpPr>
        <p:spPr>
          <a:xfrm>
            <a:off x="0" y="203616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Ч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Calibri"/>
              </a:rPr>
              <a:t>А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Щ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Calibri"/>
              </a:rPr>
              <a:t>А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иши с буквой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Ч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Calibri"/>
              </a:rPr>
              <a:t>У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Щ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Calibri"/>
              </a:rPr>
              <a:t>У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 пиши с буквой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AutoShape 2"/>
          <p:cNvSpPr/>
          <p:nvPr/>
        </p:nvSpPr>
        <p:spPr>
          <a:xfrm>
            <a:off x="1000080" y="1071720"/>
            <a:ext cx="1571760" cy="15840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3"/>
          <p:cNvSpPr/>
          <p:nvPr/>
        </p:nvSpPr>
        <p:spPr>
          <a:xfrm>
            <a:off x="1071720" y="4643280"/>
            <a:ext cx="1643040" cy="1643400"/>
          </a:xfrm>
          <a:prstGeom prst="smileyFace">
            <a:avLst>
              <a:gd name="adj" fmla="val -465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1000080" y="2857680"/>
            <a:ext cx="1571760" cy="150012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5"/>
          <p:cNvSpPr/>
          <p:nvPr/>
        </p:nvSpPr>
        <p:spPr>
          <a:xfrm flipH="1" flipV="1">
            <a:off x="1357200" y="3214080"/>
            <a:ext cx="214560" cy="214200"/>
          </a:xfrm>
          <a:prstGeom prst="flowChartConnector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6"/>
          <p:cNvSpPr/>
          <p:nvPr/>
        </p:nvSpPr>
        <p:spPr>
          <a:xfrm flipH="1" flipV="1">
            <a:off x="1928160" y="3214080"/>
            <a:ext cx="214200" cy="214200"/>
          </a:xfrm>
          <a:prstGeom prst="flowChartConnector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ая соединительная линия 9"/>
          <p:cNvSpPr/>
          <p:nvPr/>
        </p:nvSpPr>
        <p:spPr>
          <a:xfrm>
            <a:off x="1428840" y="3857760"/>
            <a:ext cx="7142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12"/>
          <p:cNvSpPr/>
          <p:nvPr/>
        </p:nvSpPr>
        <p:spPr>
          <a:xfrm>
            <a:off x="2643120" y="1643040"/>
            <a:ext cx="60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0cf9b"/>
                </a:solidFill>
                <a:latin typeface="Times New Roman"/>
                <a:ea typeface="Times New Roman"/>
              </a:rPr>
              <a:t>- всё получилось сегодн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оугольник 13"/>
          <p:cNvSpPr/>
          <p:nvPr/>
        </p:nvSpPr>
        <p:spPr>
          <a:xfrm>
            <a:off x="2786040" y="3500280"/>
            <a:ext cx="507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- были сомн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Прямоугольник 14"/>
          <p:cNvSpPr/>
          <p:nvPr/>
        </p:nvSpPr>
        <p:spPr>
          <a:xfrm>
            <a:off x="2857680" y="4929120"/>
            <a:ext cx="6286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постоянно требовалась помощ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Прямоугольник 1"/>
          <p:cNvSpPr/>
          <p:nvPr/>
        </p:nvSpPr>
        <p:spPr>
          <a:xfrm>
            <a:off x="714240" y="1000080"/>
            <a:ext cx="8072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Галанжина Е. с. Учимся писать буквы Щ, Ч. http://www.slideboom.c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/presentations/296841/%D0%A3%D1%87%D0%B8%D0%BC%D1%81%D1%8F-%D0%BF%D0%B8%D1%81%D0%B0%D1%82%D1%8C-%D0%B1%D1%83%D0%BA%D0%B2%D1%8B-%D0%A7%2C-%D1%87%2C-%D0%A9%2C-%D1%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оугольник 2"/>
          <p:cNvSpPr/>
          <p:nvPr/>
        </p:nvSpPr>
        <p:spPr>
          <a:xfrm flipV="1" rot="10800000">
            <a:off x="714240" y="2713680"/>
            <a:ext cx="56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ttp://photo.sunduk.ru/przima/…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чащ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оугольник 3"/>
          <p:cNvSpPr/>
          <p:nvPr/>
        </p:nvSpPr>
        <p:spPr>
          <a:xfrm>
            <a:off x="714240" y="3071880"/>
            <a:ext cx="55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ttp://prikol.bigmir.net/view/…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вол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Прямоугольник 5"/>
          <p:cNvSpPr/>
          <p:nvPr/>
        </p:nvSpPr>
        <p:spPr>
          <a:xfrm>
            <a:off x="714240" y="3786120"/>
            <a:ext cx="485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ttp://pesiq.ru/forum/showthre…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бел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оугольник 6"/>
          <p:cNvSpPr/>
          <p:nvPr/>
        </p:nvSpPr>
        <p:spPr>
          <a:xfrm>
            <a:off x="714240" y="4071960"/>
            <a:ext cx="492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ttp://horek.net/viewtopic.php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 сор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оугольник 7"/>
          <p:cNvSpPr/>
          <p:nvPr/>
        </p:nvSpPr>
        <p:spPr>
          <a:xfrm>
            <a:off x="785880" y="435780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ttp://www.mybirds.ru/forums/l…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гал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оугольник 9"/>
          <p:cNvSpPr/>
          <p:nvPr/>
        </p:nvSpPr>
        <p:spPr>
          <a:xfrm>
            <a:off x="714240" y="478620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ttp://www.trendgifts.ru/goods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час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10"/>
          <p:cNvSpPr/>
          <p:nvPr/>
        </p:nvSpPr>
        <p:spPr>
          <a:xfrm>
            <a:off x="714240" y="5214960"/>
            <a:ext cx="53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ttp://fable.ro/forum/18-4814-…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ру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12"/>
          <p:cNvSpPr/>
          <p:nvPr/>
        </p:nvSpPr>
        <p:spPr>
          <a:xfrm>
            <a:off x="2786040" y="285840"/>
            <a:ext cx="505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Используемые ресур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оугольник 13"/>
          <p:cNvSpPr/>
          <p:nvPr/>
        </p:nvSpPr>
        <p:spPr>
          <a:xfrm>
            <a:off x="631080" y="5786280"/>
            <a:ext cx="451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ttp://galt-auto.ru/publ/168-1…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-щав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14"/>
          <p:cNvSpPr/>
          <p:nvPr/>
        </p:nvSpPr>
        <p:spPr>
          <a:xfrm>
            <a:off x="473760" y="5500800"/>
            <a:ext cx="501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ttp://new2012.comcouponcode.c…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- зая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оугольник 15"/>
          <p:cNvSpPr/>
          <p:nvPr/>
        </p:nvSpPr>
        <p:spPr>
          <a:xfrm>
            <a:off x="785880" y="3429000"/>
            <a:ext cx="42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ttp://xn----btblb4acma9as1h.x…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- шка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Левая круглая скобка 1"/>
          <p:cNvSpPr/>
          <p:nvPr/>
        </p:nvSpPr>
        <p:spPr>
          <a:xfrm>
            <a:off x="428760" y="1357200"/>
            <a:ext cx="287280" cy="914400"/>
          </a:xfrm>
          <a:custGeom>
            <a:avLst/>
            <a:gdLst>
              <a:gd name="textAreaLeft" fmla="*/ 84240 w 287280"/>
              <a:gd name="textAreaRight" fmla="*/ 287640 w 287280"/>
              <a:gd name="textAreaTop" fmla="*/ 11880 h 914400"/>
              <a:gd name="textAreaBottom" fmla="*/ 90252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83"/>
                  <a:pt x="0" y="566"/>
                </a:cubicBezTo>
                <a:lnTo>
                  <a:pt x="0" y="21034"/>
                </a:lnTo>
                <a:cubicBezTo>
                  <a:pt x="0" y="21317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Левая круглая скобка 2"/>
          <p:cNvSpPr/>
          <p:nvPr/>
        </p:nvSpPr>
        <p:spPr>
          <a:xfrm>
            <a:off x="2786040" y="1357200"/>
            <a:ext cx="439920" cy="914400"/>
          </a:xfrm>
          <a:custGeom>
            <a:avLst/>
            <a:gdLst>
              <a:gd name="textAreaLeft" fmla="*/ 129240 w 439920"/>
              <a:gd name="textAreaRight" fmla="*/ 440280 w 439920"/>
              <a:gd name="textAreaTop" fmla="*/ 18000 h 914400"/>
              <a:gd name="textAreaBottom" fmla="*/ 89640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3"/>
                  <a:pt x="0" y="866"/>
                </a:cubicBezTo>
                <a:lnTo>
                  <a:pt x="0" y="20734"/>
                </a:lnTo>
                <a:cubicBezTo>
                  <a:pt x="0" y="21167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Левая круглая скобка 3"/>
          <p:cNvSpPr/>
          <p:nvPr/>
        </p:nvSpPr>
        <p:spPr>
          <a:xfrm>
            <a:off x="5000760" y="1285920"/>
            <a:ext cx="287280" cy="914400"/>
          </a:xfrm>
          <a:custGeom>
            <a:avLst/>
            <a:gdLst>
              <a:gd name="textAreaLeft" fmla="*/ 84240 w 287280"/>
              <a:gd name="textAreaRight" fmla="*/ 287640 w 287280"/>
              <a:gd name="textAreaTop" fmla="*/ 11880 h 914400"/>
              <a:gd name="textAreaBottom" fmla="*/ 90252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83"/>
                  <a:pt x="0" y="566"/>
                </a:cubicBezTo>
                <a:lnTo>
                  <a:pt x="0" y="21034"/>
                </a:lnTo>
                <a:cubicBezTo>
                  <a:pt x="0" y="21317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Левая круглая скобка 4"/>
          <p:cNvSpPr/>
          <p:nvPr/>
        </p:nvSpPr>
        <p:spPr>
          <a:xfrm>
            <a:off x="7000920" y="1214280"/>
            <a:ext cx="287280" cy="914400"/>
          </a:xfrm>
          <a:custGeom>
            <a:avLst/>
            <a:gdLst>
              <a:gd name="textAreaLeft" fmla="*/ 84240 w 287280"/>
              <a:gd name="textAreaRight" fmla="*/ 287640 w 287280"/>
              <a:gd name="textAreaTop" fmla="*/ 11880 h 914400"/>
              <a:gd name="textAreaBottom" fmla="*/ 90252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83"/>
                  <a:pt x="0" y="566"/>
                </a:cubicBezTo>
                <a:lnTo>
                  <a:pt x="0" y="21034"/>
                </a:lnTo>
                <a:cubicBezTo>
                  <a:pt x="0" y="21317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авая круглая скобка 5"/>
          <p:cNvSpPr/>
          <p:nvPr/>
        </p:nvSpPr>
        <p:spPr>
          <a:xfrm>
            <a:off x="3929040" y="1285920"/>
            <a:ext cx="214200" cy="928800"/>
          </a:xfrm>
          <a:custGeom>
            <a:avLst/>
            <a:gdLst>
              <a:gd name="textAreaLeft" fmla="*/ 0 w 214200"/>
              <a:gd name="textAreaRight" fmla="*/ 150480 w 214200"/>
              <a:gd name="textAreaTop" fmla="*/ 8640 h 928800"/>
              <a:gd name="textAreaBottom" fmla="*/ 920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08"/>
                  <a:pt x="21600" y="415"/>
                </a:cubicBezTo>
                <a:lnTo>
                  <a:pt x="21600" y="21185"/>
                </a:lnTo>
                <a:cubicBezTo>
                  <a:pt x="21600" y="21393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авая круглая скобка 6"/>
          <p:cNvSpPr/>
          <p:nvPr/>
        </p:nvSpPr>
        <p:spPr>
          <a:xfrm>
            <a:off x="1643040" y="1357200"/>
            <a:ext cx="214200" cy="928800"/>
          </a:xfrm>
          <a:custGeom>
            <a:avLst/>
            <a:gdLst>
              <a:gd name="textAreaLeft" fmla="*/ 0 w 214200"/>
              <a:gd name="textAreaRight" fmla="*/ 150480 w 214200"/>
              <a:gd name="textAreaTop" fmla="*/ 8640 h 928800"/>
              <a:gd name="textAreaBottom" fmla="*/ 920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08"/>
                  <a:pt x="21600" y="415"/>
                </a:cubicBezTo>
                <a:lnTo>
                  <a:pt x="21600" y="21185"/>
                </a:lnTo>
                <a:cubicBezTo>
                  <a:pt x="21600" y="21393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авая круглая скобка 7"/>
          <p:cNvSpPr/>
          <p:nvPr/>
        </p:nvSpPr>
        <p:spPr>
          <a:xfrm>
            <a:off x="6000840" y="1285920"/>
            <a:ext cx="214200" cy="928800"/>
          </a:xfrm>
          <a:custGeom>
            <a:avLst/>
            <a:gdLst>
              <a:gd name="textAreaLeft" fmla="*/ 0 w 214200"/>
              <a:gd name="textAreaRight" fmla="*/ 150480 w 214200"/>
              <a:gd name="textAreaTop" fmla="*/ 8640 h 928800"/>
              <a:gd name="textAreaBottom" fmla="*/ 920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08"/>
                  <a:pt x="21600" y="415"/>
                </a:cubicBezTo>
                <a:lnTo>
                  <a:pt x="21600" y="21185"/>
                </a:lnTo>
                <a:cubicBezTo>
                  <a:pt x="21600" y="21393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авая круглая скобка 8"/>
          <p:cNvSpPr/>
          <p:nvPr/>
        </p:nvSpPr>
        <p:spPr>
          <a:xfrm>
            <a:off x="8001000" y="1214280"/>
            <a:ext cx="214200" cy="928800"/>
          </a:xfrm>
          <a:custGeom>
            <a:avLst/>
            <a:gdLst>
              <a:gd name="textAreaLeft" fmla="*/ 0 w 214200"/>
              <a:gd name="textAreaRight" fmla="*/ 150480 w 214200"/>
              <a:gd name="textAreaTop" fmla="*/ 8640 h 928800"/>
              <a:gd name="textAreaBottom" fmla="*/ 920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08"/>
                  <a:pt x="21600" y="415"/>
                </a:cubicBezTo>
                <a:lnTo>
                  <a:pt x="21600" y="21185"/>
                </a:lnTo>
                <a:cubicBezTo>
                  <a:pt x="21600" y="21393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9"/>
          <p:cNvSpPr/>
          <p:nvPr/>
        </p:nvSpPr>
        <p:spPr>
          <a:xfrm>
            <a:off x="642960" y="1428840"/>
            <a:ext cx="85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0"/>
          <p:cNvSpPr/>
          <p:nvPr/>
        </p:nvSpPr>
        <p:spPr>
          <a:xfrm>
            <a:off x="3071880" y="1428840"/>
            <a:ext cx="96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1"/>
          <p:cNvSpPr/>
          <p:nvPr/>
        </p:nvSpPr>
        <p:spPr>
          <a:xfrm>
            <a:off x="5286240" y="1428840"/>
            <a:ext cx="91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'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2"/>
          <p:cNvSpPr/>
          <p:nvPr/>
        </p:nvSpPr>
        <p:spPr>
          <a:xfrm>
            <a:off x="7286760" y="1357200"/>
            <a:ext cx="12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'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13"/>
          <p:cNvSpPr/>
          <p:nvPr/>
        </p:nvSpPr>
        <p:spPr>
          <a:xfrm>
            <a:off x="0" y="2571840"/>
            <a:ext cx="1928880" cy="5713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СОГЛАС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15"/>
          <p:cNvSpPr/>
          <p:nvPr/>
        </p:nvSpPr>
        <p:spPr>
          <a:xfrm>
            <a:off x="7215120" y="4572000"/>
            <a:ext cx="1928880" cy="5716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СОГЛАС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16"/>
          <p:cNvSpPr/>
          <p:nvPr/>
        </p:nvSpPr>
        <p:spPr>
          <a:xfrm>
            <a:off x="4714920" y="3071880"/>
            <a:ext cx="1928880" cy="5713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СОГЛАС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17"/>
          <p:cNvSpPr/>
          <p:nvPr/>
        </p:nvSpPr>
        <p:spPr>
          <a:xfrm>
            <a:off x="5929200" y="6000840"/>
            <a:ext cx="1928880" cy="5713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СОГЛАС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18"/>
          <p:cNvSpPr/>
          <p:nvPr/>
        </p:nvSpPr>
        <p:spPr>
          <a:xfrm>
            <a:off x="6786720" y="2357280"/>
            <a:ext cx="1928520" cy="5716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ЗВОН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19"/>
          <p:cNvSpPr/>
          <p:nvPr/>
        </p:nvSpPr>
        <p:spPr>
          <a:xfrm>
            <a:off x="1214280" y="4071960"/>
            <a:ext cx="1928880" cy="5713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ТВЁРД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20"/>
          <p:cNvSpPr/>
          <p:nvPr/>
        </p:nvSpPr>
        <p:spPr>
          <a:xfrm>
            <a:off x="0" y="4786200"/>
            <a:ext cx="1928880" cy="5716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АР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21"/>
          <p:cNvSpPr/>
          <p:nvPr/>
        </p:nvSpPr>
        <p:spPr>
          <a:xfrm>
            <a:off x="285840" y="3429000"/>
            <a:ext cx="1928880" cy="5716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ГЛУХ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22"/>
          <p:cNvSpPr/>
          <p:nvPr/>
        </p:nvSpPr>
        <p:spPr>
          <a:xfrm>
            <a:off x="4286160" y="4000680"/>
            <a:ext cx="1928880" cy="5713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ГЛУХ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23"/>
          <p:cNvSpPr/>
          <p:nvPr/>
        </p:nvSpPr>
        <p:spPr>
          <a:xfrm>
            <a:off x="2500200" y="2928960"/>
            <a:ext cx="1928880" cy="5713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ГЛУХ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24"/>
          <p:cNvSpPr/>
          <p:nvPr/>
        </p:nvSpPr>
        <p:spPr>
          <a:xfrm>
            <a:off x="1357200" y="5715000"/>
            <a:ext cx="1928880" cy="5716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АР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25"/>
          <p:cNvSpPr/>
          <p:nvPr/>
        </p:nvSpPr>
        <p:spPr>
          <a:xfrm>
            <a:off x="3786120" y="2286000"/>
            <a:ext cx="1928880" cy="5716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НЕПАР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26"/>
          <p:cNvSpPr/>
          <p:nvPr/>
        </p:nvSpPr>
        <p:spPr>
          <a:xfrm>
            <a:off x="6858000" y="3500280"/>
            <a:ext cx="1928880" cy="5716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НЕПАР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27"/>
          <p:cNvSpPr/>
          <p:nvPr/>
        </p:nvSpPr>
        <p:spPr>
          <a:xfrm>
            <a:off x="2571840" y="4857840"/>
            <a:ext cx="1928880" cy="5713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МЯГ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28"/>
          <p:cNvSpPr/>
          <p:nvPr/>
        </p:nvSpPr>
        <p:spPr>
          <a:xfrm>
            <a:off x="3214800" y="6286680"/>
            <a:ext cx="1928880" cy="5713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МЯГ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29"/>
          <p:cNvSpPr/>
          <p:nvPr/>
        </p:nvSpPr>
        <p:spPr>
          <a:xfrm>
            <a:off x="4572000" y="5000760"/>
            <a:ext cx="1928880" cy="5713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ТВЁРД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250920" y="476280"/>
            <a:ext cx="8605800" cy="4392720"/>
            <a:chOff x="250920" y="476280"/>
            <a:chExt cx="8605800" cy="4392720"/>
          </a:xfrm>
        </p:grpSpPr>
        <p:sp>
          <p:nvSpPr>
            <p:cNvPr id="234" name="Line 3"/>
            <p:cNvSpPr/>
            <p:nvPr/>
          </p:nvSpPr>
          <p:spPr>
            <a:xfrm>
              <a:off x="250920" y="476280"/>
              <a:ext cx="8569080" cy="0"/>
            </a:xfrm>
            <a:prstGeom prst="line">
              <a:avLst/>
            </a:prstGeom>
            <a:ln w="57240">
              <a:solidFill>
                <a:srgbClr val="009d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4"/>
            <p:cNvSpPr/>
            <p:nvPr/>
          </p:nvSpPr>
          <p:spPr>
            <a:xfrm>
              <a:off x="287280" y="2637000"/>
              <a:ext cx="8569440" cy="0"/>
            </a:xfrm>
            <a:prstGeom prst="line">
              <a:avLst/>
            </a:prstGeom>
            <a:ln w="57240">
              <a:solidFill>
                <a:srgbClr val="009dd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5"/>
            <p:cNvSpPr/>
            <p:nvPr/>
          </p:nvSpPr>
          <p:spPr>
            <a:xfrm>
              <a:off x="250920" y="4869000"/>
              <a:ext cx="8569080" cy="0"/>
            </a:xfrm>
            <a:prstGeom prst="line">
              <a:avLst/>
            </a:prstGeom>
            <a:ln w="57240">
              <a:solidFill>
                <a:srgbClr val="009d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6"/>
          <p:cNvGrpSpPr/>
          <p:nvPr/>
        </p:nvGrpSpPr>
        <p:grpSpPr>
          <a:xfrm>
            <a:off x="5500800" y="2637000"/>
            <a:ext cx="1663560" cy="2157120"/>
            <a:chOff x="5500800" y="2637000"/>
            <a:chExt cx="1663560" cy="2157120"/>
          </a:xfrm>
        </p:grpSpPr>
        <p:sp>
          <p:nvSpPr>
            <p:cNvPr id="238" name="Freeform 7"/>
            <p:cNvSpPr/>
            <p:nvPr/>
          </p:nvSpPr>
          <p:spPr>
            <a:xfrm>
              <a:off x="6140520" y="2637000"/>
              <a:ext cx="1023840" cy="2157120"/>
            </a:xfrm>
            <a:custGeom>
              <a:avLst/>
              <a:gdLst>
                <a:gd name="textAreaLeft" fmla="*/ 0 w 1023840"/>
                <a:gd name="textAreaRight" fmla="*/ 1024200 w 1023840"/>
                <a:gd name="textAreaTop" fmla="*/ 0 h 2157120"/>
                <a:gd name="textAreaBottom" fmla="*/ 2157480 h 2157120"/>
              </a:gdLst>
              <a:ahLst/>
              <a:rect l="textAreaLeft" t="textAreaTop" r="textAreaRight" b="textAreaBottom"/>
              <a:pathLst>
                <a:path w="822" h="1492">
                  <a:moveTo>
                    <a:pt x="822" y="1038"/>
                  </a:moveTo>
                  <a:cubicBezTo>
                    <a:pt x="735" y="1103"/>
                    <a:pt x="434" y="1370"/>
                    <a:pt x="301" y="1431"/>
                  </a:cubicBezTo>
                  <a:cubicBezTo>
                    <a:pt x="168" y="1492"/>
                    <a:pt x="42" y="1479"/>
                    <a:pt x="21" y="1402"/>
                  </a:cubicBezTo>
                  <a:cubicBezTo>
                    <a:pt x="0" y="1325"/>
                    <a:pt x="78" y="1204"/>
                    <a:pt x="174" y="971"/>
                  </a:cubicBezTo>
                  <a:cubicBezTo>
                    <a:pt x="271" y="737"/>
                    <a:pt x="512" y="202"/>
                    <a:pt x="601" y="0"/>
                  </a:cubicBezTo>
                </a:path>
              </a:pathLst>
            </a:custGeom>
            <a:noFill/>
            <a:ln w="15228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8"/>
            <p:cNvSpPr/>
            <p:nvPr/>
          </p:nvSpPr>
          <p:spPr>
            <a:xfrm>
              <a:off x="5573880" y="2637000"/>
              <a:ext cx="1211040" cy="314280"/>
            </a:xfrm>
            <a:custGeom>
              <a:avLst/>
              <a:gdLst>
                <a:gd name="textAreaLeft" fmla="*/ 0 w 1211040"/>
                <a:gd name="textAreaRight" fmla="*/ 1211400 w 121104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763" h="198">
                  <a:moveTo>
                    <a:pt x="0" y="186"/>
                  </a:moveTo>
                  <a:cubicBezTo>
                    <a:pt x="29" y="160"/>
                    <a:pt x="117" y="23"/>
                    <a:pt x="174" y="21"/>
                  </a:cubicBezTo>
                  <a:cubicBezTo>
                    <a:pt x="231" y="19"/>
                    <a:pt x="286" y="152"/>
                    <a:pt x="341" y="175"/>
                  </a:cubicBezTo>
                  <a:cubicBezTo>
                    <a:pt x="396" y="198"/>
                    <a:pt x="433" y="187"/>
                    <a:pt x="503" y="158"/>
                  </a:cubicBezTo>
                  <a:cubicBezTo>
                    <a:pt x="573" y="129"/>
                    <a:pt x="709" y="33"/>
                    <a:pt x="763" y="0"/>
                  </a:cubicBezTo>
                </a:path>
              </a:pathLst>
            </a:custGeom>
            <a:noFill/>
            <a:ln w="1522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AutoShape 9"/>
            <p:cNvSpPr/>
            <p:nvPr/>
          </p:nvSpPr>
          <p:spPr>
            <a:xfrm>
              <a:off x="5500800" y="287820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10"/>
          <p:cNvGrpSpPr/>
          <p:nvPr/>
        </p:nvGrpSpPr>
        <p:grpSpPr>
          <a:xfrm>
            <a:off x="2174760" y="476280"/>
            <a:ext cx="2468520" cy="4317840"/>
            <a:chOff x="2174760" y="476280"/>
            <a:chExt cx="2468520" cy="4317840"/>
          </a:xfrm>
        </p:grpSpPr>
        <p:sp>
          <p:nvSpPr>
            <p:cNvPr id="242" name="Freeform 11"/>
            <p:cNvSpPr/>
            <p:nvPr/>
          </p:nvSpPr>
          <p:spPr>
            <a:xfrm>
              <a:off x="2247840" y="504720"/>
              <a:ext cx="1760760" cy="2179800"/>
            </a:xfrm>
            <a:custGeom>
              <a:avLst/>
              <a:gdLst>
                <a:gd name="textAreaLeft" fmla="*/ 0 w 1760760"/>
                <a:gd name="textAreaRight" fmla="*/ 1761120 w 1760760"/>
                <a:gd name="textAreaTop" fmla="*/ 0 h 2179800"/>
                <a:gd name="textAreaBottom" fmla="*/ 2180160 h 2179800"/>
              </a:gdLst>
              <a:ahLst/>
              <a:rect l="textAreaLeft" t="textAreaTop" r="textAreaRight" b="textAreaBottom"/>
              <a:pathLst>
                <a:path w="1109" h="1373">
                  <a:moveTo>
                    <a:pt x="1109" y="867"/>
                  </a:moveTo>
                  <a:cubicBezTo>
                    <a:pt x="1019" y="943"/>
                    <a:pt x="704" y="1275"/>
                    <a:pt x="571" y="1324"/>
                  </a:cubicBezTo>
                  <a:cubicBezTo>
                    <a:pt x="438" y="1373"/>
                    <a:pt x="292" y="1335"/>
                    <a:pt x="312" y="1160"/>
                  </a:cubicBezTo>
                  <a:cubicBezTo>
                    <a:pt x="332" y="985"/>
                    <a:pt x="638" y="461"/>
                    <a:pt x="692" y="274"/>
                  </a:cubicBezTo>
                  <a:cubicBezTo>
                    <a:pt x="746" y="87"/>
                    <a:pt x="688" y="72"/>
                    <a:pt x="638" y="37"/>
                  </a:cubicBezTo>
                  <a:cubicBezTo>
                    <a:pt x="588" y="2"/>
                    <a:pt x="500" y="0"/>
                    <a:pt x="394" y="66"/>
                  </a:cubicBezTo>
                  <a:cubicBezTo>
                    <a:pt x="288" y="132"/>
                    <a:pt x="82" y="359"/>
                    <a:pt x="0" y="436"/>
                  </a:cubicBezTo>
                </a:path>
              </a:pathLst>
            </a:custGeom>
            <a:noFill/>
            <a:ln w="15228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2"/>
            <p:cNvSpPr/>
            <p:nvPr/>
          </p:nvSpPr>
          <p:spPr>
            <a:xfrm>
              <a:off x="2927520" y="479520"/>
              <a:ext cx="1644480" cy="4314600"/>
            </a:xfrm>
            <a:custGeom>
              <a:avLst/>
              <a:gdLst>
                <a:gd name="textAreaLeft" fmla="*/ 0 w 1644480"/>
                <a:gd name="textAreaRight" fmla="*/ 1644840 w 1644480"/>
                <a:gd name="textAreaTop" fmla="*/ 0 h 4314600"/>
                <a:gd name="textAreaBottom" fmla="*/ 4314960 h 4314600"/>
              </a:gdLst>
              <a:ahLst/>
              <a:rect l="textAreaLeft" t="textAreaTop" r="textAreaRight" b="textAreaBottom"/>
              <a:pathLst>
                <a:path w="1036" h="2607">
                  <a:moveTo>
                    <a:pt x="834" y="2200"/>
                  </a:moveTo>
                  <a:cubicBezTo>
                    <a:pt x="728" y="2262"/>
                    <a:pt x="336" y="2539"/>
                    <a:pt x="199" y="2573"/>
                  </a:cubicBezTo>
                  <a:cubicBezTo>
                    <a:pt x="62" y="2607"/>
                    <a:pt x="0" y="2558"/>
                    <a:pt x="14" y="2407"/>
                  </a:cubicBezTo>
                  <a:cubicBezTo>
                    <a:pt x="28" y="2256"/>
                    <a:pt x="114" y="2068"/>
                    <a:pt x="284" y="1667"/>
                  </a:cubicBezTo>
                  <a:cubicBezTo>
                    <a:pt x="454" y="1266"/>
                    <a:pt x="879" y="347"/>
                    <a:pt x="1036" y="0"/>
                  </a:cubicBezTo>
                </a:path>
              </a:pathLst>
            </a:custGeom>
            <a:noFill/>
            <a:ln w="15228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AutoShape 13"/>
            <p:cNvSpPr/>
            <p:nvPr/>
          </p:nvSpPr>
          <p:spPr>
            <a:xfrm>
              <a:off x="2174760" y="1123920"/>
              <a:ext cx="14472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AutoShape 14"/>
            <p:cNvSpPr/>
            <p:nvPr/>
          </p:nvSpPr>
          <p:spPr>
            <a:xfrm>
              <a:off x="4498920" y="47628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AutoShape 15"/>
          <p:cNvSpPr/>
          <p:nvPr/>
        </p:nvSpPr>
        <p:spPr>
          <a:xfrm rot="12875400">
            <a:off x="2139840" y="1452240"/>
            <a:ext cx="812880" cy="73080"/>
          </a:xfrm>
          <a:custGeom>
            <a:avLst/>
            <a:gdLst>
              <a:gd name="textAreaLeft" fmla="*/ 0 w 812880"/>
              <a:gd name="textAreaRight" fmla="*/ 813240 w 81288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46821E-007 C 0.01615 -0.01919 0.07674 -0.10682 0.09653 -0.11491 C 0.11632 -0.12301 0.12848 -0.09896 0.11875 -0.04925 C 0.10903 0.000460000000000002 0.04306 0.13919 0.03785 0.18312 C 0.03264 0.22705 0.06424 0.22289 0.08698 0.2148 C 0.10973 0.20671 0.15608 0.15121 0.17431 0.13457 E">
                                      <p:cBhvr>
                                        <p:cTn id="6" dur="5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365 -0.10636 C 0.24601 -0.08116 0.23594 -0.04185 0.20764 0.04786 C 0.17934 0.13757 0.10035 0.35399 0.08386 0.4326 C 0.06737 0.51121 0.08733 0.51815 0.10921 0.51931 C 0.13108 0.52046 0.19341 0.45572 0.21563 0.43908 E">
                                      <p:cBhvr>
                                        <p:cTn id="9" dur="5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851 0.24671 C 0.3632 0.24116 0.379 0.21225 0.38698 0.21272 C 0.39497 0.21318 0.3974 0.24069 0.40608 0.24879 C 0.41476 0.25688 0.42466 0.26867 0.43941 0.2615 C 0.45417 0.25434 0.48334 0.21804 0.49497 0.20647 E">
                                      <p:cBhvr>
                                        <p:cTn id="12" dur="5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9983 0.22335 C 0.48785 0.27191 0.43195 0.46613 0.4283 0.51306 C 0.42466 0.56 0.45955 0.51653 0.47761 0.50451 C 0.49566 0.49249 0.52414 0.45434 0.53629 0.44116 E">
                                      <p:cBhvr>
                                        <p:cTn id="15" dur="5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Group 2"/>
          <p:cNvGrpSpPr/>
          <p:nvPr/>
        </p:nvGrpSpPr>
        <p:grpSpPr>
          <a:xfrm>
            <a:off x="250920" y="476280"/>
            <a:ext cx="8605800" cy="4392720"/>
            <a:chOff x="250920" y="476280"/>
            <a:chExt cx="8605800" cy="4392720"/>
          </a:xfrm>
        </p:grpSpPr>
        <p:sp>
          <p:nvSpPr>
            <p:cNvPr id="248" name="Line 3"/>
            <p:cNvSpPr/>
            <p:nvPr/>
          </p:nvSpPr>
          <p:spPr>
            <a:xfrm>
              <a:off x="250920" y="476280"/>
              <a:ext cx="8569080" cy="0"/>
            </a:xfrm>
            <a:prstGeom prst="line">
              <a:avLst/>
            </a:prstGeom>
            <a:ln w="57240">
              <a:solidFill>
                <a:srgbClr val="009d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4"/>
            <p:cNvSpPr/>
            <p:nvPr/>
          </p:nvSpPr>
          <p:spPr>
            <a:xfrm>
              <a:off x="287280" y="2637000"/>
              <a:ext cx="8569440" cy="0"/>
            </a:xfrm>
            <a:prstGeom prst="line">
              <a:avLst/>
            </a:prstGeom>
            <a:ln w="57240">
              <a:solidFill>
                <a:srgbClr val="009dd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5"/>
            <p:cNvSpPr/>
            <p:nvPr/>
          </p:nvSpPr>
          <p:spPr>
            <a:xfrm>
              <a:off x="250920" y="4869000"/>
              <a:ext cx="8569080" cy="0"/>
            </a:xfrm>
            <a:prstGeom prst="line">
              <a:avLst/>
            </a:prstGeom>
            <a:ln w="57240">
              <a:solidFill>
                <a:srgbClr val="009d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Group 6"/>
          <p:cNvGrpSpPr/>
          <p:nvPr/>
        </p:nvGrpSpPr>
        <p:grpSpPr>
          <a:xfrm>
            <a:off x="5138640" y="2635200"/>
            <a:ext cx="3532320" cy="3408480"/>
            <a:chOff x="5138640" y="2635200"/>
            <a:chExt cx="3532320" cy="3408480"/>
          </a:xfrm>
        </p:grpSpPr>
        <p:grpSp>
          <p:nvGrpSpPr>
            <p:cNvPr id="252" name="Group 7"/>
            <p:cNvGrpSpPr/>
            <p:nvPr/>
          </p:nvGrpSpPr>
          <p:grpSpPr>
            <a:xfrm>
              <a:off x="5138640" y="2635200"/>
              <a:ext cx="3387960" cy="2141640"/>
              <a:chOff x="5138640" y="2635200"/>
              <a:chExt cx="3387960" cy="2141640"/>
            </a:xfrm>
          </p:grpSpPr>
          <p:sp>
            <p:nvSpPr>
              <p:cNvPr id="253" name="Freeform 8"/>
              <p:cNvSpPr/>
              <p:nvPr/>
            </p:nvSpPr>
            <p:spPr>
              <a:xfrm>
                <a:off x="6156360" y="2637000"/>
                <a:ext cx="1289160" cy="2139840"/>
              </a:xfrm>
              <a:custGeom>
                <a:avLst/>
                <a:gdLst>
                  <a:gd name="textAreaLeft" fmla="*/ 0 w 1289160"/>
                  <a:gd name="textAreaRight" fmla="*/ 1289520 w 1289160"/>
                  <a:gd name="textAreaTop" fmla="*/ 0 h 2139840"/>
                  <a:gd name="textAreaBottom" fmla="*/ 2140200 h 2139840"/>
                </a:gdLst>
                <a:ahLst/>
                <a:rect l="textAreaLeft" t="textAreaTop" r="textAreaRight" b="textAreaBottom"/>
                <a:pathLst>
                  <a:path w="822" h="1492">
                    <a:moveTo>
                      <a:pt x="822" y="1038"/>
                    </a:moveTo>
                    <a:cubicBezTo>
                      <a:pt x="735" y="1103"/>
                      <a:pt x="434" y="1370"/>
                      <a:pt x="301" y="1431"/>
                    </a:cubicBezTo>
                    <a:cubicBezTo>
                      <a:pt x="168" y="1492"/>
                      <a:pt x="42" y="1479"/>
                      <a:pt x="21" y="1402"/>
                    </a:cubicBezTo>
                    <a:cubicBezTo>
                      <a:pt x="0" y="1325"/>
                      <a:pt x="78" y="1204"/>
                      <a:pt x="174" y="971"/>
                    </a:cubicBezTo>
                    <a:cubicBezTo>
                      <a:pt x="271" y="737"/>
                      <a:pt x="512" y="202"/>
                      <a:pt x="601" y="0"/>
                    </a:cubicBezTo>
                  </a:path>
                </a:pathLst>
              </a:custGeom>
              <a:noFill/>
              <a:ln w="15228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9"/>
              <p:cNvSpPr/>
              <p:nvPr/>
            </p:nvSpPr>
            <p:spPr>
              <a:xfrm>
                <a:off x="5138640" y="2708280"/>
                <a:ext cx="1289160" cy="2068560"/>
              </a:xfrm>
              <a:custGeom>
                <a:avLst/>
                <a:gdLst>
                  <a:gd name="textAreaLeft" fmla="*/ 0 w 1289160"/>
                  <a:gd name="textAreaRight" fmla="*/ 1289520 w 1289160"/>
                  <a:gd name="textAreaTop" fmla="*/ 0 h 2068560"/>
                  <a:gd name="textAreaBottom" fmla="*/ 2068920 h 2068560"/>
                </a:gdLst>
                <a:ahLst/>
                <a:rect l="textAreaLeft" t="textAreaTop" r="textAreaRight" b="textAreaBottom"/>
                <a:pathLst>
                  <a:path w="822" h="1492">
                    <a:moveTo>
                      <a:pt x="822" y="1038"/>
                    </a:moveTo>
                    <a:cubicBezTo>
                      <a:pt x="735" y="1103"/>
                      <a:pt x="434" y="1370"/>
                      <a:pt x="301" y="1431"/>
                    </a:cubicBezTo>
                    <a:cubicBezTo>
                      <a:pt x="168" y="1492"/>
                      <a:pt x="42" y="1479"/>
                      <a:pt x="21" y="1402"/>
                    </a:cubicBezTo>
                    <a:cubicBezTo>
                      <a:pt x="0" y="1325"/>
                      <a:pt x="78" y="1204"/>
                      <a:pt x="174" y="971"/>
                    </a:cubicBezTo>
                    <a:cubicBezTo>
                      <a:pt x="271" y="737"/>
                      <a:pt x="512" y="202"/>
                      <a:pt x="601" y="0"/>
                    </a:cubicBezTo>
                  </a:path>
                </a:pathLst>
              </a:custGeom>
              <a:noFill/>
              <a:ln w="15228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10"/>
              <p:cNvSpPr/>
              <p:nvPr/>
            </p:nvSpPr>
            <p:spPr>
              <a:xfrm>
                <a:off x="7237440" y="2708280"/>
                <a:ext cx="1289160" cy="2068560"/>
              </a:xfrm>
              <a:custGeom>
                <a:avLst/>
                <a:gdLst>
                  <a:gd name="textAreaLeft" fmla="*/ 0 w 1289160"/>
                  <a:gd name="textAreaRight" fmla="*/ 1289520 w 1289160"/>
                  <a:gd name="textAreaTop" fmla="*/ 0 h 2068560"/>
                  <a:gd name="textAreaBottom" fmla="*/ 2068920 h 2068560"/>
                </a:gdLst>
                <a:ahLst/>
                <a:rect l="textAreaLeft" t="textAreaTop" r="textAreaRight" b="textAreaBottom"/>
                <a:pathLst>
                  <a:path w="822" h="1492">
                    <a:moveTo>
                      <a:pt x="822" y="1038"/>
                    </a:moveTo>
                    <a:cubicBezTo>
                      <a:pt x="735" y="1103"/>
                      <a:pt x="434" y="1370"/>
                      <a:pt x="301" y="1431"/>
                    </a:cubicBezTo>
                    <a:cubicBezTo>
                      <a:pt x="168" y="1492"/>
                      <a:pt x="42" y="1479"/>
                      <a:pt x="21" y="1402"/>
                    </a:cubicBezTo>
                    <a:cubicBezTo>
                      <a:pt x="0" y="1325"/>
                      <a:pt x="78" y="1204"/>
                      <a:pt x="174" y="971"/>
                    </a:cubicBezTo>
                    <a:cubicBezTo>
                      <a:pt x="271" y="737"/>
                      <a:pt x="512" y="202"/>
                      <a:pt x="601" y="0"/>
                    </a:cubicBezTo>
                  </a:path>
                </a:pathLst>
              </a:custGeom>
              <a:noFill/>
              <a:ln w="15228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AutoShape 11"/>
              <p:cNvSpPr/>
              <p:nvPr/>
            </p:nvSpPr>
            <p:spPr>
              <a:xfrm>
                <a:off x="6012000" y="2635200"/>
                <a:ext cx="144360" cy="144360"/>
              </a:xfrm>
              <a:prstGeom prst="flowChartConnector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AutoShape 12"/>
              <p:cNvSpPr/>
              <p:nvPr/>
            </p:nvSpPr>
            <p:spPr>
              <a:xfrm>
                <a:off x="6946920" y="2637000"/>
                <a:ext cx="144360" cy="144360"/>
              </a:xfrm>
              <a:prstGeom prst="flowChartConnector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AutoShape 13"/>
              <p:cNvSpPr/>
              <p:nvPr/>
            </p:nvSpPr>
            <p:spPr>
              <a:xfrm>
                <a:off x="8101080" y="2637000"/>
                <a:ext cx="144360" cy="144360"/>
              </a:xfrm>
              <a:prstGeom prst="flowChartConnector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Freeform 14"/>
            <p:cNvSpPr/>
            <p:nvPr/>
          </p:nvSpPr>
          <p:spPr>
            <a:xfrm>
              <a:off x="7531200" y="4229280"/>
              <a:ext cx="1139760" cy="1814400"/>
            </a:xfrm>
            <a:custGeom>
              <a:avLst/>
              <a:gdLst>
                <a:gd name="textAreaLeft" fmla="*/ 0 w 1139760"/>
                <a:gd name="textAreaRight" fmla="*/ 1139760 w 1139760"/>
                <a:gd name="textAreaTop" fmla="*/ 0 h 1814400"/>
                <a:gd name="textAreaBottom" fmla="*/ 1814760 h 1814400"/>
              </a:gdLst>
              <a:ahLst/>
              <a:rect l="textAreaLeft" t="textAreaTop" r="textAreaRight" b="textAreaBottom"/>
              <a:pathLst>
                <a:path w="718" h="1095">
                  <a:moveTo>
                    <a:pt x="718" y="113"/>
                  </a:moveTo>
                  <a:cubicBezTo>
                    <a:pt x="636" y="180"/>
                    <a:pt x="342" y="393"/>
                    <a:pt x="223" y="515"/>
                  </a:cubicBezTo>
                  <a:cubicBezTo>
                    <a:pt x="104" y="637"/>
                    <a:pt x="6" y="771"/>
                    <a:pt x="3" y="844"/>
                  </a:cubicBezTo>
                  <a:cubicBezTo>
                    <a:pt x="0" y="917"/>
                    <a:pt x="114" y="1095"/>
                    <a:pt x="206" y="954"/>
                  </a:cubicBezTo>
                  <a:cubicBezTo>
                    <a:pt x="298" y="813"/>
                    <a:pt x="482" y="199"/>
                    <a:pt x="554" y="0"/>
                  </a:cubicBezTo>
                </a:path>
              </a:pathLst>
            </a:custGeom>
            <a:noFill/>
            <a:ln w="152280">
              <a:solidFill>
                <a:srgbClr val="009d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15"/>
          <p:cNvGrpSpPr/>
          <p:nvPr/>
        </p:nvGrpSpPr>
        <p:grpSpPr>
          <a:xfrm>
            <a:off x="382680" y="447840"/>
            <a:ext cx="4332240" cy="5608440"/>
            <a:chOff x="382680" y="447840"/>
            <a:chExt cx="4332240" cy="5608440"/>
          </a:xfrm>
        </p:grpSpPr>
        <p:grpSp>
          <p:nvGrpSpPr>
            <p:cNvPr id="261" name="Group 16"/>
            <p:cNvGrpSpPr/>
            <p:nvPr/>
          </p:nvGrpSpPr>
          <p:grpSpPr>
            <a:xfrm>
              <a:off x="382680" y="447840"/>
              <a:ext cx="4332240" cy="4372920"/>
              <a:chOff x="382680" y="447840"/>
              <a:chExt cx="4332240" cy="4372920"/>
            </a:xfrm>
          </p:grpSpPr>
          <p:sp>
            <p:nvSpPr>
              <p:cNvPr id="262" name="Freeform 17"/>
              <p:cNvSpPr/>
              <p:nvPr/>
            </p:nvSpPr>
            <p:spPr>
              <a:xfrm>
                <a:off x="455760" y="461880"/>
                <a:ext cx="1795320" cy="4358880"/>
              </a:xfrm>
              <a:custGeom>
                <a:avLst/>
                <a:gdLst>
                  <a:gd name="textAreaLeft" fmla="*/ 0 w 1795320"/>
                  <a:gd name="textAreaRight" fmla="*/ 1795680 w 1795320"/>
                  <a:gd name="textAreaTop" fmla="*/ 0 h 4358880"/>
                  <a:gd name="textAreaBottom" fmla="*/ 4359240 h 4358880"/>
                </a:gdLst>
                <a:ahLst/>
                <a:rect l="textAreaLeft" t="textAreaTop" r="textAreaRight" b="textAreaBottom"/>
                <a:pathLst>
                  <a:path w="1131" h="2746">
                    <a:moveTo>
                      <a:pt x="888" y="2341"/>
                    </a:moveTo>
                    <a:cubicBezTo>
                      <a:pt x="784" y="2403"/>
                      <a:pt x="395" y="2678"/>
                      <a:pt x="259" y="2712"/>
                    </a:cubicBezTo>
                    <a:cubicBezTo>
                      <a:pt x="123" y="2746"/>
                      <a:pt x="60" y="2697"/>
                      <a:pt x="74" y="2546"/>
                    </a:cubicBezTo>
                    <a:cubicBezTo>
                      <a:pt x="88" y="2395"/>
                      <a:pt x="184" y="2171"/>
                      <a:pt x="344" y="1806"/>
                    </a:cubicBezTo>
                    <a:cubicBezTo>
                      <a:pt x="504" y="1441"/>
                      <a:pt x="937" y="654"/>
                      <a:pt x="1034" y="358"/>
                    </a:cubicBezTo>
                    <a:cubicBezTo>
                      <a:pt x="1131" y="62"/>
                      <a:pt x="1008" y="64"/>
                      <a:pt x="927" y="32"/>
                    </a:cubicBezTo>
                    <a:cubicBezTo>
                      <a:pt x="846" y="0"/>
                      <a:pt x="703" y="86"/>
                      <a:pt x="549" y="166"/>
                    </a:cubicBezTo>
                    <a:cubicBezTo>
                      <a:pt x="395" y="246"/>
                      <a:pt x="114" y="442"/>
                      <a:pt x="0" y="514"/>
                    </a:cubicBezTo>
                  </a:path>
                </a:pathLst>
              </a:custGeom>
              <a:noFill/>
              <a:ln w="15228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18"/>
              <p:cNvSpPr/>
              <p:nvPr/>
            </p:nvSpPr>
            <p:spPr>
              <a:xfrm>
                <a:off x="2998800" y="529920"/>
                <a:ext cx="1644480" cy="4289040"/>
              </a:xfrm>
              <a:custGeom>
                <a:avLst/>
                <a:gdLst>
                  <a:gd name="textAreaLeft" fmla="*/ 0 w 1644480"/>
                  <a:gd name="textAreaRight" fmla="*/ 1644840 w 1644480"/>
                  <a:gd name="textAreaTop" fmla="*/ 0 h 4289040"/>
                  <a:gd name="textAreaBottom" fmla="*/ 4289040 h 4289040"/>
                </a:gdLst>
                <a:ahLst/>
                <a:rect l="textAreaLeft" t="textAreaTop" r="textAreaRight" b="textAreaBottom"/>
                <a:pathLst>
                  <a:path w="1036" h="2607">
                    <a:moveTo>
                      <a:pt x="834" y="2200"/>
                    </a:moveTo>
                    <a:cubicBezTo>
                      <a:pt x="728" y="2262"/>
                      <a:pt x="336" y="2539"/>
                      <a:pt x="199" y="2573"/>
                    </a:cubicBezTo>
                    <a:cubicBezTo>
                      <a:pt x="62" y="2607"/>
                      <a:pt x="0" y="2558"/>
                      <a:pt x="14" y="2407"/>
                    </a:cubicBezTo>
                    <a:cubicBezTo>
                      <a:pt x="28" y="2256"/>
                      <a:pt x="114" y="2068"/>
                      <a:pt x="284" y="1667"/>
                    </a:cubicBezTo>
                    <a:cubicBezTo>
                      <a:pt x="454" y="1266"/>
                      <a:pt x="879" y="347"/>
                      <a:pt x="1036" y="0"/>
                    </a:cubicBezTo>
                  </a:path>
                </a:pathLst>
              </a:custGeom>
              <a:noFill/>
              <a:ln w="15228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AutoShape 19"/>
              <p:cNvSpPr/>
              <p:nvPr/>
            </p:nvSpPr>
            <p:spPr>
              <a:xfrm>
                <a:off x="382680" y="1168200"/>
                <a:ext cx="144360" cy="144000"/>
              </a:xfrm>
              <a:prstGeom prst="flowChartConnector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AutoShape 20"/>
              <p:cNvSpPr/>
              <p:nvPr/>
            </p:nvSpPr>
            <p:spPr>
              <a:xfrm>
                <a:off x="4570560" y="447840"/>
                <a:ext cx="144360" cy="144000"/>
              </a:xfrm>
              <a:prstGeom prst="flowChartConnector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21"/>
              <p:cNvSpPr/>
              <p:nvPr/>
            </p:nvSpPr>
            <p:spPr>
              <a:xfrm>
                <a:off x="1785960" y="529920"/>
                <a:ext cx="1644480" cy="4279680"/>
              </a:xfrm>
              <a:custGeom>
                <a:avLst/>
                <a:gdLst>
                  <a:gd name="textAreaLeft" fmla="*/ 0 w 1644480"/>
                  <a:gd name="textAreaRight" fmla="*/ 1644840 w 1644480"/>
                  <a:gd name="textAreaTop" fmla="*/ 0 h 4279680"/>
                  <a:gd name="textAreaBottom" fmla="*/ 4280040 h 4279680"/>
                </a:gdLst>
                <a:ahLst/>
                <a:rect l="textAreaLeft" t="textAreaTop" r="textAreaRight" b="textAreaBottom"/>
                <a:pathLst>
                  <a:path w="1036" h="2607">
                    <a:moveTo>
                      <a:pt x="834" y="2200"/>
                    </a:moveTo>
                    <a:cubicBezTo>
                      <a:pt x="728" y="2262"/>
                      <a:pt x="336" y="2539"/>
                      <a:pt x="199" y="2573"/>
                    </a:cubicBezTo>
                    <a:cubicBezTo>
                      <a:pt x="62" y="2607"/>
                      <a:pt x="0" y="2558"/>
                      <a:pt x="14" y="2407"/>
                    </a:cubicBezTo>
                    <a:cubicBezTo>
                      <a:pt x="28" y="2256"/>
                      <a:pt x="114" y="2068"/>
                      <a:pt x="284" y="1667"/>
                    </a:cubicBezTo>
                    <a:cubicBezTo>
                      <a:pt x="454" y="1266"/>
                      <a:pt x="879" y="347"/>
                      <a:pt x="1036" y="0"/>
                    </a:cubicBezTo>
                  </a:path>
                </a:pathLst>
              </a:custGeom>
              <a:noFill/>
              <a:ln w="15228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AutoShape 22"/>
              <p:cNvSpPr/>
              <p:nvPr/>
            </p:nvSpPr>
            <p:spPr>
              <a:xfrm>
                <a:off x="3357720" y="447840"/>
                <a:ext cx="144360" cy="144000"/>
              </a:xfrm>
              <a:prstGeom prst="flowChartConnector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23"/>
            <p:cNvSpPr/>
            <p:nvPr/>
          </p:nvSpPr>
          <p:spPr>
            <a:xfrm>
              <a:off x="3430440" y="4229280"/>
              <a:ext cx="1140120" cy="1827000"/>
            </a:xfrm>
            <a:custGeom>
              <a:avLst/>
              <a:gdLst>
                <a:gd name="textAreaLeft" fmla="*/ 0 w 1140120"/>
                <a:gd name="textAreaRight" fmla="*/ 1140480 w 1140120"/>
                <a:gd name="textAreaTop" fmla="*/ 0 h 1827000"/>
                <a:gd name="textAreaBottom" fmla="*/ 1827360 h 1827000"/>
              </a:gdLst>
              <a:ahLst/>
              <a:rect l="textAreaLeft" t="textAreaTop" r="textAreaRight" b="textAreaBottom"/>
              <a:pathLst>
                <a:path w="718" h="1151">
                  <a:moveTo>
                    <a:pt x="718" y="161"/>
                  </a:moveTo>
                  <a:cubicBezTo>
                    <a:pt x="636" y="228"/>
                    <a:pt x="342" y="441"/>
                    <a:pt x="223" y="563"/>
                  </a:cubicBezTo>
                  <a:cubicBezTo>
                    <a:pt x="104" y="685"/>
                    <a:pt x="6" y="819"/>
                    <a:pt x="3" y="892"/>
                  </a:cubicBezTo>
                  <a:cubicBezTo>
                    <a:pt x="0" y="965"/>
                    <a:pt x="121" y="1151"/>
                    <a:pt x="206" y="1002"/>
                  </a:cubicBezTo>
                  <a:cubicBezTo>
                    <a:pt x="291" y="853"/>
                    <a:pt x="451" y="209"/>
                    <a:pt x="515" y="0"/>
                  </a:cubicBezTo>
                </a:path>
              </a:pathLst>
            </a:custGeom>
            <a:noFill/>
            <a:ln w="152280">
              <a:solidFill>
                <a:srgbClr val="009d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AutoShape 24"/>
          <p:cNvSpPr/>
          <p:nvPr/>
        </p:nvSpPr>
        <p:spPr>
          <a:xfrm rot="12875400">
            <a:off x="414360" y="1469520"/>
            <a:ext cx="876240" cy="73080"/>
          </a:xfrm>
          <a:custGeom>
            <a:avLst/>
            <a:gdLst>
              <a:gd name="textAreaLeft" fmla="*/ 0 w 876240"/>
              <a:gd name="textAreaRight" fmla="*/ 876600 w 87624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3.46821E-007 C 0.03021 -0.01179 0.17466 -0.13064 0.18073 -0.07052 C 0.18681 -0.0104 0.06598 0.26798 0.03629 0.36069 C 0.0066 0.45341 0.00608 0.4578 0.00295 0.48555 C -0.00017 0.5133 -0.00312 0.52902 0.01719 0.52786 C 0.0375 0.52671 0.10278 0.48925 0.12518 0.47908 E">
                                      <p:cBhvr>
                                        <p:cTn id="21" dur="5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834 -0.07884 C 0.22466 0.1563 0.14098 0.39168 0.13542 0.48116 C 0.12986 0.57064 0.25174 0.46197 0.275 0.45804 E">
                                      <p:cBhvr>
                                        <p:cTn id="24" dur="5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122 -0.09156 C 0.42309 -0.00532000000000001 0.30782 0.32439 0.28455 0.42613 C 0.26129 0.52786 0.2915 0.51769 0.31164 0.51931 C 0.33177 0.52069 0.39775 0.40971 0.40521 0.43468 C 0.41268 0.45942 0.37188 0.63561 0.35608 0.66936 C 0.34028 0.70312 0.2974 0.66821 0.31007 0.63769 C 0.32275 0.60717 0.40677 0.51723 0.43229 0.48555 E">
                                      <p:cBhvr>
                                        <p:cTn id="27" dur="5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0799 0.21272 C 0.59236 0.25503 0.52761 0.41387 0.51441 0.46636 C 0.50122 0.51884 0.50729 0.53295 0.52865 0.52763 C 0.55 0.52231 0.61927 0.4541 0.64306 0.43468 E">
                                      <p:cBhvr>
                                        <p:cTn id="30" dur="5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0834 0.21711 C 0.69479 0.26682 0.61789 0.47954 0.62743 0.51514 C 0.63698 0.55075 0.73681 0.44809 0.76563 0.43052 E">
                                      <p:cBhvr>
                                        <p:cTn id="33" dur="5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2917 0.21711 C 0.82118 0.23977 0.79532 0.30751 0.78004 0.35283 C 0.76476 0.39815 0.74462 0.46058 0.73716 0.48971 C 0.72969 0.51884 0.73143 0.51977 0.73559 0.52786 C 0.73976 0.53595 0.74271 0.55191 0.7625 0.53827 C 0.78229 0.52462 0.84896 0.42312 0.85452 0.44532 C 0.86007 0.46751 0.81094 0.64439 0.79566 0.67145 C 0.78039 0.6985 0.74757 0.63977 0.76233 0.60809 C 0.77709 0.57642 0.85903 0.50751 0.88455 0.48116 E">
                                      <p:cBhvr>
                                        <p:cTn id="36" dur="5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C:\Documents and Settings\Admin\Рабочий стол\ча-ща\часы.jpg"/>
          <p:cNvPicPr/>
          <p:nvPr/>
        </p:nvPicPr>
        <p:blipFill>
          <a:blip r:embed="rId1"/>
          <a:stretch/>
        </p:blipFill>
        <p:spPr>
          <a:xfrm>
            <a:off x="857160" y="1714680"/>
            <a:ext cx="2643120" cy="25714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" descr="C:\Documents and Settings\Admin\Рабочий стол\ча-ща\шкаф.jpg"/>
          <p:cNvPicPr/>
          <p:nvPr/>
        </p:nvPicPr>
        <p:blipFill>
          <a:blip r:embed="rId2"/>
          <a:stretch/>
        </p:blipFill>
        <p:spPr>
          <a:xfrm>
            <a:off x="5143680" y="1785960"/>
            <a:ext cx="2286000" cy="2500200"/>
          </a:xfrm>
          <a:prstGeom prst="rect">
            <a:avLst/>
          </a:prstGeom>
          <a:ln w="0">
            <a:noFill/>
          </a:ln>
        </p:spPr>
      </p:pic>
      <p:sp>
        <p:nvSpPr>
          <p:cNvPr id="272" name="TextBox 3"/>
          <p:cNvSpPr/>
          <p:nvPr/>
        </p:nvSpPr>
        <p:spPr>
          <a:xfrm>
            <a:off x="3571920" y="785880"/>
            <a:ext cx="1071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onstantia"/>
              </a:rPr>
              <a:t>,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4"/>
          <p:cNvSpPr/>
          <p:nvPr/>
        </p:nvSpPr>
        <p:spPr>
          <a:xfrm>
            <a:off x="7715160" y="714240"/>
            <a:ext cx="7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onstantia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6"/>
          <p:cNvSpPr/>
          <p:nvPr/>
        </p:nvSpPr>
        <p:spPr>
          <a:xfrm>
            <a:off x="2786040" y="5143680"/>
            <a:ext cx="3429000" cy="914400"/>
          </a:xfrm>
          <a:prstGeom prst="rect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nstantia"/>
              </a:rPr>
              <a:t>Ч</a:t>
            </a:r>
            <a:r>
              <a:rPr b="1" lang="ru-RU" sz="5400" spc="-1" strike="noStrike">
                <a:solidFill>
                  <a:srgbClr val="ff0000"/>
                </a:solidFill>
                <a:latin typeface="Constantia"/>
              </a:rPr>
              <a:t>А</a:t>
            </a:r>
            <a:r>
              <a:rPr b="1" lang="ru-RU" sz="5400" spc="-1" strike="noStrike">
                <a:solidFill>
                  <a:srgbClr val="000000"/>
                </a:solidFill>
                <a:latin typeface="Constantia"/>
              </a:rPr>
              <a:t>Ш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Box 1"/>
          <p:cNvSpPr/>
          <p:nvPr/>
        </p:nvSpPr>
        <p:spPr>
          <a:xfrm>
            <a:off x="1857240" y="2143080"/>
            <a:ext cx="171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onstantia"/>
              </a:rPr>
              <a:t>Щ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2"/>
          <p:cNvSpPr/>
          <p:nvPr/>
        </p:nvSpPr>
        <p:spPr>
          <a:xfrm>
            <a:off x="3500280" y="1071720"/>
            <a:ext cx="536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onstantia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2" descr="C:\Documents and Settings\Admin\Рабочий стол\ча-ща\рука.jpg"/>
          <p:cNvPicPr/>
          <p:nvPr/>
        </p:nvPicPr>
        <p:blipFill>
          <a:blip r:embed="rId1"/>
          <a:stretch/>
        </p:blipFill>
        <p:spPr>
          <a:xfrm>
            <a:off x="4071960" y="2143080"/>
            <a:ext cx="1396800" cy="1397160"/>
          </a:xfrm>
          <a:prstGeom prst="rect">
            <a:avLst/>
          </a:prstGeom>
          <a:ln w="0">
            <a:noFill/>
          </a:ln>
        </p:spPr>
      </p:pic>
      <p:sp>
        <p:nvSpPr>
          <p:cNvPr id="278" name="Прямоугольник 4"/>
          <p:cNvSpPr/>
          <p:nvPr/>
        </p:nvSpPr>
        <p:spPr>
          <a:xfrm>
            <a:off x="2786040" y="4643280"/>
            <a:ext cx="3071880" cy="914400"/>
          </a:xfrm>
          <a:prstGeom prst="rect">
            <a:avLst/>
          </a:prstGeom>
          <a:solidFill>
            <a:srgbClr val="77d9e8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nstantia"/>
              </a:rPr>
              <a:t>Щ</a:t>
            </a:r>
            <a:r>
              <a:rPr b="1" lang="ru-RU" sz="6000" spc="-1" strike="noStrike">
                <a:solidFill>
                  <a:srgbClr val="ff0000"/>
                </a:solidFill>
                <a:latin typeface="Constantia"/>
              </a:rPr>
              <a:t>У</a:t>
            </a:r>
            <a:r>
              <a:rPr b="1" lang="ru-RU" sz="6000" spc="-1" strike="noStrike">
                <a:solidFill>
                  <a:srgbClr val="000000"/>
                </a:solidFill>
                <a:latin typeface="Constantia"/>
              </a:rPr>
              <a:t>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C:\Documents and Settings\Admin\Рабочий стол\ча-ща\волк.jpg"/>
          <p:cNvPicPr/>
          <p:nvPr/>
        </p:nvPicPr>
        <p:blipFill>
          <a:blip r:embed="rId1"/>
          <a:stretch/>
        </p:blipFill>
        <p:spPr>
          <a:xfrm>
            <a:off x="357120" y="714240"/>
            <a:ext cx="2714760" cy="19288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3" descr="C:\Documents and Settings\Admin\Рабочий стол\ча-ща\заяц.jpg"/>
          <p:cNvPicPr/>
          <p:nvPr/>
        </p:nvPicPr>
        <p:blipFill>
          <a:blip r:embed="rId2"/>
          <a:stretch/>
        </p:blipFill>
        <p:spPr>
          <a:xfrm>
            <a:off x="6000840" y="857160"/>
            <a:ext cx="2786040" cy="18576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4" descr="C:\Documents and Settings\Admin\Рабочий стол\ча-ща\сорока.jpg"/>
          <p:cNvPicPr/>
          <p:nvPr/>
        </p:nvPicPr>
        <p:blipFill>
          <a:blip r:embed="rId3"/>
          <a:stretch/>
        </p:blipFill>
        <p:spPr>
          <a:xfrm>
            <a:off x="3000240" y="2786040"/>
            <a:ext cx="2571840" cy="175248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5" descr="C:\Documents and Settings\Admin\Рабочий стол\ча-ща\галка.gif"/>
          <p:cNvPicPr/>
          <p:nvPr/>
        </p:nvPicPr>
        <p:blipFill>
          <a:blip r:embed="rId4"/>
          <a:stretch/>
        </p:blipFill>
        <p:spPr>
          <a:xfrm>
            <a:off x="285840" y="4643280"/>
            <a:ext cx="2500200" cy="19288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6" descr="C:\Documents and Settings\Admin\Рабочий стол\ча-ща\белка.jpg"/>
          <p:cNvPicPr/>
          <p:nvPr/>
        </p:nvPicPr>
        <p:blipFill>
          <a:blip r:embed="rId5"/>
          <a:stretch/>
        </p:blipFill>
        <p:spPr>
          <a:xfrm>
            <a:off x="5715000" y="4429080"/>
            <a:ext cx="317484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Прямоугольник 1"/>
          <p:cNvSpPr/>
          <p:nvPr/>
        </p:nvSpPr>
        <p:spPr>
          <a:xfrm>
            <a:off x="2143080" y="857160"/>
            <a:ext cx="1357200" cy="914400"/>
          </a:xfrm>
          <a:prstGeom prst="rect">
            <a:avLst/>
          </a:prstGeom>
          <a:solidFill>
            <a:srgbClr val="5ef0f7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Щ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2"/>
          <p:cNvSpPr/>
          <p:nvPr/>
        </p:nvSpPr>
        <p:spPr>
          <a:xfrm>
            <a:off x="2214720" y="3429000"/>
            <a:ext cx="1357200" cy="914400"/>
          </a:xfrm>
          <a:prstGeom prst="rect">
            <a:avLst/>
          </a:prstGeom>
          <a:solidFill>
            <a:srgbClr val="5ef0f7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В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3"/>
          <p:cNvSpPr/>
          <p:nvPr/>
        </p:nvSpPr>
        <p:spPr>
          <a:xfrm>
            <a:off x="571680" y="5286240"/>
            <a:ext cx="1357200" cy="914400"/>
          </a:xfrm>
          <a:prstGeom prst="rect">
            <a:avLst/>
          </a:prstGeom>
          <a:solidFill>
            <a:srgbClr val="5ef0f7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Ч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4"/>
          <p:cNvSpPr/>
          <p:nvPr/>
        </p:nvSpPr>
        <p:spPr>
          <a:xfrm>
            <a:off x="3857760" y="2000160"/>
            <a:ext cx="1357200" cy="914400"/>
          </a:xfrm>
          <a:prstGeom prst="rect">
            <a:avLst/>
          </a:prstGeom>
          <a:solidFill>
            <a:srgbClr val="5ef0f7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5"/>
          <p:cNvSpPr/>
          <p:nvPr/>
        </p:nvSpPr>
        <p:spPr>
          <a:xfrm>
            <a:off x="5572080" y="3071880"/>
            <a:ext cx="1357200" cy="914400"/>
          </a:xfrm>
          <a:prstGeom prst="rect">
            <a:avLst/>
          </a:prstGeom>
          <a:solidFill>
            <a:srgbClr val="5ef0f7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Ч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оугольник 6"/>
          <p:cNvSpPr/>
          <p:nvPr/>
        </p:nvSpPr>
        <p:spPr>
          <a:xfrm>
            <a:off x="4572000" y="5072040"/>
            <a:ext cx="1357200" cy="914400"/>
          </a:xfrm>
          <a:prstGeom prst="rect">
            <a:avLst/>
          </a:prstGeom>
          <a:solidFill>
            <a:srgbClr val="5ef0f7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Л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оугольник 7"/>
          <p:cNvSpPr/>
          <p:nvPr/>
        </p:nvSpPr>
        <p:spPr>
          <a:xfrm>
            <a:off x="7286760" y="1428840"/>
            <a:ext cx="1357200" cy="914400"/>
          </a:xfrm>
          <a:prstGeom prst="rect">
            <a:avLst/>
          </a:prstGeom>
          <a:solidFill>
            <a:srgbClr val="5ef0f7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ямоугольник 8"/>
          <p:cNvSpPr/>
          <p:nvPr/>
        </p:nvSpPr>
        <p:spPr>
          <a:xfrm>
            <a:off x="7286760" y="4714920"/>
            <a:ext cx="1357200" cy="914400"/>
          </a:xfrm>
          <a:prstGeom prst="rect">
            <a:avLst/>
          </a:prstGeom>
          <a:solidFill>
            <a:srgbClr val="5ef0f7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Щ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Box 1"/>
          <p:cNvSpPr/>
          <p:nvPr/>
        </p:nvSpPr>
        <p:spPr>
          <a:xfrm>
            <a:off x="642960" y="207180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</a:t>
            </a:r>
            <a:r>
              <a:rPr b="1" lang="ru-RU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2"/>
          <p:cNvSpPr/>
          <p:nvPr/>
        </p:nvSpPr>
        <p:spPr>
          <a:xfrm>
            <a:off x="5214960" y="1785960"/>
            <a:ext cx="46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2" descr="C:\Documents and Settings\Admin\Рабочий стол\ча-ща\120px-Rumex_acetosa_cultivar_01.jpg"/>
          <p:cNvPicPr/>
          <p:nvPr/>
        </p:nvPicPr>
        <p:blipFill>
          <a:blip r:embed="rId1"/>
          <a:stretch/>
        </p:blipFill>
        <p:spPr>
          <a:xfrm>
            <a:off x="2214720" y="4071960"/>
            <a:ext cx="44290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" dur="2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2T14:45:25Z</dcterms:created>
  <dc:creator>Admin</dc:creator>
  <dc:description/>
  <dc:language>en-US</dc:language>
  <cp:lastModifiedBy>Юлия</cp:lastModifiedBy>
  <dcterms:modified xsi:type="dcterms:W3CDTF">2019-02-11T16:47:52Z</dcterms:modified>
  <cp:revision>15</cp:revision>
  <dc:subject/>
  <dc:title>Слайд 1</dc:title>
</cp:coreProperties>
</file>