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85C-EA8E-48BD-ADCD-482C9FDF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091-497F-490D-98DC-547BCC83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F54-1825-4028-AA55-39EE1358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0D52-859B-4761-B2E0-03E12B9A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16C-A82A-4475-9D61-0401E0AD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B29-9DE4-4F0A-8163-D7AD6A98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D6C-0B9A-4463-B959-D399BE0F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DE1F-D874-4BCD-986D-76D91551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C8C0-D7B3-488F-9148-3D29C37C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EC83-8984-46AC-A5A4-3209DA2E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22ED-ECB8-4EBB-A76D-92C436A0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9AB2-D752-498C-B248-9A1234BF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6E30-21C3-4D28-970E-D7F120A6A6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Предметно-развивающая сред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2"/>
          <a:stretch/>
        </p:blipFill>
        <p:spPr>
          <a:xfrm>
            <a:off x="0" y="0"/>
            <a:ext cx="5243400" cy="39337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"/>
          <p:cNvPicPr/>
          <p:nvPr/>
        </p:nvPicPr>
        <p:blipFill>
          <a:blip r:embed="rId3"/>
          <a:stretch/>
        </p:blipFill>
        <p:spPr>
          <a:xfrm>
            <a:off x="3059280" y="2795760"/>
            <a:ext cx="60735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Объект 3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ытовая зона </a:t>
            </a:r>
            <a:br>
              <a:rPr sz="3200"/>
            </a:b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ние общей культуры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навыков самообслуживания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мотивации к взаимопомощ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мпоненты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нитарный уголок (место хранения веника, совка, ведра и др.)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отенца (лучше бумажные), салфетки,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уалетная бумага; зеркало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Объект 3" descr=""/>
          <p:cNvPicPr/>
          <p:nvPr/>
        </p:nvPicPr>
        <p:blipFill>
          <a:blip r:embed="rId2"/>
          <a:stretch/>
        </p:blipFill>
        <p:spPr>
          <a:xfrm>
            <a:off x="0" y="0"/>
            <a:ext cx="5435640" cy="40766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"/>
          <p:cNvPicPr/>
          <p:nvPr/>
        </p:nvPicPr>
        <p:blipFill>
          <a:blip r:embed="rId3"/>
          <a:stretch/>
        </p:blipFill>
        <p:spPr>
          <a:xfrm>
            <a:off x="3780000" y="3164040"/>
            <a:ext cx="53560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Объект 3" descr=""/>
          <p:cNvPicPr/>
          <p:nvPr/>
        </p:nvPicPr>
        <p:blipFill>
          <a:blip r:embed="rId1"/>
          <a:stretch/>
        </p:blipFill>
        <p:spPr>
          <a:xfrm>
            <a:off x="-1440" y="144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вигательная зон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и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ация потребности детей в движении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ятие физического напряжения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мпоненты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тивный комплекс «Мини-стадион»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хой бассейн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тивный инвентарь: обручи, гантели, скакалки, кегли, мячи для подскоков – «хопы»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мные модули для создания спортивно-игровой среды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Беговая дорожка», «Детский тренажер», массажные коври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Объект 3" descr=""/>
          <p:cNvPicPr/>
          <p:nvPr/>
        </p:nvPicPr>
        <p:blipFill>
          <a:blip r:embed="rId2"/>
          <a:stretch/>
        </p:blipFill>
        <p:spPr>
          <a:xfrm>
            <a:off x="-34920" y="0"/>
            <a:ext cx="5975280" cy="39574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"/>
          <p:cNvPicPr/>
          <p:nvPr/>
        </p:nvPicPr>
        <p:blipFill>
          <a:blip r:embed="rId3"/>
          <a:stretch/>
        </p:blipFill>
        <p:spPr>
          <a:xfrm>
            <a:off x="3782880" y="2836800"/>
            <a:ext cx="536112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овательная среда начальной школы способствует реализации творческих задатков и скрытых способностей детей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ивает высокий уровень знаний и постоянный интерес к ним, а также успешную адаптацию к новым условиям жизни, в частности, более, спокойный переход в среднюю школ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Объект 3" descr=""/>
          <p:cNvPicPr/>
          <p:nvPr/>
        </p:nvPicPr>
        <p:blipFill>
          <a:blip r:embed="rId1"/>
          <a:stretch/>
        </p:blipFill>
        <p:spPr>
          <a:xfrm>
            <a:off x="-115920" y="0"/>
            <a:ext cx="925992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Функции предметно-развивающей среды:</a:t>
            </a:r>
            <a:br>
              <a:rPr sz="4300"/>
            </a:b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*воспитывающая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*образовательно-развивающая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*организационная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-25560" y="189000"/>
            <a:ext cx="927756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5640" y="274320"/>
            <a:ext cx="633708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нцип дифференциац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звивающих зон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:</a:t>
            </a: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ова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ллектуальна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вигательна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ворческа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ытова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Соединительная линия уступом 8"/>
          <p:cNvCxnSpPr/>
          <p:nvPr/>
        </p:nvCxnSpPr>
        <p:spPr>
          <a:xfrm flipH="1" flipV="1" rot="10800000">
            <a:off x="2849040" y="1563480"/>
            <a:ext cx="1146960" cy="915120"/>
          </a:xfrm>
          <a:prstGeom prst="bentConnector3">
            <a:avLst>
              <a:gd name="adj1" fmla="val -1978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Соединительная линия уступом 14"/>
          <p:cNvCxnSpPr/>
          <p:nvPr/>
        </p:nvCxnSpPr>
        <p:spPr>
          <a:xfrm flipH="1" flipV="1" rot="10800000">
            <a:off x="2831760" y="2477880"/>
            <a:ext cx="714960" cy="664200"/>
          </a:xfrm>
          <a:prstGeom prst="bentConnector3">
            <a:avLst>
              <a:gd name="adj1" fmla="val -453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Соединительная линия уступом 17"/>
          <p:cNvCxnSpPr/>
          <p:nvPr/>
        </p:nvCxnSpPr>
        <p:spPr>
          <a:xfrm flipH="1" flipV="1" rot="10800000">
            <a:off x="2849040" y="3141360"/>
            <a:ext cx="1146960" cy="719640"/>
          </a:xfrm>
          <a:prstGeom prst="bentConnector3">
            <a:avLst>
              <a:gd name="adj1" fmla="val -320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Соединительная линия уступом 20"/>
          <p:cNvCxnSpPr/>
          <p:nvPr/>
        </p:nvCxnSpPr>
        <p:spPr>
          <a:xfrm flipH="1" flipV="1" rot="10800000">
            <a:off x="2828520" y="3860640"/>
            <a:ext cx="1650240" cy="648360"/>
          </a:xfrm>
          <a:prstGeom prst="bentConnector3">
            <a:avLst>
              <a:gd name="adj1" fmla="val -122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Соединительная линия уступом 23"/>
          <p:cNvCxnSpPr/>
          <p:nvPr/>
        </p:nvCxnSpPr>
        <p:spPr>
          <a:xfrm flipH="1" flipV="1" rot="10800000">
            <a:off x="2849040" y="4508280"/>
            <a:ext cx="1867680" cy="721440"/>
          </a:xfrm>
          <a:prstGeom prst="bentConnector3">
            <a:avLst>
              <a:gd name="adj1" fmla="val -196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гровая зона </a:t>
            </a: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и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овлетворение потребности детей в привлекательном виде деятельности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ствовать рациональному использованию свободного времен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мпоненты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дактические игры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ор магнитный по правилам дорожного движения, счетное лото, «Круговорот воды в природе» и др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ющие игры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Разборный домик», «Дачный домик», «Строитель», «Детский городок», «Старинный замок», «Юный архитектор», «Сложи узор», «Мозаика» и др. </a:t>
            </a:r>
            <a:br>
              <a:rPr sz="2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Равнобедренный треугольник 4"/>
          <p:cNvSpPr/>
          <p:nvPr/>
        </p:nvSpPr>
        <p:spPr>
          <a:xfrm>
            <a:off x="826920" y="2708280"/>
            <a:ext cx="144720" cy="216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817560" y="4005360"/>
            <a:ext cx="1652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2"/>
          <a:stretch/>
        </p:blipFill>
        <p:spPr>
          <a:xfrm>
            <a:off x="4379760" y="3240"/>
            <a:ext cx="4764240" cy="3786120"/>
          </a:xfrm>
          <a:prstGeom prst="rect">
            <a:avLst/>
          </a:prstGeom>
          <a:ln w="0">
            <a:noFill/>
          </a:ln>
        </p:spPr>
      </p:pic>
      <p:pic>
        <p:nvPicPr>
          <p:cNvPr id="60" name="Объект 3" descr=""/>
          <p:cNvPicPr/>
          <p:nvPr/>
        </p:nvPicPr>
        <p:blipFill>
          <a:blip r:embed="rId3"/>
          <a:stretch/>
        </p:blipFill>
        <p:spPr>
          <a:xfrm>
            <a:off x="0" y="0"/>
            <a:ext cx="4773600" cy="38228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"/>
          <p:cNvPicPr/>
          <p:nvPr/>
        </p:nvPicPr>
        <p:blipFill>
          <a:blip r:embed="rId4"/>
          <a:stretch/>
        </p:blipFill>
        <p:spPr>
          <a:xfrm>
            <a:off x="1476360" y="3645000"/>
            <a:ext cx="61912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-20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теллектуальная зона </a:t>
            </a: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и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условий для развития интереса к учебной деятельности в целом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овлетворение познавательной потребности каждого ребенка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интеллектуального взаимодействия 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мпоненты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дактический материал, классифицированный по предметам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метные уголки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ная библиотека 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"/>
          <p:cNvPicPr/>
          <p:nvPr/>
        </p:nvPicPr>
        <p:blipFill>
          <a:blip r:embed="rId2"/>
          <a:stretch/>
        </p:blipFill>
        <p:spPr>
          <a:xfrm>
            <a:off x="1805040" y="-31680"/>
            <a:ext cx="7338960" cy="4128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3"/>
          <a:stretch/>
        </p:blipFill>
        <p:spPr>
          <a:xfrm>
            <a:off x="0" y="2492280"/>
            <a:ext cx="58356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27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ворческая зона </a:t>
            </a: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ализация потребности в самовыражен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ние потребности в сотворчеств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мпоненты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л(ы) для творческой деятельности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сто для хранения материалов и инструментов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сто для организации выставка творческих работ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ериал для творчества: краски, карандаши, пластилин, ткань и др.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6T15:50:22Z</dcterms:created>
  <dc:creator>Юлия Воложанина</dc:creator>
  <dc:description/>
  <dc:language>en-US</dc:language>
  <cp:lastModifiedBy>Юля</cp:lastModifiedBy>
  <dcterms:modified xsi:type="dcterms:W3CDTF">2019-05-18T16:50:35Z</dcterms:modified>
  <cp:revision>12</cp:revision>
  <dc:subject/>
  <dc:title>Презентация PowerPoint</dc:title>
</cp:coreProperties>
</file>