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015-399F-4ED0-ADE5-3D462CFF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073-EA5C-42EA-9FD6-9951694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183-DC6B-417C-AC97-E892D147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DD3-8364-4CAF-94B7-5D0FF8FE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B87-BA75-4910-8581-ED6D78B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7ED-30B9-46B8-991B-96C32D4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3DC-354F-4F83-BB06-23936F3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B1A-F85C-4BD2-AD7A-B5D31FB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017-4BD6-426F-9332-BA5AF7B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1AA-BB48-4283-ABFA-293E288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0CA-A86E-4352-B788-5E2294F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A29-F285-4F74-B4DC-C960607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5C94-C98B-46E4-8723-268F3052E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редметно-развивающая сред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243400" cy="3933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3"/>
          <a:stretch/>
        </p:blipFill>
        <p:spPr>
          <a:xfrm>
            <a:off x="3059280" y="2795760"/>
            <a:ext cx="60735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овая зона </a:t>
            </a:r>
            <a:br>
              <a:rPr sz="32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общей культуры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навыков самообслуживания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отивации к взаимопомощ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тарный уголок (место хранения веника, совка, ведра и др.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тенца (лучше бумажные), салфет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алетная бумага; зеркал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4076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3780000" y="3164040"/>
            <a:ext cx="5356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-14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игательная з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потребности детей в движени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ие физического напряжени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ый комплекс «Мини-стадион»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хой бассейн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ый инвентарь: обручи, гантели, скакалки, кегли, мячи для подскоков – «хопы»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ые модули для создания спортивно-игровой среды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еговая дорожка», «Детский тренажер», массажные ковр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-34920" y="0"/>
            <a:ext cx="5975280" cy="3957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3"/>
          <a:stretch/>
        </p:blipFill>
        <p:spPr>
          <a:xfrm>
            <a:off x="3782880" y="2836800"/>
            <a:ext cx="53611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ая среда начальной школы способствует реализации творческих задатков и скрытых способностей дет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высокий уровень знаний и постоянный интерес к ним, а также успешную адаптацию к новым условиям жизни, в частности, более, спокойный переход в среднюю школ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-115920" y="0"/>
            <a:ext cx="925992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Функции предметно-развивающей среды:</a:t>
            </a:r>
            <a:br>
              <a:rPr sz="43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воспитывающа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образовательно-развивающа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организационна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-25560" y="189000"/>
            <a:ext cx="927756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274320"/>
            <a:ext cx="63370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нцип дифференциа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вающих з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ллектуальн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игательн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рческ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това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Соединительная линия уступом 8"/>
          <p:cNvCxnSpPr/>
          <p:nvPr/>
        </p:nvCxnSpPr>
        <p:spPr>
          <a:xfrm flipH="1" flipV="1" rot="10800000">
            <a:off x="2849040" y="1563480"/>
            <a:ext cx="1146960" cy="915120"/>
          </a:xfrm>
          <a:prstGeom prst="bentConnector3">
            <a:avLst>
              <a:gd name="adj1" fmla="val -197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Соединительная линия уступом 14"/>
          <p:cNvCxnSpPr/>
          <p:nvPr/>
        </p:nvCxnSpPr>
        <p:spPr>
          <a:xfrm flipH="1" flipV="1" rot="10800000">
            <a:off x="2831760" y="2477880"/>
            <a:ext cx="714960" cy="664200"/>
          </a:xfrm>
          <a:prstGeom prst="bentConnector3">
            <a:avLst>
              <a:gd name="adj1" fmla="val -45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Соединительная линия уступом 17"/>
          <p:cNvCxnSpPr/>
          <p:nvPr/>
        </p:nvCxnSpPr>
        <p:spPr>
          <a:xfrm flipH="1" flipV="1" rot="10800000">
            <a:off x="2849040" y="3141360"/>
            <a:ext cx="1146960" cy="719640"/>
          </a:xfrm>
          <a:prstGeom prst="bentConnector3">
            <a:avLst>
              <a:gd name="adj1" fmla="val -320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Соединительная линия уступом 20"/>
          <p:cNvCxnSpPr/>
          <p:nvPr/>
        </p:nvCxnSpPr>
        <p:spPr>
          <a:xfrm flipH="1" flipV="1" rot="10800000">
            <a:off x="2828520" y="3860640"/>
            <a:ext cx="1650240" cy="648360"/>
          </a:xfrm>
          <a:prstGeom prst="bentConnector3">
            <a:avLst>
              <a:gd name="adj1" fmla="val -122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Соединительная линия уступом 23"/>
          <p:cNvCxnSpPr/>
          <p:nvPr/>
        </p:nvCxnSpPr>
        <p:spPr>
          <a:xfrm flipH="1" flipV="1" rot="10800000">
            <a:off x="2849040" y="4508280"/>
            <a:ext cx="1867680" cy="721440"/>
          </a:xfrm>
          <a:prstGeom prst="bentConnector3">
            <a:avLst>
              <a:gd name="adj1" fmla="val -196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гровая зона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потребности детей в привлекательном виде деятельност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рациональному использованию свободного време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магнитный по правилам дорожного движения, счетное лото, «Круговорот воды в природе» и д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борный домик», «Дачный домик», «Строитель», «Детский городок», «Старинный замок», «Юный архитектор», «Сложи узор», «Мозаика» и др. </a:t>
            </a:r>
            <a:br>
              <a:rPr sz="2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4"/>
          <p:cNvSpPr/>
          <p:nvPr/>
        </p:nvSpPr>
        <p:spPr>
          <a:xfrm>
            <a:off x="826920" y="2708280"/>
            <a:ext cx="144720" cy="216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17560" y="4005360"/>
            <a:ext cx="1652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4379760" y="3240"/>
            <a:ext cx="4764240" cy="37861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3" descr=""/>
          <p:cNvPicPr/>
          <p:nvPr/>
        </p:nvPicPr>
        <p:blipFill>
          <a:blip r:embed="rId3"/>
          <a:stretch/>
        </p:blipFill>
        <p:spPr>
          <a:xfrm>
            <a:off x="0" y="0"/>
            <a:ext cx="4773600" cy="3822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4"/>
          <a:stretch/>
        </p:blipFill>
        <p:spPr>
          <a:xfrm>
            <a:off x="1476360" y="3645000"/>
            <a:ext cx="6191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ллектуальная зона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развития интереса к учебной деятельности в цело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познавательной потребности каждого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интеллектуального взаимодействия 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дактический материал, классифицированный по предмета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ные уголк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ная библиотека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2"/>
          <a:stretch/>
        </p:blipFill>
        <p:spPr>
          <a:xfrm>
            <a:off x="1805040" y="-31680"/>
            <a:ext cx="7338960" cy="4128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0" y="2492280"/>
            <a:ext cx="5835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ческая зона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ализация потребности в самовыраже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потребности в сотворчеств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(ы) для творческой деятельности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 для хранения материалов и инструмент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 для организации выставка творческих работ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 для творчества: краски, карандаши, пластилин, ткань и др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15:50:22Z</dcterms:created>
  <dc:creator>Юлия Воложанина</dc:creator>
  <dc:description/>
  <dc:language>en-US</dc:language>
  <cp:lastModifiedBy>Юля</cp:lastModifiedBy>
  <dcterms:modified xsi:type="dcterms:W3CDTF">2019-05-18T16:50:35Z</dcterms:modified>
  <cp:revision>12</cp:revision>
  <dc:subject/>
  <dc:title>Презентация PowerPoint</dc:title>
</cp:coreProperties>
</file>