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57C-48BC-4D6A-8E8E-DFAD9EB9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692-23B4-49C3-B85E-655066D5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B92-3971-425C-9D5E-4D786D0C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B23-0D82-4D34-96C2-252713B3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E11-3F6C-4C19-8C22-76590231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BA6-10FA-48DF-8CD1-C650657E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6A1-1ABB-46DA-BBE8-C2D7DDF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ACA-7538-423E-8361-AF588F8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552-B60C-48EF-BDAD-4FFF843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D3D-F229-44C7-9ABF-E8B90011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171-BD76-458B-BA47-3223F6BF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E7B-C2AE-42BA-BD4B-69471C7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4269-AB2F-4206-9957-77AE4E598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38080" y="514080"/>
            <a:ext cx="105156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ривык к мнению, чт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личник – всегда вежливый ученик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учитель требовательный – он не любит своих ученико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человек плохо одет, то он не заслуживает уваже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мальчишки - грубияны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ухоженный, некрасивый ученик не может быть хорошим друг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428400"/>
            <a:ext cx="105156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избавиться от стереотипного общени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бы избавиться от стереотипов в отношении какого-либо человека, как можно больше узнайте про него от други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росите себя: «почему он так обращается со мной, может быть, есть какая-то причин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ьте себе: «Насколько стереотипное поведение полезно или вредит мне в общении с этим человеком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8080" y="442800"/>
            <a:ext cx="10515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 Найти ответ на вопрос  «Что такое  общение? 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 Узнать, какую роль  выполняет общение в нашей   жизни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Учиться правильному общению с людь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38080" y="499680"/>
            <a:ext cx="10515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 общаться на равных, по дружески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щать ошибки другим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ею критиковать, не обижая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чусь преодолевать стереотипы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асто предлагаю свою помощь други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442800"/>
            <a:ext cx="10515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 Найти ответ на вопрос  «Что такое  общение? 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 Узнать, какую роль  выполняет общение в нашей   жизни челове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Учиться правильному общению с людь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128520" y="0"/>
            <a:ext cx="1206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671400" y="122400"/>
            <a:ext cx="1127304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471600"/>
            <a:ext cx="10515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магазине я -покупатель и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дороге я - пешеход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ранспорте я  - пассажир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библиотеке я -читатель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еатре я - зритель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емье я- сын, дочь, внук, брат, сестра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родной стране я - гражданин..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38080" y="557280"/>
            <a:ext cx="10515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 Без стука открывает дверь, ничего не объясняя, входит в класс Павлик и садится на место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 Саша стучится в дверь, входит, извиняется, объясняет причину опоздания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)Костя долго топтался у двери, так и не смог войти в клас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38040" y="295200"/>
            <a:ext cx="1164744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аксив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ниматель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Жадн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знай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руб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амкнуто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838080" y="928800"/>
            <a:ext cx="10515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- привычное восприятие чего-либо или кого-либо. Ошибочным может быть мнение, взгляд на человека и его поступок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ереотип – значит привычка (всегда так делаю, т.е. привычно поступаю, воспринимаю и общаюсь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7:28:42Z</dcterms:created>
  <dc:creator>Венера Шарафутдинова</dc:creator>
  <dc:description/>
  <dc:language>en-US</dc:language>
  <cp:lastModifiedBy>-</cp:lastModifiedBy>
  <dcterms:modified xsi:type="dcterms:W3CDTF">2017-03-06T09:14:05Z</dcterms:modified>
  <cp:revision>8</cp:revision>
  <dc:subject/>
  <dc:title>Презентация PowerPoint</dc:title>
</cp:coreProperties>
</file>