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F58-0DF4-4ED3-A871-6CEF24DD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CF6-A0A8-461D-8DFC-10D9D6EB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940-1D3B-49F1-B0A2-9C298202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38C-0BB6-4E34-9C6F-AD3BE8C3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6BE-C419-4927-9283-7831E32E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F7E-36A3-4EEA-B817-94AE1055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9F5-7D71-41FA-877E-D2CFB845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45A-63B5-499E-9B95-2DB176B7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68B-A30E-47E5-AAE0-9E11FA85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1D2-1046-43B6-A058-49911C14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38E-3BD1-495D-B5A4-A847FE9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F05-8A6F-4683-8F8A-D8CC9E1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275B-6AC1-438A-9D9F-40368DB2E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38080" y="514080"/>
            <a:ext cx="1051560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привык к мнению, чт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личник – всегда вежливый ученик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учитель требовательный – он не любит своих ученико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человек плохо одет, то он не заслуживает уваже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мальчишки - грубияны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ухоженный, некрасивый ученик не может быть хорошим друг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428400"/>
            <a:ext cx="1051560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бавиться от стереотипного общени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бы избавиться от стереотипов в отношении какого-либо человека, как можно больше узнайте про него от други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росите себя: «почему он так обращается со мной, может быть, есть какая-то причина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ьте себе: «Насколько стереотипное поведение полезно или вредит мне в общении с этим человеком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38080" y="442800"/>
            <a:ext cx="10515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 Найти ответ на вопрос  «Что такое  общение? 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 Узнать, какую роль  выполняет общение в нашей   жизни челове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Учиться правильному общению с людьм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38080" y="499680"/>
            <a:ext cx="10515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ею общаться на равных, по дружески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ощать ошибки другим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ею критиковать, не обижая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чусь преодолевать стереотипы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асто предлагаю свою помощь други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442800"/>
            <a:ext cx="10515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 Найти ответ на вопрос  «Что такое  общение? 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 Узнать, какую роль  выполняет общение в нашей   жизни челове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Учиться правильному общению с людьм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128520" y="0"/>
            <a:ext cx="1206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671400" y="122400"/>
            <a:ext cx="1127304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8080" y="471600"/>
            <a:ext cx="10515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магазине я -покупатель и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дороге я - пешеход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транспорте я  - пассажир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библиотеке я -читатель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театре я - зритель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емье я- сын, дочь, внук, брат, сестра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родной стране я - гражданин.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38080" y="557280"/>
            <a:ext cx="10515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 Без стука открывает дверь, ничего не объясняя, входит в класс Павлик и садится на место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) Саша стучится в дверь, входит, извиняется, объясняет причину опоздания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)Костя долго топтался у двери, так и не смог войти в клас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38040" y="295200"/>
            <a:ext cx="1164744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лаксив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ниматель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Жад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азнай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руб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амкнут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38080" y="928800"/>
            <a:ext cx="10515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ереотип - привычное восприятие чего-либо или кого-либо. Ошибочным может быть мнение, взгляд на человека и его поступок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ереотип – значит привычка (всегда так делаю, т.е. привычно поступаю, воспринимаю и общаюсь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5T17:28:42Z</dcterms:created>
  <dc:creator>Венера Шарафутдинова</dc:creator>
  <dc:description/>
  <dc:language>en-US</dc:language>
  <cp:lastModifiedBy>-</cp:lastModifiedBy>
  <dcterms:modified xsi:type="dcterms:W3CDTF">2017-03-06T09:14:05Z</dcterms:modified>
  <cp:revision>8</cp:revision>
  <dc:subject/>
  <dc:title>Презентация PowerPoint</dc:title>
</cp:coreProperties>
</file>