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B7F-DF3A-4FA5-8A8D-20156FEA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0E5-0A13-40D9-B366-C154F001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3FF-C592-4775-A9B3-C71BCBD5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CBD-C93B-464B-BE6E-3F14B861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CED-9A8F-4370-8615-4C17B5CF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2D8-F75E-4F67-B3C0-13DEFA5A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7E2-1D20-462E-A4BD-FE143C7F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CFE-2F4C-4111-A169-5230607B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0BF-34E9-465D-BA85-2A5F1EF0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9B4-2AC8-4D1E-A071-CBC753D2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52C-6AAD-4648-915C-A28D0D3D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F45-BB32-44B0-88EA-3FEA746D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A6E4-9B0C-44AD-A9E1-F8AAA43E9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ÐÐ°ÑÑÐ¸Ð½ÐºÐ¸ Ð¿Ð¾ Ð·Ð°Ð¿ÑÐ¾ÑÑ Ð Ð£Ð¡Ð¡ÐÐÐ Ð¯ÐÐ«Ð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30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узнаешь - сильнее станешь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ÐÐ°ÑÑÐ¸Ð½ÐºÐ¸ Ð¿Ð¾ Ð·Ð°Ð¿ÑÐ¾ÑÑ ÑÑÐµÐ½Ð¸Ðµ"/>
          <p:cNvPicPr/>
          <p:nvPr/>
        </p:nvPicPr>
        <p:blipFill>
          <a:blip r:embed="rId2"/>
          <a:stretch/>
        </p:blipFill>
        <p:spPr>
          <a:xfrm>
            <a:off x="2303640" y="2543040"/>
            <a:ext cx="45367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…р…нд…ш, вес…л…, громк…, ч…ловек, д…рога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м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м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окна.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и по небу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т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собаки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нут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br>
              <a:rPr sz="6000"/>
            </a:b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ять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е 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т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-14400" y="1557360"/>
            <a:ext cx="45864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делат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ть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а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ча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а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4554360" y="836640"/>
            <a:ext cx="45864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сделат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ыгну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ну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-14400" y="981000"/>
            <a:ext cx="45864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делат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е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ст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т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4554360" y="836640"/>
            <a:ext cx="45864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то сделат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е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цвест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зт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 заветные страницы</a:t>
            </a:r>
            <a:br>
              <a:rPr sz="6200"/>
            </a:br>
            <a:r>
              <a:rPr b="0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т людям </a:t>
            </a:r>
            <a:r>
              <a:rPr b="1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,</a:t>
            </a:r>
            <a:br>
              <a:rPr sz="6200"/>
            </a:br>
            <a:r>
              <a:rPr b="0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 </a:t>
            </a:r>
            <a:r>
              <a:rPr b="1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</a:t>
            </a:r>
            <a:r>
              <a:rPr b="0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 </a:t>
            </a:r>
            <a:r>
              <a:rPr b="1" i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.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ÐÐ°ÑÑÐ¸Ð½ÐºÐ¸ Ð¿Ð¾ Ð·Ð°Ð¿ÑÐ¾ÑÑ ÑÐ¾Ð½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680"/>
            <a:ext cx="9144000" cy="24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250920" y="3068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89 упр. 56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6T15:59:14Z</dcterms:created>
  <dc:creator>Анна Евшина</dc:creator>
  <dc:description/>
  <dc:language>en-US</dc:language>
  <cp:lastModifiedBy>Анна Евшина</cp:lastModifiedBy>
  <dcterms:modified xsi:type="dcterms:W3CDTF">2019-04-18T16:59:45Z</dcterms:modified>
  <cp:revision>18</cp:revision>
  <dc:subject/>
  <dc:title>Из данных слов составь и запиши предложение, укажи над словами части речи.  осеннем, в, ребята, грибы, лесу, собирали</dc:title>
</cp:coreProperties>
</file>