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D5C-D5D0-43CC-9B88-732DC6D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0B1-6363-453B-91AE-9DCA14E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A68-4719-469D-8900-125D9BFE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AB1-7CC3-4BF7-A583-0332D867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8F8-8EF8-406A-B4A3-B94ACED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80B-0FEC-47CD-98B1-B6DD09A8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22C-5A69-463D-9D96-7412F7BC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B62-F9CF-41FE-A225-6F153FDD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FF7-1AA9-4714-A7D0-43445DC3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810-4585-46A5-BD35-3C3E217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DCD-34E2-4E27-8A05-951FB561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774-4EED-42F7-809B-C624BC3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DDD-4971-49E4-909C-22BB45693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ÐÐ°ÑÑÐ¸Ð½ÐºÐ¸ Ð¿Ð¾ Ð·Ð°Ð¿ÑÐ¾ÑÑ Ð Ð£Ð¡Ð¡ÐÐÐ Ð¯ÐÐ«Ð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30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ешь - сильнее станеш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ÐÐ°ÑÑÐ¸Ð½ÐºÐ¸ Ð¿Ð¾ Ð·Ð°Ð¿ÑÐ¾ÑÑ ÑÑÐµÐ½Ð¸Ðµ"/>
          <p:cNvPicPr/>
          <p:nvPr/>
        </p:nvPicPr>
        <p:blipFill>
          <a:blip r:embed="rId2"/>
          <a:stretch/>
        </p:blipFill>
        <p:spPr>
          <a:xfrm>
            <a:off x="2303640" y="2543040"/>
            <a:ext cx="45367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р…нд…ш, вес…л…, громк…, ч…ловек, д…рог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м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окна.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собаки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ну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ять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-14400" y="1557360"/>
            <a:ext cx="45864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ть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ч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4554360" y="836640"/>
            <a:ext cx="45864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ну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-14400" y="981000"/>
            <a:ext cx="45864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54360" y="836640"/>
            <a:ext cx="45864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ве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з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 заветные страницы</a:t>
            </a:r>
            <a:br>
              <a:rPr sz="6200"/>
            </a:b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людям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</a:t>
            </a:r>
            <a:br>
              <a:rPr sz="6200"/>
            </a:b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</a:t>
            </a: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50920" y="3068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9 упр. 56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4-18T16:59:45Z</dcterms:modified>
  <cp:revision>18</cp:revision>
  <dc:subject/>
  <dc:title>Из данных слов составь и запиши предложение, укажи над словами части речи.  осеннем, в, ребята, грибы, лесу, собирали</dc:title>
</cp:coreProperties>
</file>