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41B-CD77-4DBD-8663-054A1D64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87F-EB03-4B62-9BCD-BCFB29A8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7F6-CD6E-4D29-B3F2-680E0660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CD2-CBA0-485F-836A-033A0357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1F8-C6BB-434A-9609-6BCB18E1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9D6-5771-4862-81E3-3BA90BF8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A3A-11ED-4F51-9120-53F47CC1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25B-CDEE-497C-956C-662773F9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F7F-14C2-4310-AE7B-1C4FD9DA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B1F-5D9E-4C32-BFF2-3F142EA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7C7-CEE5-4B69-908D-F53E4EA8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BF8-C91F-4ADD-8A96-AC8783FC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13BC-7CF7-4785-AAED-7F7103B7D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-171360"/>
            <a:ext cx="9252000" cy="712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600cc"/>
                </a:solidFill>
                <a:latin typeface="Adobe Garamond Pro Bold"/>
              </a:rPr>
              <a:t>ИНТЕЛЛЕКТУАЛЬНАЯ ИГР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227640" y="3357720"/>
            <a:ext cx="2808360" cy="3384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>
            <a:off x="755640" y="2492280"/>
            <a:ext cx="53989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1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33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амый умный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66ff"/>
                  </a:gs>
                  <a:gs pos="100000">
                    <a:srgbClr val="33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 что превращается вода, если она замерзает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435640" y="2781360"/>
            <a:ext cx="3095640" cy="36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Картинки по запросу замерзшая вода"/>
          <p:cNvPicPr/>
          <p:nvPr/>
        </p:nvPicPr>
        <p:blipFill>
          <a:blip r:embed="rId3"/>
          <a:stretch/>
        </p:blipFill>
        <p:spPr>
          <a:xfrm>
            <a:off x="857160" y="3143160"/>
            <a:ext cx="3643560" cy="3375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1899000" y="2071800"/>
            <a:ext cx="121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dobe Garamond Pro Bold"/>
              </a:rPr>
              <a:t>Лё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то приходит посл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435640" y="2781360"/>
            <a:ext cx="3095640" cy="3600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5"/>
          <p:cNvSpPr/>
          <p:nvPr/>
        </p:nvSpPr>
        <p:spPr>
          <a:xfrm>
            <a:off x="820080" y="2214720"/>
            <a:ext cx="49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dobe Garamond Pro Bold"/>
              </a:rPr>
              <a:t>…</a:t>
            </a:r>
            <a:r>
              <a:rPr b="0" lang="ru-RU" sz="5400" spc="-1" strike="noStrike">
                <a:solidFill>
                  <a:srgbClr val="000000"/>
                </a:solidFill>
                <a:latin typeface="Adobe Garamond Pro Bold"/>
              </a:rPr>
              <a:t>после вес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 Раунд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Юные математики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372360" y="3857760"/>
            <a:ext cx="2232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выш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500960" y="5052960"/>
            <a:ext cx="1428840" cy="16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Картинки по запросу девочка мультяшная пнг"/>
          <p:cNvPicPr/>
          <p:nvPr/>
        </p:nvPicPr>
        <p:blipFill>
          <a:blip r:embed="rId3"/>
          <a:stretch/>
        </p:blipFill>
        <p:spPr>
          <a:xfrm>
            <a:off x="428760" y="1714680"/>
            <a:ext cx="2714400" cy="33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Похожее изображение"/>
          <p:cNvPicPr/>
          <p:nvPr/>
        </p:nvPicPr>
        <p:blipFill>
          <a:blip r:embed="rId4"/>
          <a:stretch/>
        </p:blipFill>
        <p:spPr>
          <a:xfrm>
            <a:off x="3286080" y="2143080"/>
            <a:ext cx="2124000" cy="287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Похожее изображение"/>
          <p:cNvPicPr/>
          <p:nvPr/>
        </p:nvPicPr>
        <p:blipFill>
          <a:blip r:embed="rId5"/>
          <a:stretch/>
        </p:blipFill>
        <p:spPr>
          <a:xfrm>
            <a:off x="5429160" y="1143000"/>
            <a:ext cx="3143520" cy="38908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8"/>
          <p:cNvSpPr/>
          <p:nvPr/>
        </p:nvSpPr>
        <p:spPr>
          <a:xfrm>
            <a:off x="785880" y="564372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3651120" y="564372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с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6365160" y="564372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3000240" y="857160"/>
            <a:ext cx="3143520" cy="38908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9"/>
          <p:cNvSpPr/>
          <p:nvPr/>
        </p:nvSpPr>
        <p:spPr>
          <a:xfrm>
            <a:off x="2857680" y="528624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5" descr="D:\Documents and Settings\Admin\Рабочий стол\Новые рисунки\2\owl.jpg"/>
          <p:cNvPicPr/>
          <p:nvPr/>
        </p:nvPicPr>
        <p:blipFill>
          <a:blip r:embed="rId3"/>
          <a:stretch/>
        </p:blipFill>
        <p:spPr>
          <a:xfrm>
            <a:off x="6072120" y="3214800"/>
            <a:ext cx="28576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должи ряд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, 8, 7, …, …, …, …, …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, 3, 5, …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992920" y="3429000"/>
            <a:ext cx="253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,8,7,6, 5, 4, 3, 2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,3,5, 7,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992920" y="3429000"/>
            <a:ext cx="253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сса петуха, стоящего на двух ногах, 4 кг. Какова будет масса петуха, если он встанет на одну ногу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572160" y="4199040"/>
            <a:ext cx="1881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572160" y="4199040"/>
            <a:ext cx="1881360" cy="2187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285840" y="4500360"/>
            <a:ext cx="49291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 к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Картинки по запросу петух"/>
          <p:cNvPicPr/>
          <p:nvPr/>
        </p:nvPicPr>
        <p:blipFill>
          <a:blip r:embed="rId3"/>
          <a:stretch/>
        </p:blipFill>
        <p:spPr>
          <a:xfrm>
            <a:off x="285840" y="285840"/>
            <a:ext cx="5143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ра вымыла 3 тарелки, и Лена столько же. Сколько всего тарелок вымыли девоч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423120" y="3929040"/>
            <a:ext cx="21081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 Раунд: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кружающий мир.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580000" y="3068640"/>
            <a:ext cx="3095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вочки вымыли 6 таре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423120" y="3929040"/>
            <a:ext cx="21081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-10800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 дворе гуляли 3 цыплёнка. К ним присоединилось ещё 5. Сколько всего цыплят стало во двор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545160" y="4071960"/>
            <a:ext cx="19861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-10800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Во дворе стало 8 цыпля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6545160" y="4071960"/>
            <a:ext cx="19861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роженное пломбир стоит дороже, чем фруктовое. А фруктовое мороженное стоит дороже, чем шоколадное. Какое мороженное самое дорогое и самое дешёв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Пломбир – самое дорогое мороженое;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Шоколадное мороженое – самое дешёво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не сейчас 12 лет. Сколько лет ему будет через 5 л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Через пять лет Ване будет 17 л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озере плавало 8 лебедей и несколько уток. Всего было 20 птиц. Сколько уток плавало на озер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12 уток плавало на озе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зале горели 15 лампочек. 3 лампочки перегорели. Сколько лампочек продолжало горе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ы живём на планет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580000" y="3068640"/>
            <a:ext cx="309564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s://encrypted-tbn1.gstatic.com/images?q=tbn:ANd9GcSwB8tcbfiDCvopdbu3i9qAjYPtVg2UzWyQ2JHY-FMdqxaR6qH_WCXnEiY"/>
          <p:cNvPicPr/>
          <p:nvPr/>
        </p:nvPicPr>
        <p:blipFill>
          <a:blip r:embed="rId3"/>
          <a:stretch/>
        </p:blipFill>
        <p:spPr>
          <a:xfrm>
            <a:off x="857160" y="3124080"/>
            <a:ext cx="2857680" cy="3110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4"/>
          <a:stretch/>
        </p:blipFill>
        <p:spPr>
          <a:xfrm>
            <a:off x="920880" y="2292480"/>
            <a:ext cx="275580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12 лампочек продолжило горе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столе стояло 18 тарелок, а ложек лежало 20 штук. Сколько лишних ложек было на сто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Garamond Pro Bold"/>
              </a:rPr>
              <a:t>На столе было 2 лишних лож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4200" y="999720"/>
            <a:ext cx="8715600" cy="40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3 Раунд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«Юные детективы»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85840" y="713880"/>
            <a:ext cx="857232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ектив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жанр литературы, в котором описываются разные преступления и то, как сыщики их раскрывают по самым незначительным деталям, по отпечаткам пальцев и т.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5"/>
          <p:cNvSpPr/>
          <p:nvPr/>
        </p:nvSpPr>
        <p:spPr>
          <a:xfrm>
            <a:off x="1000080" y="1000080"/>
            <a:ext cx="64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героиня этого произведения неожиданно разбога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её появилось много друзей, для которых стали устраиваться при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е попытались похитить, но неожиданно появился молодой смельчак и спас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о кончилось свадь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 ценным достоянием главной героини был сам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Картинки по запросу муха цокотуха"/>
          <p:cNvPicPr/>
          <p:nvPr/>
        </p:nvPicPr>
        <p:blipFill>
          <a:blip r:embed="rId3"/>
          <a:stretch/>
        </p:blipFill>
        <p:spPr>
          <a:xfrm>
            <a:off x="285840" y="428760"/>
            <a:ext cx="5715000" cy="46861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1000080" y="52149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ха - цокоту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5"/>
          <p:cNvSpPr/>
          <p:nvPr/>
        </p:nvSpPr>
        <p:spPr>
          <a:xfrm>
            <a:off x="714240" y="642960"/>
            <a:ext cx="707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герой любит полакомится рыб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герой достался в наследство одному бедному юноше, младшему брату, братья которого получили после смерти отца мельницу и о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ему герою удалось обмануть короля, великана-людо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герой называл всем своего бедного хозяина как Маркиза де Караб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, что он попросил у бедного юноши – это мешок и сап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Картинки по запросу кот в сапогах шарль перро"/>
          <p:cNvPicPr/>
          <p:nvPr/>
        </p:nvPicPr>
        <p:blipFill>
          <a:blip r:embed="rId3"/>
          <a:stretch/>
        </p:blipFill>
        <p:spPr>
          <a:xfrm>
            <a:off x="136440" y="214200"/>
            <a:ext cx="6721560" cy="4572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6"/>
          <p:cNvSpPr/>
          <p:nvPr/>
        </p:nvSpPr>
        <p:spPr>
          <a:xfrm>
            <a:off x="642960" y="528624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от в сапог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5"/>
          <p:cNvSpPr/>
          <p:nvPr/>
        </p:nvSpPr>
        <p:spPr>
          <a:xfrm>
            <a:off x="714240" y="642960"/>
            <a:ext cx="7072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голова набита опил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любит ходить на дни рождения своих друзей, в гости, а особенно по ут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увлечение - сочинять вопилки, пыхтелки и сопе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любимые блюда - варенье и м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большой его друг - Пятач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акой стране ты живёшь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867280" y="3141720"/>
            <a:ext cx="2880000" cy="3529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и по запросу россия"/>
          <p:cNvPicPr/>
          <p:nvPr/>
        </p:nvPicPr>
        <p:blipFill>
          <a:blip r:embed="rId3"/>
          <a:stretch/>
        </p:blipFill>
        <p:spPr>
          <a:xfrm>
            <a:off x="428760" y="3214800"/>
            <a:ext cx="5224320" cy="3043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8"/>
          <p:cNvSpPr/>
          <p:nvPr/>
        </p:nvSpPr>
        <p:spPr>
          <a:xfrm>
            <a:off x="1571760" y="2286000"/>
            <a:ext cx="34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dobe Garamond Pro Bold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500040" y="542916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инни - П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Картинки по запросу винни пух"/>
          <p:cNvPicPr/>
          <p:nvPr/>
        </p:nvPicPr>
        <p:blipFill>
          <a:blip r:embed="rId3"/>
          <a:stretch/>
        </p:blipFill>
        <p:spPr>
          <a:xfrm>
            <a:off x="285840" y="21420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5"/>
          <p:cNvSpPr/>
          <p:nvPr/>
        </p:nvSpPr>
        <p:spPr>
          <a:xfrm>
            <a:off x="714240" y="1428840"/>
            <a:ext cx="707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4 Раун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Настоящие знатоки сказок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5"/>
          <p:cNvSpPr/>
          <p:nvPr/>
        </p:nvSpPr>
        <p:spPr>
          <a:xfrm>
            <a:off x="714240" y="642960"/>
            <a:ext cx="707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“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бушка, почему у вас такие большие ру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чтобы покрепче обнять тебя, дитя м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бушка, почему у вас такие большие уш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лучше слышать, дитя мое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58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500040" y="528624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расная Шапочка» Шарль Пер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Похожее изображение"/>
          <p:cNvPicPr/>
          <p:nvPr/>
        </p:nvPicPr>
        <p:blipFill>
          <a:blip r:embed="rId3"/>
          <a:stretch/>
        </p:blipFill>
        <p:spPr>
          <a:xfrm>
            <a:off x="71280" y="214200"/>
            <a:ext cx="6785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5"/>
          <p:cNvSpPr/>
          <p:nvPr/>
        </p:nvSpPr>
        <p:spPr>
          <a:xfrm>
            <a:off x="714240" y="642960"/>
            <a:ext cx="707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ыбельку сделали из блестящей лакированной скорлупки грецкого ореха. Вместо перинки туда положили несколько фиалок, а вместо одеяльца – лепесток розы. В эту колыбельку девочку укладывали на ночь, а днём она играла на столе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Картинки по запросу дюймовочка"/>
          <p:cNvPicPr/>
          <p:nvPr/>
        </p:nvPicPr>
        <p:blipFill>
          <a:blip r:embed="rId3"/>
          <a:stretch/>
        </p:blipFill>
        <p:spPr>
          <a:xfrm>
            <a:off x="71280" y="214200"/>
            <a:ext cx="6786720" cy="50896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6"/>
          <p:cNvSpPr/>
          <p:nvPr/>
        </p:nvSpPr>
        <p:spPr>
          <a:xfrm>
            <a:off x="357120" y="56437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юймовочка» Г.-Х. Андерс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5"/>
          <p:cNvSpPr/>
          <p:nvPr/>
        </p:nvSpPr>
        <p:spPr>
          <a:xfrm>
            <a:off x="714240" y="642960"/>
            <a:ext cx="7072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носил яркую голубую шляпу, желтые, канареечные, брюки и оранжевую рубашку с зеленым галстуком. Он вообще любил яркие краски. Нарядившись таким попугаем, он по целым дням слонялся по городу, сочинял разные небылицы и всем их рассказывал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7000920" y="4429080"/>
            <a:ext cx="1881000" cy="21877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Картинки по запросу незнайка"/>
          <p:cNvPicPr/>
          <p:nvPr/>
        </p:nvPicPr>
        <p:blipFill>
          <a:blip r:embed="rId3"/>
          <a:stretch/>
        </p:blipFill>
        <p:spPr>
          <a:xfrm>
            <a:off x="2500200" y="428760"/>
            <a:ext cx="3357720" cy="51559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214200" y="550080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иключения Незнайки» Николай 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14200" y="85680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никогда не позд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 живи – век учи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ье – свет, а неученье – ть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у прочитал – умнее ст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помни столицу нашего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867280" y="3141720"/>
            <a:ext cx="2880000" cy="35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Похожее изображение"/>
          <p:cNvPicPr/>
          <p:nvPr/>
        </p:nvPicPr>
        <p:blipFill>
          <a:blip r:embed="rId3"/>
          <a:stretch/>
        </p:blipFill>
        <p:spPr>
          <a:xfrm>
            <a:off x="285840" y="3090960"/>
            <a:ext cx="5143320" cy="3409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285840" y="2000160"/>
            <a:ext cx="477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зимние меся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796000" y="2852640"/>
            <a:ext cx="2879640" cy="3600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214200" y="135720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dobe Garamond Pro Bold"/>
              </a:rPr>
              <a:t>Декабрь, Январь, Февр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Картинки по запросу зима"/>
          <p:cNvPicPr/>
          <p:nvPr/>
        </p:nvPicPr>
        <p:blipFill>
          <a:blip r:embed="rId3"/>
          <a:stretch/>
        </p:blipFill>
        <p:spPr>
          <a:xfrm>
            <a:off x="285840" y="3166920"/>
            <a:ext cx="46432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называется скопление звезд на не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651640" y="2924280"/>
            <a:ext cx="309564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Картинки по запросу созвездие"/>
          <p:cNvPicPr/>
          <p:nvPr/>
        </p:nvPicPr>
        <p:blipFill>
          <a:blip r:embed="rId3"/>
          <a:stretch/>
        </p:blipFill>
        <p:spPr>
          <a:xfrm>
            <a:off x="357120" y="3500280"/>
            <a:ext cx="5226120" cy="28242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6"/>
          <p:cNvSpPr/>
          <p:nvPr/>
        </p:nvSpPr>
        <p:spPr>
          <a:xfrm>
            <a:off x="214200" y="2357280"/>
            <a:ext cx="50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везд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ый месяц осе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651640" y="2924280"/>
            <a:ext cx="3095640" cy="360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Похожее изображение"/>
          <p:cNvPicPr/>
          <p:nvPr/>
        </p:nvPicPr>
        <p:blipFill>
          <a:blip r:embed="rId3"/>
          <a:stretch/>
        </p:blipFill>
        <p:spPr>
          <a:xfrm>
            <a:off x="357120" y="3500280"/>
            <a:ext cx="5108760" cy="29289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42960" y="2071800"/>
            <a:ext cx="45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dobe Garamond Pro Bold"/>
              </a:rPr>
              <a:t>Сентяб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-71280" y="0"/>
            <a:ext cx="9251640" cy="6958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ибы, растущие дружными семей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5" descr="D:\Documents and Settings\Admin\Рабочий стол\Новые рисунки\2\owl.jpg"/>
          <p:cNvPicPr/>
          <p:nvPr/>
        </p:nvPicPr>
        <p:blipFill>
          <a:blip r:embed="rId2"/>
          <a:stretch/>
        </p:blipFill>
        <p:spPr>
          <a:xfrm>
            <a:off x="5940360" y="3068640"/>
            <a:ext cx="2879640" cy="345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Картинки по запросу опята"/>
          <p:cNvPicPr/>
          <p:nvPr/>
        </p:nvPicPr>
        <p:blipFill>
          <a:blip r:embed="rId3"/>
          <a:stretch/>
        </p:blipFill>
        <p:spPr>
          <a:xfrm>
            <a:off x="642960" y="3500280"/>
            <a:ext cx="4143240" cy="2916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357120" y="2500200"/>
            <a:ext cx="462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dobe Garamond Pro Bold"/>
              </a:rPr>
              <a:t>Опя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4:46:28Z</dcterms:created>
  <dc:creator>1</dc:creator>
  <dc:description/>
  <dc:language>en-US</dc:language>
  <cp:lastModifiedBy>User</cp:lastModifiedBy>
  <dcterms:modified xsi:type="dcterms:W3CDTF">2017-03-20T06:35:20Z</dcterms:modified>
  <cp:revision>29</cp:revision>
  <dc:subject/>
  <dc:title>Слайд 1</dc:title>
</cp:coreProperties>
</file>