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2B9C-C558-4056-9BE9-45DF5066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CF23-0C28-4213-BAA4-0B50E29C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6C8-404D-48BF-8156-C9EDD2D5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33DE-6431-486D-9FC2-94CE5540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77C9-F834-4DE0-8A38-405E9FD2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44C0-A40D-46F3-BDA2-103492F1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68D7-B55E-4795-A702-21EEC313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EC44-DBA3-4840-949D-1A53078C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9013-AE5C-4034-9C8A-1263345D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6A7D-3D9E-48BE-9FDD-8C1C21EC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5831-3D89-4F3B-A176-9CA5161A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B68A-2DA9-4D86-B779-A657857D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4777-A30B-4B0C-BCC9-1880C11337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Пользователь\Desktop\hello_html_m24bf8dbe.png"/>
          <p:cNvPicPr/>
          <p:nvPr/>
        </p:nvPicPr>
        <p:blipFill>
          <a:blip r:embed="rId1"/>
          <a:stretch/>
        </p:blipFill>
        <p:spPr>
          <a:xfrm>
            <a:off x="1332000" y="115920"/>
            <a:ext cx="640872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Пользователь\Desktop\i (3).jpg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Пользователь\Desktop\6854fb937eec991a9a522be8c89de3d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Пользователь\Desktop\hello_html_m24bf8dbe.png"/>
          <p:cNvPicPr/>
          <p:nvPr/>
        </p:nvPicPr>
        <p:blipFill>
          <a:blip r:embed="rId3"/>
          <a:stretch/>
        </p:blipFill>
        <p:spPr>
          <a:xfrm>
            <a:off x="-1044720" y="981000"/>
            <a:ext cx="7561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Пользователь\Desktop\i.jpg"/>
          <p:cNvPicPr/>
          <p:nvPr/>
        </p:nvPicPr>
        <p:blipFill>
          <a:blip r:embed="rId1"/>
          <a:stretch/>
        </p:blipFill>
        <p:spPr>
          <a:xfrm>
            <a:off x="1025640" y="237960"/>
            <a:ext cx="6886440" cy="6562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Users\Пользователь\Desktop\mini_1.jpg"/>
          <p:cNvPicPr/>
          <p:nvPr/>
        </p:nvPicPr>
        <p:blipFill>
          <a:blip r:embed="rId2"/>
          <a:stretch/>
        </p:blipFill>
        <p:spPr>
          <a:xfrm>
            <a:off x="3233880" y="4383000"/>
            <a:ext cx="24699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Пользователь\Desktop\солнце-р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69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Пользователь\Desktop\hello_html_m24bf8dbe.png"/>
          <p:cNvPicPr/>
          <p:nvPr/>
        </p:nvPicPr>
        <p:blipFill>
          <a:blip r:embed="rId2"/>
          <a:stretch/>
        </p:blipFill>
        <p:spPr>
          <a:xfrm>
            <a:off x="-1620720" y="1487520"/>
            <a:ext cx="533556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я? Какой я?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Пользователь\Desktop\i (1).jpg"/>
          <p:cNvPicPr/>
          <p:nvPr/>
        </p:nvPicPr>
        <p:blipFill>
          <a:blip r:embed="rId1"/>
          <a:stretch/>
        </p:blipFill>
        <p:spPr>
          <a:xfrm>
            <a:off x="0" y="-1440"/>
            <a:ext cx="915192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акого, как Я, никогда не было и не буде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ть люди, чем-то похожие на меня. Но в точности такого нет, так как, у меня есть мозг, чтобы думать и язык, чтобы разговарив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меня есть сердце, чтобы радоваться и огорчать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меня есть душа, чтобы понимать других 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- это 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 меня есть все, чтобы стать счастливым человеко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4"/>
          <p:cNvSpPr/>
          <p:nvPr/>
        </p:nvSpPr>
        <p:spPr>
          <a:xfrm>
            <a:off x="390600" y="47628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бр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216000" y="1643040"/>
            <a:ext cx="22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олюби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6786720" y="1357200"/>
            <a:ext cx="18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ст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2357280" y="714240"/>
            <a:ext cx="10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571680" y="328608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б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3929040" y="64296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и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7572240" y="228600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жи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6072120" y="71424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лив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6500880" y="33577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зывчи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Пользователь\Desktop\i (2).jpg"/>
          <p:cNvPicPr/>
          <p:nvPr/>
        </p:nvPicPr>
        <p:blipFill>
          <a:blip r:embed="rId1"/>
          <a:stretch/>
        </p:blipFill>
        <p:spPr>
          <a:xfrm>
            <a:off x="2171880" y="2529000"/>
            <a:ext cx="438768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64 0.07061 L 0.1566 0.05973 C 0.18351 0.05625 0.21146 0.07038 0.23298 0.09561 C 0.25781 0.12454 0.27083 0.15834 0.2717 0.19468 L 0.28038 0.36088 E">
                                      <p:cBhvr>
                                        <p:cTn id="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29 0.38634 L 0.03073 0.42639 C 0.04479 0.43541 0.0658 0.44027 0.08767 0.44027 C 0.11267 0.44027 0.13264 0.43541 0.1467 0.42639 L 0.21371 0.38634 E">
                                      <p:cBhvr>
                                        <p:cTn id="1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39 0.18148 L -0.11059 0.00949 C -0.11875 -0.0294 -0.13073 -0.04954 -0.14288 -0.04954 C -0.15711 -0.04954 -0.16857 -0.0294 -0.17656 0.00949 L -0.21406 0.18148 E">
                                      <p:cBhvr>
                                        <p:cTn id="14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69 0.05903 C 0.09618 0.14954 0.14184 0.24005 0.14479 0.23356 C 0.14774 0.22708 0.08108 0.05555 0.0684 0.01991 E">
                                      <p:cBhvr>
                                        <p:cTn id="18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29 -0.04769 C 0.1349 -0.08079 0.20851 -0.11366 0.20243 -0.11435 C 0.19636 -0.11505 0.05417 -0.06204 0.02448 -0.05162 E">
                                      <p:cBhvr>
                                        <p:cTn id="22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19 0.03148 C -0.05989 0.13657 -0.0566 0.24189 -0.04566 0.2412 C -0.03472 0.2405 -0.00469 0.06782 0.00295 0.02754 C 0.01059 -0.01274 0.00521 -0.00649 -1.38889E-006 1.48148E-006 E">
                                      <p:cBhvr>
                                        <p:cTn id="2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358 0.00185 C -0.12188 -0.01065 -0.15018 -0.02315 -0.18629 -0.0257 C -0.2224 -0.02824 -0.32275 -0.02246 -0.30973 -0.01389 C -0.2967 -0.00533 -0.14184 0.01875 -0.10834 0.02523 E">
                                      <p:cBhvr>
                                        <p:cTn id="30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59 0.01945 C -0.18802 0.14491 -0.26545 0.27037 -0.29636 0.3206 E">
                                      <p:cBhvr>
                                        <p:cTn id="3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937 0.0162 C -0.19861 0.0081 -0.28784 0.00023 -0.32361 -0.00301 E">
                                      <p:cBhvr>
                                        <p:cTn id="38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28400" y="500040"/>
            <a:ext cx="8258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любивы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ны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ливы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зывчивы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5" descr="risuem-chelovek-rebenku-13-230x300.jpg"/>
          <p:cNvPicPr/>
          <p:nvPr/>
        </p:nvPicPr>
        <p:blipFill>
          <a:blip r:embed="rId1"/>
          <a:stretch/>
        </p:blipFill>
        <p:spPr>
          <a:xfrm>
            <a:off x="5214960" y="1919160"/>
            <a:ext cx="378612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31T13:21:44Z</dcterms:created>
  <dc:creator>Пользователь</dc:creator>
  <dc:description/>
  <dc:language>en-US</dc:language>
  <cp:lastModifiedBy>User</cp:lastModifiedBy>
  <dcterms:modified xsi:type="dcterms:W3CDTF">2017-01-31T17:41:00Z</dcterms:modified>
  <cp:revision>12</cp:revision>
  <dc:subject/>
  <dc:title>Презентация PowerPoint</dc:title>
</cp:coreProperties>
</file>