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4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1A9D-5F12-41E0-8B05-5736FEA0A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02A8-72F8-494D-BD99-F0CB0FFE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69B1-33BF-4429-8CEB-D3B5B4A1C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6ACB-CBB6-45A7-9B39-D5578ED93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493E-1F72-417A-BDE6-2DFFB8D9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D30E-5F17-4C13-B4B5-DA2153F6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F014-C245-406B-8971-9B0B44A6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5F09-D63E-4EB4-94BE-57D6F085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8AE1-0F5C-4C0E-858D-94279721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36B0-2400-485D-A137-88E00E13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9210-E8A0-4C01-BC6E-4821EE46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A678-36E3-401B-9202-4DCD588C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501C-25C6-4F21-B63D-E2E95F8486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it"/>
          <p:cNvPicPr/>
          <p:nvPr/>
        </p:nvPicPr>
        <p:blipFill>
          <a:blip r:embed="rId2"/>
          <a:stretch/>
        </p:blipFill>
        <p:spPr>
          <a:xfrm>
            <a:off x="152280" y="0"/>
            <a:ext cx="8778960" cy="19940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304920" y="2362320"/>
            <a:ext cx="43434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Medium Cond"/>
              </a:rPr>
              <a:t>«День Победы- как о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Medium Cond"/>
              </a:rPr>
              <a:t>Был от нас далек.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65year"/>
          <p:cNvPicPr/>
          <p:nvPr/>
        </p:nvPicPr>
        <p:blipFill>
          <a:blip r:embed="rId3"/>
          <a:stretch/>
        </p:blipFill>
        <p:spPr>
          <a:xfrm>
            <a:off x="4952880" y="2209680"/>
            <a:ext cx="4051440" cy="4419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http://xn--c1annr.xn--p1ai/sites/default/files/geroi/kondrin.jpg"/>
          <p:cNvPicPr/>
          <p:nvPr/>
        </p:nvPicPr>
        <p:blipFill>
          <a:blip r:embed="rId2"/>
          <a:stretch/>
        </p:blipFill>
        <p:spPr>
          <a:xfrm>
            <a:off x="0" y="0"/>
            <a:ext cx="61722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4" descr=""/>
          <p:cNvPicPr/>
          <p:nvPr/>
        </p:nvPicPr>
        <p:blipFill>
          <a:blip r:embed="rId3"/>
          <a:stretch/>
        </p:blipFill>
        <p:spPr>
          <a:xfrm>
            <a:off x="2011320" y="2962440"/>
            <a:ext cx="390600" cy="93312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6"/>
          <p:cNvSpPr/>
          <p:nvPr/>
        </p:nvSpPr>
        <p:spPr>
          <a:xfrm>
            <a:off x="5029200" y="2971800"/>
            <a:ext cx="426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haroni"/>
              </a:rPr>
              <a:t>Родилс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haroni"/>
              </a:rPr>
              <a:t> 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haroni"/>
              </a:rPr>
              <a:t>12 сентября 1918 г., Усть-Ката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haroni"/>
              </a:rPr>
              <a:t>Умер: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haroni"/>
              </a:rPr>
              <a:t>12 февраля 1945 г. (26 ле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7"/>
          <p:cNvSpPr/>
          <p:nvPr/>
        </p:nvSpPr>
        <p:spPr>
          <a:xfrm>
            <a:off x="228600" y="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Сергей Фёдорович Кондри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                                  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Советский май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Ð¡ÐµÑÐ³ÐµÐ¹ Ð¤ÑÐ´Ð¾ÑÐ¾Ð²Ð¸Ñ ÐÐ¾Ð½Ð´ÑÐ¸Ð½.jpg"/>
          <p:cNvPicPr/>
          <p:nvPr/>
        </p:nvPicPr>
        <p:blipFill>
          <a:blip r:embed="rId2"/>
          <a:stretch/>
        </p:blipFill>
        <p:spPr>
          <a:xfrm>
            <a:off x="228600" y="0"/>
            <a:ext cx="64771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://www.warheroes.ru/content/images/monuments/busti/KondrinSeFedBust.JPG"/>
          <p:cNvPicPr/>
          <p:nvPr/>
        </p:nvPicPr>
        <p:blipFill>
          <a:blip r:embed="rId2"/>
          <a:stretch/>
        </p:blipFill>
        <p:spPr>
          <a:xfrm>
            <a:off x="152280" y="304920"/>
            <a:ext cx="7007400" cy="5715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e94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0" y="-18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6"/>
          <p:cNvSpPr/>
          <p:nvPr/>
        </p:nvSpPr>
        <p:spPr>
          <a:xfrm>
            <a:off x="4481640" y="210168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7"/>
          <p:cNvSpPr/>
          <p:nvPr/>
        </p:nvSpPr>
        <p:spPr>
          <a:xfrm>
            <a:off x="4481640" y="64033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3" descr="IMG_0023"/>
          <p:cNvPicPr/>
          <p:nvPr/>
        </p:nvPicPr>
        <p:blipFill>
          <a:blip r:embed="rId1"/>
          <a:srcRect l="0" t="0" r="0" b="2848"/>
          <a:stretch/>
        </p:blipFill>
        <p:spPr>
          <a:xfrm>
            <a:off x="0" y="0"/>
            <a:ext cx="5334120" cy="4495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4" descr="504389"/>
          <p:cNvPicPr/>
          <p:nvPr/>
        </p:nvPicPr>
        <p:blipFill>
          <a:blip r:embed="rId2"/>
          <a:srcRect l="0" t="0" r="0" b="11791"/>
          <a:stretch/>
        </p:blipFill>
        <p:spPr>
          <a:xfrm>
            <a:off x="5343480" y="0"/>
            <a:ext cx="3800520" cy="44956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38881_800_6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DS Moster"/>
              </a:rPr>
              <a:t>ДАВАЙТЕ ПОЧТИМ ПАМЯТЬ ВСЕХ ПОГИБШИХ ЗА РОДИНУ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DS Moster"/>
              </a:rPr>
              <a:t>МИНУТОЙ МОЛЧ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https://arhivurokov.ru/kopilka/up/html/2017/04/14/k_58f0618d9bab2/409142_13.jpeg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MPj0430642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0" y="5715000"/>
            <a:ext cx="9144000" cy="1167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Medium Cond"/>
              </a:rPr>
              <a:t>МИР - это Земля, мир - это люди, мир - это дети. Мир - это спокойная и  радостная жиз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Medium Cond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Franklin Gothic Medium Cond"/>
              </a:rPr>
              <a:t>Нет войны, нет горя и слез. Мир нужен все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77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8" descr="MPj0430937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9613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525780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ropisi"/>
              </a:rPr>
              <a:t>Пусть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Propisi"/>
              </a:rPr>
              <a:t>небо будет голубым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Propisi"/>
              </a:rPr>
              <a:t>Пусть в небе не </a:t>
            </a:r>
            <a:r>
              <a:rPr b="1" lang="ru-RU" sz="4000" spc="-1" strike="noStrike">
                <a:solidFill>
                  <a:srgbClr val="000000"/>
                </a:solidFill>
                <a:latin typeface="Propisi"/>
              </a:rPr>
              <a:t>клубится</a:t>
            </a:r>
            <a:r>
              <a:rPr b="1" lang="ru-RU" sz="3600" spc="-1" strike="noStrike">
                <a:solidFill>
                  <a:srgbClr val="000000"/>
                </a:solidFill>
                <a:latin typeface="Propisi"/>
              </a:rPr>
              <a:t> дым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Propisi"/>
              </a:rPr>
              <a:t>Пусть пушки грозные молчат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Propisi"/>
              </a:rPr>
              <a:t>И пулеметы не строчат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Propisi"/>
              </a:rPr>
              <a:t>Чтоб жили люди, города..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Propisi"/>
              </a:rPr>
              <a:t>Мир нужен на земле всегда!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Propisi"/>
              </a:rPr>
              <a:t>(Н. Найденова)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9"/>
          <p:cNvSpPr txBox="1"/>
          <p:nvPr/>
        </p:nvSpPr>
        <p:spPr>
          <a:xfrm>
            <a:off x="6581880" y="152280"/>
            <a:ext cx="2333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ИР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3426"/>
          <p:cNvPicPr/>
          <p:nvPr/>
        </p:nvPicPr>
        <p:blipFill>
          <a:blip r:embed="rId1"/>
          <a:stretch/>
        </p:blipFill>
        <p:spPr>
          <a:xfrm>
            <a:off x="2286000" y="0"/>
            <a:ext cx="48988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e94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639584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613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"/>
          <p:cNvSpPr/>
          <p:nvPr/>
        </p:nvSpPr>
        <p:spPr>
          <a:xfrm>
            <a:off x="6858000" y="762120"/>
            <a:ext cx="1371600" cy="228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1_23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5662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may9_04"/>
          <p:cNvPicPr/>
          <p:nvPr/>
        </p:nvPicPr>
        <p:blipFill>
          <a:blip r:embed="rId2"/>
          <a:stretch/>
        </p:blipFill>
        <p:spPr>
          <a:xfrm>
            <a:off x="0" y="2838600"/>
            <a:ext cx="4572000" cy="34099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304920" y="304920"/>
            <a:ext cx="883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Medium Cond"/>
              </a:rPr>
              <a:t>Нет в России семьи, которую война обошла стороной. В этот день вспоминают тех, кто остался на полях сражений, тех, кто после войны налаживал мирную жиз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609480" y="5410080"/>
            <a:ext cx="8229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Medium Cond"/>
              </a:rPr>
              <a:t>А еще поздравляют тех воинов Великой Отечественной Вой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Medium Cond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ranklin Gothic Medium Cond"/>
              </a:rPr>
              <a:t>которые живут сегод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images"/>
          <p:cNvPicPr/>
          <p:nvPr/>
        </p:nvPicPr>
        <p:blipFill>
          <a:blip r:embed="rId1"/>
          <a:srcRect l="0" t="16250" r="0" b="0"/>
          <a:stretch/>
        </p:blipFill>
        <p:spPr>
          <a:xfrm>
            <a:off x="0" y="0"/>
            <a:ext cx="9144000" cy="53355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9_may_2004_072"/>
          <p:cNvPicPr/>
          <p:nvPr/>
        </p:nvPicPr>
        <p:blipFill>
          <a:blip r:embed="rId1"/>
          <a:stretch/>
        </p:blipFill>
        <p:spPr>
          <a:xfrm>
            <a:off x="0" y="0"/>
            <a:ext cx="9144000" cy="67438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0" y="5688000"/>
            <a:ext cx="9144000" cy="1167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Medium Cond"/>
              </a:rPr>
              <a:t>В этот Великий день принято бывать на могилах погибших воинов, возлагать вен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Medium Cond"/>
              </a:rPr>
              <a:t>живые цветы тем, кто не вернулся с вой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1"/>
          <p:cNvSpPr/>
          <p:nvPr/>
        </p:nvSpPr>
        <p:spPr>
          <a:xfrm>
            <a:off x="0" y="59436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Medium Cond"/>
              </a:rPr>
              <a:t>Все дальше в прошлое уходят годы страшной войны. Но подвиг людей, вставших на защиту Отечества, будет вечно жить в памяти российского на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MPj04337560000[1]"/>
          <p:cNvPicPr/>
          <p:nvPr/>
        </p:nvPicPr>
        <p:blipFill>
          <a:blip r:embed="rId1"/>
          <a:stretch/>
        </p:blipFill>
        <p:spPr>
          <a:xfrm>
            <a:off x="4114800" y="0"/>
            <a:ext cx="5029200" cy="3344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4195c0a81345a30feeb4bfda8e8e524d_full"/>
          <p:cNvPicPr/>
          <p:nvPr/>
        </p:nvPicPr>
        <p:blipFill>
          <a:blip r:embed="rId2"/>
          <a:stretch/>
        </p:blipFill>
        <p:spPr>
          <a:xfrm>
            <a:off x="0" y="1219320"/>
            <a:ext cx="4776840" cy="3465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196610"/>
          <p:cNvPicPr/>
          <p:nvPr/>
        </p:nvPicPr>
        <p:blipFill>
          <a:blip r:embed="rId3"/>
          <a:stretch/>
        </p:blipFill>
        <p:spPr>
          <a:xfrm>
            <a:off x="4724280" y="3124080"/>
            <a:ext cx="4419720" cy="28051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victory_day_parade07"/>
          <p:cNvPicPr/>
          <p:nvPr/>
        </p:nvPicPr>
        <p:blipFill>
          <a:blip r:embed="rId1"/>
          <a:srcRect l="0" t="4762" r="0" b="0"/>
          <a:stretch/>
        </p:blipFill>
        <p:spPr>
          <a:xfrm>
            <a:off x="0" y="3048120"/>
            <a:ext cx="4800600" cy="3047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9may_victorydayparade_authority05"/>
          <p:cNvPicPr/>
          <p:nvPr/>
        </p:nvPicPr>
        <p:blipFill>
          <a:blip r:embed="rId2"/>
          <a:stretch/>
        </p:blipFill>
        <p:spPr>
          <a:xfrm>
            <a:off x="2590920" y="0"/>
            <a:ext cx="4419360" cy="3079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picture"/>
          <p:cNvPicPr/>
          <p:nvPr/>
        </p:nvPicPr>
        <p:blipFill>
          <a:blip r:embed="rId3"/>
          <a:srcRect l="0" t="-2409" r="0" b="4894"/>
          <a:stretch/>
        </p:blipFill>
        <p:spPr>
          <a:xfrm>
            <a:off x="4952880" y="3048120"/>
            <a:ext cx="4191120" cy="30668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304920" y="6095880"/>
            <a:ext cx="8839080" cy="825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Medium Cond"/>
              </a:rPr>
              <a:t>Ежегодно  </a:t>
            </a:r>
            <a:r>
              <a:rPr b="0" lang="ru-RU" sz="2400" spc="-1" strike="noStrike">
                <a:solidFill>
                  <a:srgbClr val="ff0000"/>
                </a:solidFill>
                <a:latin typeface="Franklin Gothic Medium Cond"/>
              </a:rPr>
              <a:t>9 мая</a:t>
            </a:r>
            <a:r>
              <a:rPr b="0" lang="ru-RU" sz="2400" spc="-1" strike="noStrike">
                <a:solidFill>
                  <a:srgbClr val="000000"/>
                </a:solidFill>
                <a:latin typeface="Franklin Gothic Medium Cond"/>
              </a:rPr>
              <a:t> устраивают парад военных в честь праздника Поб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97bad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645440"/>
          <p:cNvPicPr/>
          <p:nvPr/>
        </p:nvPicPr>
        <p:blipFill>
          <a:blip r:embed="rId1"/>
          <a:stretch/>
        </p:blipFill>
        <p:spPr>
          <a:xfrm>
            <a:off x="380880" y="533520"/>
            <a:ext cx="8382240" cy="59338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офка</dc:creator>
  <dc:description/>
  <dc:language>en-US</dc:language>
  <cp:lastModifiedBy>Админ</cp:lastModifiedBy>
  <dcterms:modified xsi:type="dcterms:W3CDTF">2019-05-05T13:41:31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