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049-A7C0-41EC-A61D-48D89F7D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53A-33C7-4B11-8D47-1766C1CA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CFA-7AE9-47C7-80E4-6189A5A5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D59-4B3F-428A-90DF-9B820E48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702-B611-4DEE-B6E1-72B0BCB9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28A-2617-41BF-850F-FB79181B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01A-AA8A-4141-8309-7A986594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47B-B729-462B-AB23-E74B5257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DB6-7BAE-496E-A205-76F0E0D2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DA9-EFB0-47FD-B7F8-8E01FC8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010-3710-4D53-B0EA-9669A4E9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06A-A4ED-4E7D-94F8-A4DA550E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1A5C-7E62-4306-ABF7-B0F3F97EF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it"/>
          <p:cNvPicPr/>
          <p:nvPr/>
        </p:nvPicPr>
        <p:blipFill>
          <a:blip r:embed="rId2"/>
          <a:stretch/>
        </p:blipFill>
        <p:spPr>
          <a:xfrm>
            <a:off x="152280" y="0"/>
            <a:ext cx="8778960" cy="199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04920" y="2362320"/>
            <a:ext cx="43434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 Cond"/>
              </a:rPr>
              <a:t>«День Победы- как 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 Cond"/>
              </a:rPr>
              <a:t>Был от нас далек.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65year"/>
          <p:cNvPicPr/>
          <p:nvPr/>
        </p:nvPicPr>
        <p:blipFill>
          <a:blip r:embed="rId3"/>
          <a:stretch/>
        </p:blipFill>
        <p:spPr>
          <a:xfrm>
            <a:off x="4952880" y="2209680"/>
            <a:ext cx="4051440" cy="4419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xn--c1annr.xn--p1ai/sites/default/files/geroi/kondrin.jpg"/>
          <p:cNvPicPr/>
          <p:nvPr/>
        </p:nvPicPr>
        <p:blipFill>
          <a:blip r:embed="rId2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3"/>
          <a:stretch/>
        </p:blipFill>
        <p:spPr>
          <a:xfrm>
            <a:off x="2011320" y="2962440"/>
            <a:ext cx="390600" cy="9331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5029200" y="29718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Родил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12 сентября 1918 г., Усть-Кат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Умер: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12 февраля 1945 г. (26 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228600" y="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ергей Фёдорович Кондр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оветский май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Ð¡ÐµÑÐ³ÐµÐ¹ Ð¤ÑÐ´Ð¾ÑÐ¾Ð²Ð¸Ñ ÐÐ¾Ð½Ð´ÑÐ¸Ð½.jpg"/>
          <p:cNvPicPr/>
          <p:nvPr/>
        </p:nvPicPr>
        <p:blipFill>
          <a:blip r:embed="rId2"/>
          <a:stretch/>
        </p:blipFill>
        <p:spPr>
          <a:xfrm>
            <a:off x="22860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warheroes.ru/content/images/monuments/busti/KondrinSeFedBust.JPG"/>
          <p:cNvPicPr/>
          <p:nvPr/>
        </p:nvPicPr>
        <p:blipFill>
          <a:blip r:embed="rId2"/>
          <a:stretch/>
        </p:blipFill>
        <p:spPr>
          <a:xfrm>
            <a:off x="152280" y="304920"/>
            <a:ext cx="7007400" cy="5715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-1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4481640" y="2101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4481640" y="6403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3" descr="IMG_0023"/>
          <p:cNvPicPr/>
          <p:nvPr/>
        </p:nvPicPr>
        <p:blipFill>
          <a:blip r:embed="rId1"/>
          <a:srcRect l="0" t="0" r="0" b="2848"/>
          <a:stretch/>
        </p:blipFill>
        <p:spPr>
          <a:xfrm>
            <a:off x="0" y="0"/>
            <a:ext cx="5334120" cy="4495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504389"/>
          <p:cNvPicPr/>
          <p:nvPr/>
        </p:nvPicPr>
        <p:blipFill>
          <a:blip r:embed="rId2"/>
          <a:srcRect l="0" t="0" r="0" b="11791"/>
          <a:stretch/>
        </p:blipFill>
        <p:spPr>
          <a:xfrm>
            <a:off x="5343480" y="0"/>
            <a:ext cx="3800520" cy="4495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DS Moster"/>
              </a:rPr>
              <a:t>ДАВАЙТЕ ПОЧТИМ ПАМЯТЬ ВСЕХ ПОГИБШИХ ЗА РОДИНУ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DS Moster"/>
              </a:rPr>
              <a:t>МИНУТОЙ МОЛ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s://arhivurokov.ru/kopilka/up/html/2017/04/14/k_58f0618d9bab2/409142_13.jpeg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0" y="5715000"/>
            <a:ext cx="9144000" cy="1167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 Cond"/>
              </a:rPr>
              <a:t>МИР - это Земля, мир - это люди, мир - это дети. Мир - это спокойная и  радостная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Medium Cond"/>
              </a:rPr>
              <a:t>Нет войны, нет горя и слез. Мир нужен все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MPj0430937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уст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небо будет голубым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усть в небе не 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клубится</a:t>
            </a: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 дым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усть пушки грозные молча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И пулеметы не строчат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Чтоб жили люди, города..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Мир нужен на земле всегда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(Н. Найденова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6581880" y="152280"/>
            <a:ext cx="23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3426"/>
          <p:cNvPicPr/>
          <p:nvPr/>
        </p:nvPicPr>
        <p:blipFill>
          <a:blip r:embed="rId1"/>
          <a:stretch/>
        </p:blipFill>
        <p:spPr>
          <a:xfrm>
            <a:off x="228600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639584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613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6858000" y="762120"/>
            <a:ext cx="1371600" cy="228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1_23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66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may9_04"/>
          <p:cNvPicPr/>
          <p:nvPr/>
        </p:nvPicPr>
        <p:blipFill>
          <a:blip r:embed="rId2"/>
          <a:stretch/>
        </p:blipFill>
        <p:spPr>
          <a:xfrm>
            <a:off x="0" y="2838600"/>
            <a:ext cx="4572000" cy="3409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304920" y="30492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 Cond"/>
              </a:rPr>
              <a:t>Нет в России семьи, которую война обошла стороной. В этот день вспоминают тех, кто остался на полях сражений, тех, кто после войны налаживал мир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09480" y="541008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А еще поздравляют тех воинов Великой Отечественной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которые живут сего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images"/>
          <p:cNvPicPr/>
          <p:nvPr/>
        </p:nvPicPr>
        <p:blipFill>
          <a:blip r:embed="rId1"/>
          <a:srcRect l="0" t="16250" r="0" b="0"/>
          <a:stretch/>
        </p:blipFill>
        <p:spPr>
          <a:xfrm>
            <a:off x="0" y="0"/>
            <a:ext cx="9144000" cy="5335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9_may_2004_072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5688000"/>
            <a:ext cx="9144000" cy="116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 Cond"/>
              </a:rPr>
              <a:t>В этот Великий день принято бывать на могилах погибших воинов, возлагать вен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 Cond"/>
              </a:rPr>
              <a:t>живые цветы тем, кто не вернулся с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1"/>
          <p:cNvSpPr/>
          <p:nvPr/>
        </p:nvSpPr>
        <p:spPr>
          <a:xfrm>
            <a:off x="0" y="5943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 Cond"/>
              </a:rPr>
              <a:t>Все дальше в прошлое уходят годы страшной войны. Но подвиг людей, вставших на защиту Отечества, будет вечно жить в памяти российского на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MPj04337560000[1]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34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4195c0a81345a30feeb4bfda8e8e524d_full"/>
          <p:cNvPicPr/>
          <p:nvPr/>
        </p:nvPicPr>
        <p:blipFill>
          <a:blip r:embed="rId2"/>
          <a:stretch/>
        </p:blipFill>
        <p:spPr>
          <a:xfrm>
            <a:off x="0" y="1219320"/>
            <a:ext cx="4776840" cy="346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96610"/>
          <p:cNvPicPr/>
          <p:nvPr/>
        </p:nvPicPr>
        <p:blipFill>
          <a:blip r:embed="rId3"/>
          <a:stretch/>
        </p:blipFill>
        <p:spPr>
          <a:xfrm>
            <a:off x="4724280" y="3124080"/>
            <a:ext cx="4419720" cy="28051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victory_day_parade07"/>
          <p:cNvPicPr/>
          <p:nvPr/>
        </p:nvPicPr>
        <p:blipFill>
          <a:blip r:embed="rId1"/>
          <a:srcRect l="0" t="4762" r="0" b="0"/>
          <a:stretch/>
        </p:blipFill>
        <p:spPr>
          <a:xfrm>
            <a:off x="0" y="3048120"/>
            <a:ext cx="4800600" cy="30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9may_victorydayparade_authority05"/>
          <p:cNvPicPr/>
          <p:nvPr/>
        </p:nvPicPr>
        <p:blipFill>
          <a:blip r:embed="rId2"/>
          <a:stretch/>
        </p:blipFill>
        <p:spPr>
          <a:xfrm>
            <a:off x="2590920" y="0"/>
            <a:ext cx="4419360" cy="307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picture"/>
          <p:cNvPicPr/>
          <p:nvPr/>
        </p:nvPicPr>
        <p:blipFill>
          <a:blip r:embed="rId3"/>
          <a:srcRect l="0" t="-2409" r="0" b="4894"/>
          <a:stretch/>
        </p:blipFill>
        <p:spPr>
          <a:xfrm>
            <a:off x="4952880" y="3048120"/>
            <a:ext cx="4191120" cy="3066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04920" y="6095880"/>
            <a:ext cx="883908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Ежегодно  </a:t>
            </a:r>
            <a:r>
              <a:rPr b="0" lang="ru-RU" sz="2400" spc="-1" strike="noStrike">
                <a:solidFill>
                  <a:srgbClr val="ff0000"/>
                </a:solidFill>
                <a:latin typeface="Franklin Gothic Medium Cond"/>
              </a:rPr>
              <a:t>9 мая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 устраивают парад военных в честь праздника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7ba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645440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5933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офка</dc:creator>
  <dc:description/>
  <dc:language>en-US</dc:language>
  <cp:lastModifiedBy>Админ</cp:lastModifiedBy>
  <dcterms:modified xsi:type="dcterms:W3CDTF">2019-05-05T13:41:3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