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996C-8A4D-49F9-A6E0-BEF03C2C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2B4-D0B0-434D-A1F8-EA0D0E2E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755-CDB2-4A72-8DCE-45E5E537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507-FDB2-4F11-B29D-60CE0FE7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BEC-624B-41E9-B955-C28431D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DD4-023C-4AF5-B809-97FBA946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4C4-FEA4-4300-A937-CC4D4CA0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D4B-E2F9-4DBD-9003-2DA770E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19D-5FA0-47BE-856C-8A03360D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89E-649F-4B6E-823D-8968EC2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433-EDFB-42B9-ADFF-E934433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D41-02C6-46C7-A344-6AE0DF0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838E-396F-4552-8A85-9690D1BE6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44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468360" y="1413000"/>
            <a:ext cx="835164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1.Вторая ча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ет значение 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можно заменить союзам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ОТОМУ ЧТО, ТАК К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Не нагнать тебе бешеной тройки: кони крепки, и сыты, и бо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06440" y="436680"/>
            <a:ext cx="828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68360" y="3429000"/>
            <a:ext cx="83534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539640" y="4581360"/>
            <a:ext cx="302436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5221440" y="4486320"/>
            <a:ext cx="3311280" cy="914400"/>
          </a:xfrm>
          <a:prstGeom prst="roundRect">
            <a:avLst>
              <a:gd name="adj" fmla="val 25000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3"/>
          <p:cNvSpPr/>
          <p:nvPr/>
        </p:nvSpPr>
        <p:spPr>
          <a:xfrm>
            <a:off x="665964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4"/>
          <p:cNvSpPr/>
          <p:nvPr/>
        </p:nvSpPr>
        <p:spPr>
          <a:xfrm>
            <a:off x="6877080" y="4005360"/>
            <a:ext cx="0" cy="50328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7"/>
          <p:cNvSpPr/>
          <p:nvPr/>
        </p:nvSpPr>
        <p:spPr>
          <a:xfrm>
            <a:off x="1835280" y="4005360"/>
            <a:ext cx="504180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8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68360" y="1413000"/>
            <a:ext cx="835164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Втора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значении пояс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можно подставить слова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А ИМЕ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Погода была ужасная: дождь лил как из ве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68360" y="487440"/>
            <a:ext cx="8280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24000" y="3933720"/>
            <a:ext cx="864072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11280" y="4724280"/>
            <a:ext cx="302400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5219640" y="4724280"/>
            <a:ext cx="3311640" cy="914400"/>
          </a:xfrm>
          <a:prstGeom prst="roundRect">
            <a:avLst>
              <a:gd name="adj" fmla="val 14759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ояс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6659640" y="4149720"/>
            <a:ext cx="0" cy="57636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1908000" y="4149720"/>
            <a:ext cx="0" cy="57456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1908000" y="4149720"/>
            <a:ext cx="475164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68360" y="141300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.Вторая ча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 значение допол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жно поставить во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ЧТО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ются глагол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ервой част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видеть, смотреть, гнать, понимать, чувство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Слышу я: звенит синица средь желтеющих п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8360" y="404640"/>
            <a:ext cx="8280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8360" y="4221000"/>
            <a:ext cx="83534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684360" y="4797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5219640" y="4724280"/>
            <a:ext cx="3311640" cy="914400"/>
          </a:xfrm>
          <a:prstGeom prst="roundRect">
            <a:avLst>
              <a:gd name="adj" fmla="val 25000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дополн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2124000" y="4076640"/>
            <a:ext cx="460872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6732720" y="4076640"/>
            <a:ext cx="0" cy="64764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124000" y="4076640"/>
            <a:ext cx="0" cy="7192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468360" y="1413000"/>
            <a:ext cx="8351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торая ча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 прямо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Скажи мне, ветка Палестины: где ты росла, где ты цв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404640"/>
            <a:ext cx="8280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оето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539640" y="3284640"/>
            <a:ext cx="83534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684360" y="4653000"/>
            <a:ext cx="3166920" cy="9144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5148360" y="4653000"/>
            <a:ext cx="3311280" cy="912600"/>
          </a:xfrm>
          <a:prstGeom prst="roundRect">
            <a:avLst>
              <a:gd name="adj" fmla="val 25000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оясн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732720" y="3933720"/>
            <a:ext cx="0" cy="7207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1619280" y="3933720"/>
            <a:ext cx="5113440" cy="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1619280" y="3933720"/>
            <a:ext cx="0" cy="6476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324000" y="549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504d"/>
                </a:solidFill>
                <a:uFillTx/>
                <a:latin typeface="Arial"/>
                <a:ea typeface="Arial"/>
              </a:rPr>
              <a:t>Бессоюзные  предложения  сложного  соста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 В  этих  предложениях вторая часть состоит не из одного,  а  из  нескольких  простых  предлож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Какую-то особенную  ветхость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заметил  он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а  всех  деревенских  строениях: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бревно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а избах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было темно и старо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; многие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крыши сквозили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,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как  решето;  на иных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тавался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только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конек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вверху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да жерди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о сторонам в виде  ребер .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риятно после долгой ходьбы и глубокого сна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ежать неподвижно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а сене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:  тело нежитс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          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томится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,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легким жаром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ышет  лицо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сладкая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ень  смыкает</a:t>
            </a:r>
            <a:r>
              <a:rPr b="1" lang="ru-RU" sz="2800" spc="-1" strike="noStrike">
                <a:solidFill>
                  <a:srgbClr val="558ed5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альные признаки постановки двоеточ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авится обязательн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ой части бессоюзного сложного предложения  имеются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так, таков, одно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ретное  содержание которых раскрывается во второй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Обычай мой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аков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подписано, так с плеч дол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опрос для Кутузова теперь  состоял только в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том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неужели это он допустил Наполеона в Моск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это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делаю так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 выкопаю подле самого камня большую яму, землю из ямы развалю по площади, свалю камень в яму и заровняю зем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вам скажу только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дно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нельзя сидеть сложа ру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(вторая часть раскрывает значение местоименного слова ОД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альные признаки постановки двоеточ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Ставится обязательно, ес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ой части  имеются глаголы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ыглянуть, оглянуться, прислушаться и т.д.,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я типа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днять глаза, поднять голо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выглянул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из кибитки: все было мрак и вихор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арвара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рислушалась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донесся шум вечернего 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днял голову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перед огнем, на опрокинутой кадке, сидела мельничиха и разговаривала с моим охотни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Я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однял глаз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: на крыше хаты моей стола девушка в полосатом платье, с распущенными воло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684360" y="-36360"/>
            <a:ext cx="9828360" cy="7370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-274680" y="333360"/>
            <a:ext cx="9110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  <a:ea typeface="Arial"/>
              </a:rPr>
              <a:t>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1. Найдите БС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ремя обдумало, сдуло все лиш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Я шагал за счастливою долей, беспокойным искателем ст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Дело было вечером, делать было неч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Друзей мы теряли на трудных дорогах, хранили любовь под ог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</a:t>
            </a:r>
            <a:r>
              <a:rPr b="1" lang="ru-RU" sz="2000" spc="-1" strike="noStrike" u="sng">
                <a:solidFill>
                  <a:srgbClr val="112947"/>
                </a:solidFill>
                <a:uFillTx/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Лес, горы слились,  все окуталось густым тума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Е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По синеющему небу плыли легкие облака, облитые золотыми лу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заходящего 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2. Укажите БСП, между частями которого надо поставить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ыходить в море никто не решался ветер достиг восьми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 глазах у меня потемнело голова закруж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Дрова все вышли топить неч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Чин следовал ему он службу вдруг остав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 феврале много инея на деревьях будет много ме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4"/>
          <p:cNvSpPr/>
          <p:nvPr/>
        </p:nvSpPr>
        <p:spPr>
          <a:xfrm>
            <a:off x="214200" y="836640"/>
            <a:ext cx="8715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3.  Найдите БСП, между частями которых надо поставить двое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Поезд ушел его огни исчез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На улице было еще пусто над крышами домов вставало сол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</a:t>
            </a:r>
            <a:r>
              <a:rPr b="1" lang="ru-RU" sz="2000" spc="-1" strike="noStrike" u="sng">
                <a:solidFill>
                  <a:srgbClr val="112947"/>
                </a:solidFill>
                <a:uFillTx/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Случилась беда селевый поток размыл железнодорожный п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Не бойтесь вас подстрах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Хотел рисовать кисти выпадали из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Е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Солнце дымное встает будет день горя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4. Укажите БСП, между частями которых надо поставить т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Чайка прилетела скоро лед п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от уж снег последний в поле тает теплый пар восходит от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Я знаю в вашем сердце есть и гордость и прямая 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Любишь кататься люби и саночки воз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Д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Источник утоляет жажду доброе слово оживляет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Е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Трус не любит жизни он только боится ее поте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357120" y="333360"/>
            <a:ext cx="84297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5. Найдите, в каких примерах тире стоит между частями БС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Солнце вешнее, нивы здешние — все тебе отдать бы 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Над Россиею — небо си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Сухая поздняя осень — самое лучшее поэтическое время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На дворе в морозном пару краснело солнце — в доме было теп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6. Укажите предложение, соответствующее схем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      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[   ] :  [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причина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Не будьте равнодушны ибо равнодушие смертоносно для душ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Знойные и сухие ветра разгоняли тучи солнце нещадно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     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палило хлеба и 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В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В доме не дождутся с ловли рыбака обещал вернуться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            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через два ден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 </a:t>
            </a:r>
            <a:r>
              <a:rPr b="1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Г. </a:t>
            </a:r>
            <a:r>
              <a:rPr b="0" lang="ru-RU" sz="2400" spc="-1" strike="noStrike">
                <a:solidFill>
                  <a:srgbClr val="112947"/>
                </a:solidFill>
                <a:latin typeface="Times New Roman"/>
                <a:ea typeface="Arial"/>
              </a:rPr>
              <a:t>За ночь все отдохнули можно было двигаться да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68360" y="260280"/>
            <a:ext cx="835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00000"/>
                </a:solidFill>
                <a:uFillTx/>
                <a:latin typeface="Propisi"/>
                <a:ea typeface="Arial"/>
              </a:rPr>
              <a:t>Бессоюзное сложное предложение </a:t>
            </a:r>
            <a:r>
              <a:rPr b="1" lang="ru-RU" sz="4000" spc="-1" strike="noStrike">
                <a:solidFill>
                  <a:srgbClr val="800000"/>
                </a:solidFill>
                <a:latin typeface="Propisi"/>
                <a:ea typeface="Arial"/>
              </a:rPr>
              <a:t>– это предложение, состоящее из двух или более частей, связанных между собой по смыслу, интонационно, порядком расположения частей, но без сою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428760" y="549360"/>
            <a:ext cx="8358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7. Найдите предложение, в котором нет пунктуационны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Тропка уходит в поля и в дождь и в осень и в озим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Было грустно: в весеннем воздухе и на потемневшем н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 железном вихре ветра и колес кружился дым и падал под отк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Забормотал тетерев и кто-то в деревне запел на всю о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8. Найдите предложения с речевыми ошиб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А. 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Обработка результатов испытаний проводилась в два эта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Б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Каждая минута рабочего времени дня должна быть на уч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В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За год артель получила более 150 миллионов рублей денег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Г.</a:t>
            </a:r>
            <a:r>
              <a:rPr b="0" lang="ru-RU" sz="2000" spc="-1" strike="noStrike">
                <a:solidFill>
                  <a:srgbClr val="112947"/>
                </a:solidFill>
                <a:latin typeface="Times New Roman"/>
                <a:ea typeface="Arial"/>
              </a:rPr>
              <a:t> Все люди рождаются свободными и равными в своем достоинстве и пра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2-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3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4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5-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-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-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Рисунок1"/>
          <p:cNvPicPr/>
          <p:nvPr/>
        </p:nvPicPr>
        <p:blipFill>
          <a:blip r:embed="rId2"/>
          <a:stretch/>
        </p:blipFill>
        <p:spPr>
          <a:xfrm rot="1389600">
            <a:off x="5616360" y="932040"/>
            <a:ext cx="20602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428760" y="4287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7933c"/>
                </a:solidFill>
                <a:uFillTx/>
                <a:latin typeface="Calibri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971640" y="1557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Arial"/>
              </a:rPr>
              <a:t>Знаки препинания в БС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95280" y="26028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95280" y="1969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Запя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95280" y="625320"/>
            <a:ext cx="831996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ение одновременности, последова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(можно вставить союз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Двери и окна отворены настежь, в саду  не шелохнется ли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Propi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Propisi"/>
                <a:ea typeface="Arial"/>
              </a:rPr>
              <a:t>Роняет лес багряный свой убор, </a:t>
            </a: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с</a:t>
            </a:r>
            <a:r>
              <a:rPr b="1" lang="ru-RU" sz="2600" spc="-1" strike="noStrike">
                <a:solidFill>
                  <a:srgbClr val="800000"/>
                </a:solidFill>
                <a:latin typeface="Propisi"/>
                <a:ea typeface="Arial"/>
              </a:rPr>
              <a:t>ребрит мороз увянувшее пол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Метель не утихала, небо не прояснялось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1135080" y="32958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очка с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47840" y="3763800"/>
            <a:ext cx="8215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чение одновременности, последовательности. 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части БСП осложне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и внутри есть уже 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Propisi"/>
                <a:ea typeface="Arial"/>
              </a:rPr>
              <a:t>Уже вечерело; солнце скрылось за небольшую сосновую рощу, лежавшую в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800000"/>
                </a:solidFill>
                <a:latin typeface="Propisi"/>
                <a:ea typeface="Arial"/>
              </a:rPr>
              <a:t>полуверсте от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778560" y="29052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500040" y="809640"/>
            <a:ext cx="8286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то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дложении имеетс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знач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Arial"/>
              </a:rPr>
              <a:t>противопоставлен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можно вставить сою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а, 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Propisi"/>
                <a:ea typeface="Arial"/>
              </a:rPr>
              <a:t>Служить бы рад – прислуживаться тошно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(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Шестнадцать лет служу – такого со мной не было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508720" y="4005360"/>
            <a:ext cx="3168720" cy="7189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противопо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324000" y="3933720"/>
            <a:ext cx="3168360" cy="71928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67280" y="4149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500040" y="4797360"/>
            <a:ext cx="83930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В предложении выраже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быстрая смена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Сыр выпал – с ним была плутовка та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11280" y="1413000"/>
            <a:ext cx="792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Первая часть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 значе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словие действия,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можно подставить союз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           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Лес рубят – щепки ле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712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284720" y="5157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755640" y="4869000"/>
            <a:ext cx="3240000" cy="8636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Время, услови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5724360" y="486900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7360" y="323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ая 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одержи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зультат, 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жно подставить слов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это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олнце дымное встает – будет день горяч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95280" y="47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5580000" y="4724280"/>
            <a:ext cx="3095640" cy="6494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результат , 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140360" y="4941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Вторая 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держит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ожно подставить слов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овно, буд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лвит слово – соловей по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жно подставить союз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гд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ашню пашут – руками не маш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95280" y="47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5580000" y="4724280"/>
            <a:ext cx="3095640" cy="6494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140360" y="4941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4760" y="20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.Вторая 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держит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ожно подставить слов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овно, буд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лвит слово – соловей по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ожно подставить союз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гд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ашню пашут – руками не маш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395280" y="472428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5580000" y="4724280"/>
            <a:ext cx="3095640" cy="649440"/>
          </a:xfrm>
          <a:prstGeom prst="roundRect">
            <a:avLst>
              <a:gd name="adj" fmla="val 16667"/>
            </a:avLst>
          </a:prstGeom>
          <a:solidFill>
            <a:srgbClr val="edc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140360" y="4941720"/>
            <a:ext cx="9144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2:39:05Z</dcterms:created>
  <dc:creator>общий</dc:creator>
  <dc:description/>
  <dc:language>en-US</dc:language>
  <cp:lastModifiedBy>user</cp:lastModifiedBy>
  <dcterms:modified xsi:type="dcterms:W3CDTF">2014-02-27T17:11:10Z</dcterms:modified>
  <cp:revision>42</cp:revision>
  <dc:subject/>
  <dc:title>Слайд 1</dc:title>
</cp:coreProperties>
</file>