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E806-C71B-48C2-975F-FAF12C98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CC24-7874-4334-A0C5-8433E9EE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077F-C834-4DBE-8AAE-64856292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C391-9103-4544-9119-A468A5F2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BBE2-B636-435D-A0AF-B4273D39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D26-A6E0-4CC6-B97D-8D1462B3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C18B-ED1D-464D-AE6C-731F561F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90B8-F89C-483C-9BCA-773E6036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F5E1-9737-417D-8498-0B5C837D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DFD4-858C-49BC-AC95-6EB1B340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F300-5844-47E5-ACB0-06D1CC51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D745-7909-4A91-A487-D98843E0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E3F4-C4B3-4DE9-9C3E-C11CB298E3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900000" y="1700280"/>
            <a:ext cx="7445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8"/>
          <p:cNvSpPr/>
          <p:nvPr/>
        </p:nvSpPr>
        <p:spPr>
          <a:xfrm>
            <a:off x="468360" y="1413000"/>
            <a:ext cx="8351640" cy="24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1.Вторая ча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меет значение прич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можно заменить союзами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ПОТОМУ ЧТО, ТАК КА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  <a:ea typeface="Arial"/>
              </a:rPr>
              <a:t>Не нагнать тебе бешеной тройки: кони крепки, и сыты, и бой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406440" y="436680"/>
            <a:ext cx="8280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Двоето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468360" y="342900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6"/>
          <p:cNvSpPr/>
          <p:nvPr/>
        </p:nvSpPr>
        <p:spPr>
          <a:xfrm>
            <a:off x="539640" y="4581360"/>
            <a:ext cx="3024360" cy="914400"/>
          </a:xfrm>
          <a:prstGeom prst="roundRect">
            <a:avLst>
              <a:gd name="adj" fmla="val 16667"/>
            </a:avLst>
          </a:prstGeom>
          <a:solidFill>
            <a:srgbClr val="edc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7"/>
          <p:cNvSpPr/>
          <p:nvPr/>
        </p:nvSpPr>
        <p:spPr>
          <a:xfrm>
            <a:off x="5221440" y="4486320"/>
            <a:ext cx="3311280" cy="914400"/>
          </a:xfrm>
          <a:prstGeom prst="roundRect">
            <a:avLst>
              <a:gd name="adj" fmla="val 25000"/>
            </a:avLst>
          </a:prstGeom>
          <a:solidFill>
            <a:srgbClr val="edc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прич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3"/>
          <p:cNvSpPr/>
          <p:nvPr/>
        </p:nvSpPr>
        <p:spPr>
          <a:xfrm>
            <a:off x="665964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4"/>
          <p:cNvSpPr/>
          <p:nvPr/>
        </p:nvSpPr>
        <p:spPr>
          <a:xfrm>
            <a:off x="6877080" y="4005360"/>
            <a:ext cx="0" cy="50328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7"/>
          <p:cNvSpPr/>
          <p:nvPr/>
        </p:nvSpPr>
        <p:spPr>
          <a:xfrm>
            <a:off x="1835280" y="4005360"/>
            <a:ext cx="50418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8"/>
          <p:cNvSpPr/>
          <p:nvPr/>
        </p:nvSpPr>
        <p:spPr>
          <a:xfrm>
            <a:off x="1835280" y="4005360"/>
            <a:ext cx="0" cy="57600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468360" y="1413000"/>
            <a:ext cx="835164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2.Вторая ча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значении пояс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можно подставить слова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А ИМЕН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  <a:ea typeface="Arial"/>
              </a:rPr>
              <a:t>Погода была ужасная: дождь лил как из вед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68360" y="487440"/>
            <a:ext cx="8280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Двоето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24000" y="3933720"/>
            <a:ext cx="864072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11280" y="4724280"/>
            <a:ext cx="3024000" cy="914400"/>
          </a:xfrm>
          <a:prstGeom prst="roundRect">
            <a:avLst>
              <a:gd name="adj" fmla="val 16667"/>
            </a:avLst>
          </a:prstGeom>
          <a:solidFill>
            <a:srgbClr val="edc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5219640" y="4724280"/>
            <a:ext cx="3311640" cy="914400"/>
          </a:xfrm>
          <a:prstGeom prst="roundRect">
            <a:avLst>
              <a:gd name="adj" fmla="val 14759"/>
            </a:avLst>
          </a:prstGeom>
          <a:solidFill>
            <a:srgbClr val="edc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поясня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6659640" y="4149720"/>
            <a:ext cx="0" cy="57636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6"/>
          <p:cNvSpPr/>
          <p:nvPr/>
        </p:nvSpPr>
        <p:spPr>
          <a:xfrm>
            <a:off x="1908000" y="4149720"/>
            <a:ext cx="0" cy="57456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7"/>
          <p:cNvSpPr/>
          <p:nvPr/>
        </p:nvSpPr>
        <p:spPr>
          <a:xfrm>
            <a:off x="1908000" y="4149720"/>
            <a:ext cx="475164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468360" y="1413000"/>
            <a:ext cx="835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3.Вторая час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ет значение дополн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жно поставить вопро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ЧТО;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меются глаголы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первой част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видеть, смотреть, гнать, понимать, чувствов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  <a:ea typeface="Arial"/>
              </a:rPr>
              <a:t>Слышу я: звенит синица средь желтеющих по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68360" y="404640"/>
            <a:ext cx="8280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Двоеточ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68360" y="4221000"/>
            <a:ext cx="83534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684360" y="4797360"/>
            <a:ext cx="3240000" cy="914400"/>
          </a:xfrm>
          <a:prstGeom prst="roundRect">
            <a:avLst>
              <a:gd name="adj" fmla="val 16667"/>
            </a:avLst>
          </a:prstGeom>
          <a:solidFill>
            <a:srgbClr val="edc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5219640" y="4724280"/>
            <a:ext cx="3311640" cy="914400"/>
          </a:xfrm>
          <a:prstGeom prst="roundRect">
            <a:avLst>
              <a:gd name="adj" fmla="val 25000"/>
            </a:avLst>
          </a:prstGeom>
          <a:solidFill>
            <a:srgbClr val="edc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дополня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 flipH="1">
            <a:off x="2124000" y="4076640"/>
            <a:ext cx="4608720" cy="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6732720" y="4076640"/>
            <a:ext cx="0" cy="64764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4"/>
          <p:cNvSpPr/>
          <p:nvPr/>
        </p:nvSpPr>
        <p:spPr>
          <a:xfrm>
            <a:off x="2124000" y="4076640"/>
            <a:ext cx="0" cy="71928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468360" y="1413000"/>
            <a:ext cx="83516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4.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Вторая ча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держит прямой 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Скажи мне, ветка Палестины: где ты росла, где ты цве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468360" y="404640"/>
            <a:ext cx="8280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Двоеточ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539640" y="3284640"/>
            <a:ext cx="835344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"/>
          <p:cNvSpPr/>
          <p:nvPr/>
        </p:nvSpPr>
        <p:spPr>
          <a:xfrm>
            <a:off x="684360" y="4653000"/>
            <a:ext cx="3166920" cy="914400"/>
          </a:xfrm>
          <a:prstGeom prst="roundRect">
            <a:avLst>
              <a:gd name="adj" fmla="val 16667"/>
            </a:avLst>
          </a:prstGeom>
          <a:solidFill>
            <a:srgbClr val="edc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5148360" y="4653000"/>
            <a:ext cx="3311280" cy="912600"/>
          </a:xfrm>
          <a:prstGeom prst="roundRect">
            <a:avLst>
              <a:gd name="adj" fmla="val 25000"/>
            </a:avLst>
          </a:prstGeom>
          <a:solidFill>
            <a:srgbClr val="edc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поясня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6732720" y="3933720"/>
            <a:ext cx="0" cy="7207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4"/>
          <p:cNvSpPr/>
          <p:nvPr/>
        </p:nvSpPr>
        <p:spPr>
          <a:xfrm>
            <a:off x="1619280" y="3933720"/>
            <a:ext cx="511344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5"/>
          <p:cNvSpPr/>
          <p:nvPr/>
        </p:nvSpPr>
        <p:spPr>
          <a:xfrm>
            <a:off x="1619280" y="3933720"/>
            <a:ext cx="0" cy="64764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324000" y="549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504d"/>
                </a:solidFill>
                <a:uFillTx/>
                <a:latin typeface="Arial"/>
                <a:ea typeface="Arial"/>
              </a:rPr>
              <a:t>Бессоюзные  предложения  сложного  соста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 В  этих  предложениях вторая часть состоит не из одного,  а  из  нескольких  простых  предлож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Какую-то особенную  ветхость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заметил  он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на  всех  деревенских  строениях: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бревно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на избах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было темно и старо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; многие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крыши сквозили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,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как  решето;  на иных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оставался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только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конек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вверху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да жерди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по сторонам в виде  ребер .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Приятно после долгой ходьбы и глубокого сна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лежать неподвижно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на сене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:  тело нежится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              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томится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,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легким жаром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пышет  лицо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, 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сладкая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лень  смыкает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гл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Формальные признаки постановки двоеточ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Ставится обязательно, ес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ервой части бессоюзного сложного предложения  имеются сло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так, таков, одно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ретное  содержание которых раскрывается во второй ч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Обычай мой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таков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: подписано, так с плеч дол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Вопрос для Кутузова теперь  состоял только в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том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: неужели это он допустил Наполеона в Москв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Я это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делаю так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:  выкопаю подле самого камня большую яму, землю из ямы развалю по площади, свалю камень в яму и заровняю земл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Я вам скажу только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одно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: нельзя сидеть сложа ру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(вторая часть раскрывает значение местоименного слова ОДН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Формальные признаки постановки двоеточ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Ставится обязательно, ес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вой части  имеются глаголы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выглянуть, оглянуться, прислушаться и т.д.,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жения типа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поднять глаза, поднять голов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Я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выглянул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из кибитки: все было мрак и вихор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Варвара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прислушалась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: донесся шум вечернего поез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Я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поднял голову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: перед огнем, на опрокинутой кадке, сидела мельничиха и разговаривала с моим охотник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Я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поднял глаза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: на крыше хаты моей стола девушка в полосатом платье, с распущенными волос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-684360" y="-36360"/>
            <a:ext cx="9828360" cy="737064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3"/>
          <p:cNvSpPr/>
          <p:nvPr/>
        </p:nvSpPr>
        <p:spPr>
          <a:xfrm>
            <a:off x="-274680" y="333360"/>
            <a:ext cx="91108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Т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egoe Script"/>
                <a:ea typeface="Arial"/>
              </a:rPr>
              <a:t>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1. Найдите БС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А. 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Время обдумало, сдуло все лиш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Б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Я шагал за счастливою долей, беспокойным искателем ста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В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Дело было вечером, делать было неч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Г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Друзей мы теряли на трудных дорогах, хранили любовь под огн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Д</a:t>
            </a:r>
            <a:r>
              <a:rPr b="1" lang="ru-RU" sz="2000" spc="-1" strike="noStrike" u="sng">
                <a:solidFill>
                  <a:srgbClr val="112947"/>
                </a:solidFill>
                <a:uFillTx/>
                <a:latin typeface="Times New Roman"/>
                <a:ea typeface="Arial"/>
              </a:rPr>
              <a:t>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Лес, горы слились,  все окуталось густым тума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Е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По синеющему небу плыли легкие облака, облитые золотыми луч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     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заходящего сол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2. Укажите БСП, между частями которого надо поставить запят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А. 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Выходить в море никто не решался ветер достиг восьми б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Б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В глазах у меня потемнело голова закружи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В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Дрова все вышли топить неч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Г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Чин следовал ему он службу вдруг остав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Д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В феврале много инея на деревьях будет много ме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4"/>
          <p:cNvSpPr/>
          <p:nvPr/>
        </p:nvSpPr>
        <p:spPr>
          <a:xfrm>
            <a:off x="214200" y="836640"/>
            <a:ext cx="8715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3.  Найдите БСП, между частями которых надо поставить двоето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А. 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Поезд ушел его огни исчез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Б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На улице было еще пусто над крышами домов вставало солн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В</a:t>
            </a:r>
            <a:r>
              <a:rPr b="1" lang="ru-RU" sz="2000" spc="-1" strike="noStrike" u="sng">
                <a:solidFill>
                  <a:srgbClr val="112947"/>
                </a:solidFill>
                <a:uFillTx/>
                <a:latin typeface="Times New Roman"/>
                <a:ea typeface="Arial"/>
              </a:rPr>
              <a:t>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Случилась беда селевый поток размыл железнодорожный пу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Г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Не бойтесь вас подстраху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Д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Хотел рисовать кисти выпадали из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Е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Солнце дымное встает будет день горяч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4. Укажите БСП, между частями которых надо поставить т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А. 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Чайка прилетела скоро лед пой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Б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Вот уж снег последний в поле тает теплый пар восходит от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В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Я знаю в вашем сердце есть и гордость и прямая ч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Г. 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Любишь кататься люби и саночки воз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Д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Источник утоляет жажду доброе слово оживляет серд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Е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Трус не любит жизни он только боится ее потер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4"/>
          <p:cNvSpPr/>
          <p:nvPr/>
        </p:nvSpPr>
        <p:spPr>
          <a:xfrm>
            <a:off x="357120" y="333360"/>
            <a:ext cx="8429760" cy="69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5. Найдите, в каких примерах тире стоит между частями БС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</a:t>
            </a:r>
            <a:r>
              <a:rPr b="1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А. </a:t>
            </a:r>
            <a:r>
              <a:rPr b="0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Солнце вешнее, нивы здешние — все тебе отдать бы 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</a:t>
            </a:r>
            <a:r>
              <a:rPr b="1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Б.</a:t>
            </a:r>
            <a:r>
              <a:rPr b="0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 Над Россиею — небо си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</a:t>
            </a:r>
            <a:r>
              <a:rPr b="1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В.</a:t>
            </a:r>
            <a:r>
              <a:rPr b="0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 Сухая поздняя осень — самое лучшее поэтическое время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</a:t>
            </a:r>
            <a:r>
              <a:rPr b="1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Г.</a:t>
            </a:r>
            <a:r>
              <a:rPr b="0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 На дворе в морозном пару краснело солнце — в доме было теп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6. Укажите предложение, соответствующее схем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        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[   ] :  [ 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причина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</a:t>
            </a:r>
            <a:r>
              <a:rPr b="1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А. </a:t>
            </a:r>
            <a:r>
              <a:rPr b="0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Не будьте равнодушны ибо равнодушие смертоносно для души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</a:t>
            </a:r>
            <a:r>
              <a:rPr b="1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Б.</a:t>
            </a:r>
            <a:r>
              <a:rPr b="0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 Знойные и сухие ветра разгоняли тучи солнце нещадно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           </a:t>
            </a:r>
            <a:r>
              <a:rPr b="0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палило хлеба и  тра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</a:t>
            </a:r>
            <a:r>
              <a:rPr b="1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В. </a:t>
            </a:r>
            <a:r>
              <a:rPr b="0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В доме не дождутся с ловли рыбака обещал вернуться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           </a:t>
            </a:r>
            <a:r>
              <a:rPr b="0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через два день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</a:t>
            </a:r>
            <a:r>
              <a:rPr b="1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Г. </a:t>
            </a:r>
            <a:r>
              <a:rPr b="0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За ночь все отдохнули можно было двигаться дал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468360" y="260280"/>
            <a:ext cx="83516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00"/>
                </a:solidFill>
                <a:uFillTx/>
                <a:latin typeface="Propisi"/>
                <a:ea typeface="Arial"/>
              </a:rPr>
              <a:t>Бессоюзное сложное предложение </a:t>
            </a:r>
            <a:r>
              <a:rPr b="1" lang="ru-RU" sz="4000" spc="-1" strike="noStrike">
                <a:solidFill>
                  <a:srgbClr val="800000"/>
                </a:solidFill>
                <a:latin typeface="Propisi"/>
                <a:ea typeface="Arial"/>
              </a:rPr>
              <a:t>– это предложение, состоящее из двух или более частей, связанных между собой по смыслу, интонационно, порядком расположения частей, но без союз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4"/>
          <p:cNvSpPr/>
          <p:nvPr/>
        </p:nvSpPr>
        <p:spPr>
          <a:xfrm>
            <a:off x="428760" y="549360"/>
            <a:ext cx="8358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7. Найдите предложение, в котором нет пунктуационных ошиб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А. 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Тропка уходит в поля и в дождь и в осень и в озим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Б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Было грустно: в весеннем воздухе и на потемневшем н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В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В железном вихре ветра и колес кружился дым и падал под отк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Г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Забормотал тетерев и кто-то в деревне запел на всю ок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8. Найдите предложения с речевыми ошиб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А. 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Обработка результатов испытаний проводилась в два эта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Б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Каждая минута рабочего времени дня должна быть на уч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В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За год артель получила более 150 миллионов рублей денег до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Г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Все люди рождаются свободными и равными в своем достоинстве и прав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-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2-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3-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4-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5-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6- 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7- 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8- 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Рисунок1"/>
          <p:cNvPicPr/>
          <p:nvPr/>
        </p:nvPicPr>
        <p:blipFill>
          <a:blip r:embed="rId2"/>
          <a:stretch/>
        </p:blipFill>
        <p:spPr>
          <a:xfrm rot="1389600">
            <a:off x="5616360" y="932040"/>
            <a:ext cx="206028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4"/>
          <p:cNvSpPr/>
          <p:nvPr/>
        </p:nvSpPr>
        <p:spPr>
          <a:xfrm>
            <a:off x="428760" y="42876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7933c"/>
                </a:solidFill>
                <a:uFillTx/>
                <a:latin typeface="Calibri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971640" y="155736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  <a:ea typeface="Arial"/>
              </a:rPr>
              <a:t>Знаки препинания в БС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395280" y="260280"/>
            <a:ext cx="842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395280" y="19692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Запят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395280" y="625320"/>
            <a:ext cx="8319960" cy="27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Значение одновременности, последова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(можно вставить союз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Arial"/>
                <a:ea typeface="Arial"/>
              </a:rPr>
              <a:t>Двери и окна отворены настежь, в саду  не шелохнется лис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Propi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Propisi"/>
                <a:ea typeface="Arial"/>
              </a:rPr>
              <a:t>Роняет лес багряный свой убор, </a:t>
            </a:r>
            <a:r>
              <a:rPr b="1" lang="ru-RU" sz="2600" spc="-1" strike="noStrike">
                <a:solidFill>
                  <a:srgbClr val="800000"/>
                </a:solidFill>
                <a:latin typeface="Arial"/>
                <a:ea typeface="Arial"/>
              </a:rPr>
              <a:t>с</a:t>
            </a:r>
            <a:r>
              <a:rPr b="1" lang="ru-RU" sz="2600" spc="-1" strike="noStrike">
                <a:solidFill>
                  <a:srgbClr val="800000"/>
                </a:solidFill>
                <a:latin typeface="Propisi"/>
                <a:ea typeface="Arial"/>
              </a:rPr>
              <a:t>ребрит мороз увянувшее пол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Arial"/>
                <a:ea typeface="Arial"/>
              </a:rPr>
              <a:t>Метель не утихала, небо не прояснялось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1135080" y="329580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Точка с запя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8"/>
          <p:cNvSpPr/>
          <p:nvPr/>
        </p:nvSpPr>
        <p:spPr>
          <a:xfrm>
            <a:off x="447840" y="3763800"/>
            <a:ext cx="82152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начение одновременности, последовательности. 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части БСП осложнены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и внутри есть уже 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Propisi"/>
                <a:ea typeface="Arial"/>
              </a:rPr>
              <a:t>Уже вечерело; солнце скрылось за небольшую сосновую рощу, лежавшую в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        </a:t>
            </a:r>
            <a:r>
              <a:rPr b="1" lang="ru-RU" sz="2800" spc="-1" strike="noStrike">
                <a:solidFill>
                  <a:srgbClr val="800000"/>
                </a:solidFill>
                <a:latin typeface="Propisi"/>
                <a:ea typeface="Arial"/>
              </a:rPr>
              <a:t>полуверсте от са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3778560" y="290520"/>
            <a:ext cx="9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Т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500040" y="809640"/>
            <a:ext cx="82868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втор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редложении имеетс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значе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отивопоставлен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(можно вставить союз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а, н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Propisi"/>
                <a:ea typeface="Arial"/>
              </a:rPr>
              <a:t>Служить бы рад – прислуживаться тошно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 (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Шестнадцать лет служу – такого со мной не было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(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508720" y="4005360"/>
            <a:ext cx="3168720" cy="718920"/>
          </a:xfrm>
          <a:prstGeom prst="roundRect">
            <a:avLst>
              <a:gd name="adj" fmla="val 16667"/>
            </a:avLst>
          </a:prstGeom>
          <a:solidFill>
            <a:srgbClr val="edc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противопост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324000" y="3933720"/>
            <a:ext cx="3168360" cy="719280"/>
          </a:xfrm>
          <a:prstGeom prst="roundRect">
            <a:avLst>
              <a:gd name="adj" fmla="val 16667"/>
            </a:avLst>
          </a:prstGeom>
          <a:solidFill>
            <a:srgbClr val="edccc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67280" y="4149720"/>
            <a:ext cx="9144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500040" y="4797360"/>
            <a:ext cx="839304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В предложении выражен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быстрая смена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Сыр выпал – с ним была плутовка так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611280" y="1413000"/>
            <a:ext cx="7921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.Первая часть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ет значение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условие действия,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можно подставить союз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ес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  <a:ea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              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Лес рубят – щепки лет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31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и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3933720"/>
            <a:ext cx="7128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4284720" y="5157720"/>
            <a:ext cx="9144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3"/>
          <p:cNvSpPr/>
          <p:nvPr/>
        </p:nvSpPr>
        <p:spPr>
          <a:xfrm>
            <a:off x="755640" y="4869000"/>
            <a:ext cx="3240000" cy="863640"/>
          </a:xfrm>
          <a:prstGeom prst="roundRect">
            <a:avLst>
              <a:gd name="adj" fmla="val 16667"/>
            </a:avLst>
          </a:prstGeom>
          <a:solidFill>
            <a:srgbClr val="edccc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Время, условие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4"/>
          <p:cNvSpPr/>
          <p:nvPr/>
        </p:nvSpPr>
        <p:spPr>
          <a:xfrm>
            <a:off x="5724360" y="4869000"/>
            <a:ext cx="3168720" cy="792000"/>
          </a:xfrm>
          <a:prstGeom prst="roundRect">
            <a:avLst>
              <a:gd name="adj" fmla="val 16667"/>
            </a:avLst>
          </a:prstGeom>
          <a:solidFill>
            <a:srgbClr val="edccc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7360" y="323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и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4.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торая  ча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содержит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езультат, выв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можно подставить слов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этом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Солнце дымное встает – будет день горяч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395280" y="4724280"/>
            <a:ext cx="3240000" cy="720720"/>
          </a:xfrm>
          <a:prstGeom prst="roundRect">
            <a:avLst>
              <a:gd name="adj" fmla="val 16667"/>
            </a:avLst>
          </a:prstGeom>
          <a:solidFill>
            <a:srgbClr val="edc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5580000" y="4724280"/>
            <a:ext cx="3095640" cy="649440"/>
          </a:xfrm>
          <a:prstGeom prst="roundRect">
            <a:avLst>
              <a:gd name="adj" fmla="val 16667"/>
            </a:avLst>
          </a:prstGeom>
          <a:solidFill>
            <a:srgbClr val="edc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результат , вы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4140360" y="4941720"/>
            <a:ext cx="9144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и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5.Вторая  ча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держит срав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можно подставить слова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ловно, буд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Молвит слово – соловей по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можно подставить союз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огда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ашню пашут – руками не маш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395280" y="4724280"/>
            <a:ext cx="3240000" cy="720720"/>
          </a:xfrm>
          <a:prstGeom prst="roundRect">
            <a:avLst>
              <a:gd name="adj" fmla="val 16667"/>
            </a:avLst>
          </a:prstGeom>
          <a:solidFill>
            <a:srgbClr val="edc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5580000" y="4724280"/>
            <a:ext cx="3095640" cy="649440"/>
          </a:xfrm>
          <a:prstGeom prst="roundRect">
            <a:avLst>
              <a:gd name="adj" fmla="val 16667"/>
            </a:avLst>
          </a:prstGeom>
          <a:solidFill>
            <a:srgbClr val="edc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с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4140360" y="4941720"/>
            <a:ext cx="9144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74760" y="206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и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5.Вторая  ча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держит срав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можно подставить слова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ловно, буд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Молвит слово – соловей по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можно подставить союз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огда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ашню пашут – руками не маш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395280" y="4724280"/>
            <a:ext cx="3240000" cy="720720"/>
          </a:xfrm>
          <a:prstGeom prst="roundRect">
            <a:avLst>
              <a:gd name="adj" fmla="val 16667"/>
            </a:avLst>
          </a:prstGeom>
          <a:solidFill>
            <a:srgbClr val="edc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4"/>
          <p:cNvSpPr/>
          <p:nvPr/>
        </p:nvSpPr>
        <p:spPr>
          <a:xfrm>
            <a:off x="5580000" y="4724280"/>
            <a:ext cx="3095640" cy="649440"/>
          </a:xfrm>
          <a:prstGeom prst="roundRect">
            <a:avLst>
              <a:gd name="adj" fmla="val 16667"/>
            </a:avLst>
          </a:prstGeom>
          <a:solidFill>
            <a:srgbClr val="edc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с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4140360" y="4941720"/>
            <a:ext cx="9144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2:39:05Z</dcterms:created>
  <dc:creator>общий</dc:creator>
  <dc:description/>
  <dc:language>en-US</dc:language>
  <cp:lastModifiedBy>user</cp:lastModifiedBy>
  <dcterms:modified xsi:type="dcterms:W3CDTF">2014-02-27T17:11:10Z</dcterms:modified>
  <cp:revision>42</cp:revision>
  <dc:subject/>
  <dc:title>Слайд 1</dc:title>
</cp:coreProperties>
</file>