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50.jpeg" ContentType="image/jpeg"/>
  <Override PartName="/ppt/media/image8.png" ContentType="image/png"/>
  <Override PartName="/ppt/media/image39.jpeg" ContentType="image/jpeg"/>
  <Override PartName="/ppt/media/image41.jpeg" ContentType="image/jpeg"/>
  <Override PartName="/ppt/media/image9.png" ContentType="image/png"/>
  <Override PartName="/ppt/media/image44.png" ContentType="image/png"/>
  <Override PartName="/ppt/media/image40.jpeg" ContentType="image/jpeg"/>
  <Override PartName="/ppt/media/image30.png" ContentType="image/png"/>
  <Override PartName="/ppt/media/image38.jpeg" ContentType="image/jpeg"/>
  <Override PartName="/ppt/media/image28.png" ContentType="image/png"/>
  <Override PartName="/ppt/media/image45.png" ContentType="image/png"/>
  <Override PartName="/ppt/media/image35.jpeg" ContentType="image/jpeg"/>
  <Override PartName="/ppt/media/image10.png" ContentType="image/png"/>
  <Override PartName="/ppt/media/image46.jpeg" ContentType="image/jpeg"/>
  <Override PartName="/ppt/media/image47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49.jpeg" ContentType="image/jpeg"/>
  <Override PartName="/ppt/media/image37.png" ContentType="image/png"/>
  <Override PartName="/ppt/media/image7.png" ContentType="image/png"/>
  <Override PartName="/ppt/media/image48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4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9487-FB87-4D6E-AB8A-6427C17FE55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FB17-4370-460D-B520-6EBDD51373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8CA5-4AD1-44D1-B0F9-85B4A26E1E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E326-30AD-41AD-93B3-87A048446F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59C6-1ACD-4906-805E-36DECD137E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98F8-F60B-495C-A1D7-2580512435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612B-9982-456F-81E5-65F541E0AF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DCCD-6C1C-4EFC-AAAA-5BB2326781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BCCD-0878-49E4-92F8-60034B2E32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FD20-E098-4283-8AC4-02BCC5E427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25C8-A5E5-40E6-BA6C-313DE3EBD5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14C3-DE8D-4384-A845-9C55BD1D45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FCD9-B76E-46EE-8B79-C7AC7A5229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0693-67D7-4B79-8B3D-F853D565CC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C3E5-D38F-469F-82D7-3EA393CA67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5670-6EC4-4C5A-899D-7715F302DE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0298-C351-45FB-9C42-F85FDFA507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669A-AAF5-49D0-9007-BE64B77DF0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032A-D300-455F-8F04-ABF95DEF8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5764-8D52-49A8-B4A9-0B62FDAA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47F2-6120-43EF-AD17-CBBC79D90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B9E0-E310-4F77-8772-A6F53B705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B261-A7E7-49C2-9159-04F37FE5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4BDE-ED30-4388-91BE-92335D4A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9CC075-82C6-4EED-AFA6-3528701C8A5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6DAAC-8B14-49CA-A2EC-DDFB2E369CA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D05923-EF61-48F7-940D-2FC4DE07DF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AFEE-B598-435A-858C-C438C0C9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2B54AA-A706-4E92-AA9C-8115E9C9404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90658D-B1A1-4D31-8DCD-017A8FEBEA8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3C36FA-4A9F-4374-BD32-6436A1E1F6C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A7D671-D540-4489-9495-00744FD109B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B30510-273C-4F69-96E3-1155369AD28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066D83-50B1-4C46-88A0-2A7CAB6B13F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BFCE24-7FF4-4C1B-9746-DF38E3826EA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9E1D2-2628-47DD-BD4E-DCF907937AC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17B6D9-B70C-44E3-A24D-DA0BE56470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92FD-306B-4DE8-9E4C-69333BC8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C1D9-1947-40B5-AE05-90437684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DE43-3D9A-485F-98E4-9A536594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EB56-F23C-4F8E-A6C2-DD595FB8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3391-C84C-4440-BD4C-FCE4EE73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CB30-7319-487E-8302-C3A424814B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2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Группа 4"/>
          <p:cNvGrpSpPr/>
          <p:nvPr/>
        </p:nvGrpSpPr>
        <p:grpSpPr>
          <a:xfrm>
            <a:off x="0" y="1000080"/>
            <a:ext cx="714240" cy="5857920"/>
            <a:chOff x="0" y="1000080"/>
            <a:chExt cx="714240" cy="5857920"/>
          </a:xfrm>
        </p:grpSpPr>
        <p:pic>
          <p:nvPicPr>
            <p:cNvPr id="42" name="Рисунок 7" descr="logo_sh_r copy.gif"/>
            <p:cNvPicPr/>
            <p:nvPr/>
          </p:nvPicPr>
          <p:blipFill>
            <a:blip r:embed="rId2"/>
            <a:stretch/>
          </p:blipFill>
          <p:spPr>
            <a:xfrm>
              <a:off x="71280" y="1285560"/>
              <a:ext cx="540000" cy="47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TextBox 8"/>
            <p:cNvSpPr/>
            <p:nvPr/>
          </p:nvSpPr>
          <p:spPr>
            <a:xfrm rot="16200000">
              <a:off x="-205560" y="1969200"/>
              <a:ext cx="10936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учебно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методически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комплек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Прямая соединительная линия 9"/>
            <p:cNvSpPr/>
            <p:nvPr/>
          </p:nvSpPr>
          <p:spPr>
            <a:xfrm>
              <a:off x="714240" y="1000080"/>
              <a:ext cx="0" cy="58579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Прямая соединительная линия 10"/>
            <p:cNvSpPr/>
            <p:nvPr/>
          </p:nvSpPr>
          <p:spPr>
            <a:xfrm>
              <a:off x="0" y="1000080"/>
              <a:ext cx="7142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Прямая соединительная линия 11"/>
            <p:cNvSpPr/>
            <p:nvPr/>
          </p:nvSpPr>
          <p:spPr>
            <a:xfrm>
              <a:off x="0" y="1152360"/>
              <a:ext cx="7142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Прямая соединительная линия 12"/>
            <p:cNvSpPr/>
            <p:nvPr/>
          </p:nvSpPr>
          <p:spPr>
            <a:xfrm>
              <a:off x="0" y="1071360"/>
              <a:ext cx="7142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Рисунок 13" descr="letters_sh_r copy.gif"/>
            <p:cNvPicPr/>
            <p:nvPr/>
          </p:nvPicPr>
          <p:blipFill>
            <a:blip r:embed="rId3"/>
            <a:stretch/>
          </p:blipFill>
          <p:spPr>
            <a:xfrm rot="16200000">
              <a:off x="-1659240" y="4587840"/>
              <a:ext cx="3996000" cy="392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" name="Рисунок 14" descr="logo_prosv.gif"/>
          <p:cNvPicPr/>
          <p:nvPr/>
        </p:nvPicPr>
        <p:blipFill>
          <a:blip r:embed="rId4"/>
          <a:stretch/>
        </p:blipFill>
        <p:spPr>
          <a:xfrm>
            <a:off x="0" y="65160"/>
            <a:ext cx="1214280" cy="5252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2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6"/>
          <p:cNvSpPr/>
          <p:nvPr/>
        </p:nvSpPr>
        <p:spPr>
          <a:xfrm>
            <a:off x="0" y="0"/>
            <a:ext cx="785880" cy="6858000"/>
          </a:xfrm>
          <a:prstGeom prst="rect">
            <a:avLst/>
          </a:prstGeom>
          <a:solidFill>
            <a:srgbClr val="0044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Заголовок 1"/>
          <p:cNvSpPr/>
          <p:nvPr/>
        </p:nvSpPr>
        <p:spPr>
          <a:xfrm flipH="1" rot="16200000">
            <a:off x="-2929680" y="3000240"/>
            <a:ext cx="66438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Arial"/>
                <a:ea typeface="Arial"/>
              </a:rPr>
              <a:t>« Ш К О Л А  Р О С С И И »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9" descr="logo_prosv1.tif"/>
          <p:cNvPicPr/>
          <p:nvPr/>
        </p:nvPicPr>
        <p:blipFill>
          <a:blip r:embed="rId2"/>
          <a:stretch/>
        </p:blipFill>
        <p:spPr>
          <a:xfrm>
            <a:off x="7786800" y="6259680"/>
            <a:ext cx="1285920" cy="5270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199B-F65D-4161-8A5E-797F9E74B5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png"/><Relationship Id="rId8" Type="http://schemas.openxmlformats.org/officeDocument/2006/relationships/image" Target="../media/image49.jpe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image" Target="../media/image23.png"/><Relationship Id="rId17" Type="http://schemas.openxmlformats.org/officeDocument/2006/relationships/image" Target="../media/image24.png"/><Relationship Id="rId18" Type="http://schemas.openxmlformats.org/officeDocument/2006/relationships/image" Target="../media/image25.png"/><Relationship Id="rId19" Type="http://schemas.openxmlformats.org/officeDocument/2006/relationships/image" Target="../media/image26.png"/><Relationship Id="rId20" Type="http://schemas.openxmlformats.org/officeDocument/2006/relationships/image" Target="../media/image27.png"/><Relationship Id="rId21" Type="http://schemas.openxmlformats.org/officeDocument/2006/relationships/image" Target="../media/image28.png"/><Relationship Id="rId22" Type="http://schemas.openxmlformats.org/officeDocument/2006/relationships/image" Target="../media/image29.png"/><Relationship Id="rId23" Type="http://schemas.openxmlformats.org/officeDocument/2006/relationships/image" Target="../media/image30.png"/><Relationship Id="rId24" Type="http://schemas.openxmlformats.org/officeDocument/2006/relationships/image" Target="../media/image31.png"/><Relationship Id="rId25" Type="http://schemas.openxmlformats.org/officeDocument/2006/relationships/image" Target="../media/image32.png"/><Relationship Id="rId26" Type="http://schemas.openxmlformats.org/officeDocument/2006/relationships/image" Target="../media/image33.png"/><Relationship Id="rId27" Type="http://schemas.openxmlformats.org/officeDocument/2006/relationships/slideLayout" Target="../slideLayouts/slideLayout13.xml"/><Relationship Id="rId2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Рисунок 4" descr="logo_sh_r copy.gif"/>
          <p:cNvPicPr/>
          <p:nvPr/>
        </p:nvPicPr>
        <p:blipFill>
          <a:blip r:embed="rId1"/>
          <a:stretch/>
        </p:blipFill>
        <p:spPr>
          <a:xfrm>
            <a:off x="2500200" y="2136600"/>
            <a:ext cx="4103640" cy="357840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5" descr="letters_sh_r copy.gif"/>
          <p:cNvPicPr/>
          <p:nvPr/>
        </p:nvPicPr>
        <p:blipFill>
          <a:blip r:embed="rId2"/>
          <a:stretch/>
        </p:blipFill>
        <p:spPr>
          <a:xfrm>
            <a:off x="214200" y="1152360"/>
            <a:ext cx="8643960" cy="84780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77" name="TextBox 6"/>
          <p:cNvSpPr/>
          <p:nvPr/>
        </p:nvSpPr>
        <p:spPr>
          <a:xfrm>
            <a:off x="231840" y="214200"/>
            <a:ext cx="868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едеральный государственный образовательный станда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чального общего образования и его реализация в УМ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Рисунок 7" descr="logo_prosv_silv.gif"/>
          <p:cNvPicPr/>
          <p:nvPr/>
        </p:nvPicPr>
        <p:blipFill>
          <a:blip r:embed="rId3"/>
          <a:stretch/>
        </p:blipFill>
        <p:spPr>
          <a:xfrm>
            <a:off x="3352680" y="5626080"/>
            <a:ext cx="250524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Calibri"/>
              </a:rPr>
              <a:t>Методическая система представления учебного материала в УМК </a:t>
            </a:r>
            <a:br>
              <a:rPr sz="2000"/>
            </a:br>
            <a:r>
              <a:rPr b="1" lang="ru-RU" sz="1800" spc="-1" strike="noStrike">
                <a:solidFill>
                  <a:srgbClr val="c3ddff"/>
                </a:solidFill>
                <a:latin typeface="Arial"/>
                <a:ea typeface="Calibri"/>
              </a:rPr>
              <a:t>(на примере темы одного урока «Окружающий мир» в 1 классе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71280" y="977760"/>
            <a:ext cx="2735280" cy="1594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6286680" y="1012680"/>
            <a:ext cx="2665080" cy="140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В Атласе-определител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ые призна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секом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тересная информ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исун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179280" y="3371760"/>
            <a:ext cx="2392560" cy="316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В электронном приложении к учебник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полните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формация по тем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Это интересно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иде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тограф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исун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хе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рестома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ренаж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6"/>
          <p:cNvSpPr/>
          <p:nvPr/>
        </p:nvSpPr>
        <p:spPr>
          <a:xfrm>
            <a:off x="142920" y="1001880"/>
            <a:ext cx="2654280" cy="15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В учебник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руктурированный текс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просы и зад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лючевое понят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исун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хем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6500880" y="3011400"/>
            <a:ext cx="2446200" cy="359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В методическом пособ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дачи урок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ланируем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стижения учащих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орудование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ериал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тодическ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коменда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мментарий 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лючевому понятию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полнительн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формаци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прос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комендации д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нятий в семь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3286080" y="5429160"/>
            <a:ext cx="2571840" cy="10000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В пособии «Тесты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сты (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исун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Прямая со стрелкой 25"/>
          <p:cNvCxnSpPr/>
          <p:nvPr/>
        </p:nvCxnSpPr>
        <p:spPr>
          <a:xfrm flipH="1">
            <a:off x="2642040" y="4051080"/>
            <a:ext cx="435600" cy="684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28" name="Прямая со стрелкой 27"/>
          <p:cNvCxnSpPr/>
          <p:nvPr/>
        </p:nvCxnSpPr>
        <p:spPr>
          <a:xfrm flipH="1" flipV="1">
            <a:off x="2785680" y="2714040"/>
            <a:ext cx="286560" cy="85788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29" name="Прямая со стрелкой 29"/>
          <p:cNvCxnSpPr/>
          <p:nvPr/>
        </p:nvCxnSpPr>
        <p:spPr>
          <a:xfrm flipV="1">
            <a:off x="4570560" y="2571840"/>
            <a:ext cx="2160" cy="64332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30" name="Прямая со стрелкой 35"/>
          <p:cNvCxnSpPr/>
          <p:nvPr/>
        </p:nvCxnSpPr>
        <p:spPr>
          <a:xfrm flipV="1">
            <a:off x="5998680" y="4053240"/>
            <a:ext cx="431640" cy="324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31" name="Прямая со стрелкой 37"/>
          <p:cNvCxnSpPr/>
          <p:nvPr/>
        </p:nvCxnSpPr>
        <p:spPr>
          <a:xfrm flipH="1">
            <a:off x="4571280" y="4786200"/>
            <a:ext cx="1080" cy="50400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232" name="Text Box 19"/>
          <p:cNvSpPr/>
          <p:nvPr/>
        </p:nvSpPr>
        <p:spPr>
          <a:xfrm>
            <a:off x="3143160" y="1071720"/>
            <a:ext cx="2857680" cy="1285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В рабочей тетрад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полнительные зада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исунк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исунки для раскраши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Прямая со стрелкой 46"/>
          <p:cNvCxnSpPr/>
          <p:nvPr/>
        </p:nvCxnSpPr>
        <p:spPr>
          <a:xfrm flipV="1">
            <a:off x="6033960" y="2706480"/>
            <a:ext cx="324720" cy="90072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142800" y="3428640"/>
            <a:ext cx="2786040" cy="121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ts val="3835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Тема урока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ts val="3835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«Кто такие насекомые»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"/>
          <p:cNvSpPr/>
          <p:nvPr/>
        </p:nvSpPr>
        <p:spPr>
          <a:xfrm>
            <a:off x="785880" y="1060920"/>
            <a:ext cx="5857920" cy="55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сихолого-педагог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одель построения те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становка проблемы и ее обсуждение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мощью системы вопросов (аналитиче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ла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ормулировка правил, способов действ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знаков понятий, «открытых» учащимися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ходе анализа пробл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точнение сформулированных  выв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ведение новых тер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ыполнение различных по уровн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ложности упражнений на применение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точнение знаний, форм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актических ум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Рисунок 5" descr="Rab_tet_2kl.tif"/>
          <p:cNvPicPr/>
          <p:nvPr/>
        </p:nvPicPr>
        <p:blipFill>
          <a:blip r:embed="rId1"/>
          <a:stretch/>
        </p:blipFill>
        <p:spPr>
          <a:xfrm>
            <a:off x="6500880" y="1643040"/>
            <a:ext cx="1285920" cy="2000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37" name="Рисунок 6" descr="Uchebnik_4kl_1.tif"/>
          <p:cNvPicPr/>
          <p:nvPr/>
        </p:nvPicPr>
        <p:blipFill>
          <a:blip r:embed="rId2"/>
          <a:stretch/>
        </p:blipFill>
        <p:spPr>
          <a:xfrm>
            <a:off x="6215040" y="4572000"/>
            <a:ext cx="1285920" cy="1870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38" name="Рисунок 7" descr="Uchebnik_3kl_1.tif"/>
          <p:cNvPicPr/>
          <p:nvPr/>
        </p:nvPicPr>
        <p:blipFill>
          <a:blip r:embed="rId3"/>
          <a:stretch/>
        </p:blipFill>
        <p:spPr>
          <a:xfrm>
            <a:off x="7715160" y="3857760"/>
            <a:ext cx="1319400" cy="2019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39" name="Рисунок 11" descr="Prov_rab_1kl.tif"/>
          <p:cNvPicPr/>
          <p:nvPr/>
        </p:nvPicPr>
        <p:blipFill>
          <a:blip r:embed="rId4"/>
          <a:stretch/>
        </p:blipFill>
        <p:spPr>
          <a:xfrm>
            <a:off x="7686720" y="142920"/>
            <a:ext cx="1314360" cy="2000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40" name="Rectangle 2"/>
          <p:cNvSpPr/>
          <p:nvPr/>
        </p:nvSpPr>
        <p:spPr>
          <a:xfrm>
            <a:off x="1428840" y="214200"/>
            <a:ext cx="542916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Русский язык»</a:t>
            </a:r>
            <a:br>
              <a:rPr sz="2400"/>
            </a:br>
            <a:r>
              <a:rPr b="0" lang="ru-RU" sz="1800" spc="-1" strike="noStrike">
                <a:solidFill>
                  <a:srgbClr val="c3ddff"/>
                </a:solidFill>
                <a:latin typeface="Arial"/>
              </a:rPr>
              <a:t>Зеленина Л.М., Хохлова Т.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28800" y="1213920"/>
            <a:ext cx="42861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Курс «Русский язык»: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реализует коммуникативно-речевой и познавательно-языковой подходы к обучению русскому языку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уделяет большое внимание   нравственному развитию младших школьников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закладывает прочные основы языкового образования и грамотного  письма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2" name="Рисунок 7" descr="Uch_2-2.tif"/>
          <p:cNvPicPr/>
          <p:nvPr/>
        </p:nvPicPr>
        <p:blipFill>
          <a:blip r:embed="rId1"/>
          <a:stretch/>
        </p:blipFill>
        <p:spPr>
          <a:xfrm>
            <a:off x="7039080" y="857160"/>
            <a:ext cx="1890720" cy="252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43" name="Рисунок 9" descr="Uch_4-1.tif"/>
          <p:cNvPicPr/>
          <p:nvPr/>
        </p:nvPicPr>
        <p:blipFill>
          <a:blip r:embed="rId2"/>
          <a:stretch/>
        </p:blipFill>
        <p:spPr>
          <a:xfrm>
            <a:off x="7039080" y="3857760"/>
            <a:ext cx="1890720" cy="25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44" name="Рисунок 5" descr="Uch_1.tif"/>
          <p:cNvPicPr/>
          <p:nvPr/>
        </p:nvPicPr>
        <p:blipFill>
          <a:blip r:embed="rId3"/>
          <a:stretch/>
        </p:blipFill>
        <p:spPr>
          <a:xfrm>
            <a:off x="5286240" y="1266840"/>
            <a:ext cx="1890720" cy="25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45" name="Рисунок 4" descr="Uch_3-2.tif"/>
          <p:cNvPicPr/>
          <p:nvPr/>
        </p:nvPicPr>
        <p:blipFill>
          <a:blip r:embed="rId4"/>
          <a:stretch/>
        </p:blipFill>
        <p:spPr>
          <a:xfrm>
            <a:off x="5286240" y="4124160"/>
            <a:ext cx="1890720" cy="251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46" name="Rectangle 2"/>
          <p:cNvSpPr/>
          <p:nvPr/>
        </p:nvSpPr>
        <p:spPr>
          <a:xfrm>
            <a:off x="1643040" y="71280"/>
            <a:ext cx="67867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Русский язык»</a:t>
            </a:r>
            <a:br>
              <a:rPr sz="2400"/>
            </a:br>
            <a:r>
              <a:rPr b="0" lang="ru-RU" sz="1800" spc="-1" strike="noStrike">
                <a:solidFill>
                  <a:srgbClr val="c3ddff"/>
                </a:solidFill>
                <a:latin typeface="Arial"/>
              </a:rPr>
              <a:t>Канакина В.П., Горецкий В.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85560" y="71280"/>
            <a:ext cx="314316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Музыка»</a:t>
            </a:r>
            <a:br>
              <a:rPr sz="14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итская Е.Д. , Сергеева Г. П.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8" name="Рисунок 3" descr="1_7.tif"/>
          <p:cNvPicPr/>
          <p:nvPr/>
        </p:nvPicPr>
        <p:blipFill>
          <a:blip r:embed="rId1"/>
          <a:stretch/>
        </p:blipFill>
        <p:spPr>
          <a:xfrm>
            <a:off x="1214280" y="785880"/>
            <a:ext cx="1592280" cy="21240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49" name="Picture 7" descr="2_13_"/>
          <p:cNvPicPr/>
          <p:nvPr/>
        </p:nvPicPr>
        <p:blipFill>
          <a:blip r:embed="rId2"/>
          <a:stretch/>
        </p:blipFill>
        <p:spPr>
          <a:xfrm>
            <a:off x="3143160" y="1214280"/>
            <a:ext cx="1003320" cy="140364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50" name="Заголовок 1"/>
          <p:cNvSpPr/>
          <p:nvPr/>
        </p:nvSpPr>
        <p:spPr>
          <a:xfrm>
            <a:off x="785880" y="3143160"/>
            <a:ext cx="314316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«Основы безопасности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жизнедеятельнос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настасова Л. П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Группа 14"/>
          <p:cNvGrpSpPr/>
          <p:nvPr/>
        </p:nvGrpSpPr>
        <p:grpSpPr>
          <a:xfrm>
            <a:off x="857160" y="4143240"/>
            <a:ext cx="1652760" cy="2143440"/>
            <a:chOff x="857160" y="4143240"/>
            <a:chExt cx="1652760" cy="2143440"/>
          </a:xfrm>
        </p:grpSpPr>
        <p:pic>
          <p:nvPicPr>
            <p:cNvPr id="252" name="Рисунок 9" descr="4_4.tif"/>
            <p:cNvPicPr/>
            <p:nvPr/>
          </p:nvPicPr>
          <p:blipFill>
            <a:blip r:embed="rId3"/>
            <a:stretch/>
          </p:blipFill>
          <p:spPr>
            <a:xfrm>
              <a:off x="857160" y="4161960"/>
              <a:ext cx="1652760" cy="21247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253" name="Прямоугольник 12"/>
            <p:cNvSpPr/>
            <p:nvPr/>
          </p:nvSpPr>
          <p:spPr>
            <a:xfrm>
              <a:off x="857160" y="4143240"/>
              <a:ext cx="1652760" cy="2124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Группа 15"/>
          <p:cNvGrpSpPr/>
          <p:nvPr/>
        </p:nvGrpSpPr>
        <p:grpSpPr>
          <a:xfrm>
            <a:off x="2071800" y="4500720"/>
            <a:ext cx="1603440" cy="2135160"/>
            <a:chOff x="2071800" y="4500720"/>
            <a:chExt cx="1603440" cy="2135160"/>
          </a:xfrm>
        </p:grpSpPr>
        <p:pic>
          <p:nvPicPr>
            <p:cNvPr id="255" name="Рисунок 8" descr="4_3.tif"/>
            <p:cNvPicPr/>
            <p:nvPr/>
          </p:nvPicPr>
          <p:blipFill>
            <a:blip r:embed="rId4"/>
            <a:stretch/>
          </p:blipFill>
          <p:spPr>
            <a:xfrm>
              <a:off x="2071800" y="4500720"/>
              <a:ext cx="1603440" cy="21351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256" name="Прямоугольник 13"/>
            <p:cNvSpPr/>
            <p:nvPr/>
          </p:nvSpPr>
          <p:spPr>
            <a:xfrm>
              <a:off x="2071800" y="4500720"/>
              <a:ext cx="1603440" cy="2135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Заголовок 3"/>
          <p:cNvSpPr/>
          <p:nvPr/>
        </p:nvSpPr>
        <p:spPr>
          <a:xfrm>
            <a:off x="4572000" y="142920"/>
            <a:ext cx="3929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Изобразительное  искусство  и художественный  труд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д  ред. Неменского Б. М. и др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Рисунок 14" descr="3_44.tif"/>
          <p:cNvPicPr/>
          <p:nvPr/>
        </p:nvPicPr>
        <p:blipFill>
          <a:blip r:embed="rId5"/>
          <a:stretch/>
        </p:blipFill>
        <p:spPr>
          <a:xfrm>
            <a:off x="6929280" y="1000080"/>
            <a:ext cx="1594080" cy="212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59" name="Picture 6" descr="3_50"/>
          <p:cNvPicPr/>
          <p:nvPr/>
        </p:nvPicPr>
        <p:blipFill>
          <a:blip r:embed="rId6"/>
          <a:stretch/>
        </p:blipFill>
        <p:spPr>
          <a:xfrm>
            <a:off x="4643280" y="1071720"/>
            <a:ext cx="1594080" cy="212400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60" name="Заголовок 1"/>
          <p:cNvSpPr/>
          <p:nvPr/>
        </p:nvSpPr>
        <p:spPr>
          <a:xfrm>
            <a:off x="3429000" y="3286080"/>
            <a:ext cx="2571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«Физическая культур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Лях В.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Рисунок 17" descr="3_52.tif"/>
          <p:cNvPicPr/>
          <p:nvPr/>
        </p:nvPicPr>
        <p:blipFill>
          <a:blip r:embed="rId7"/>
          <a:stretch/>
        </p:blipFill>
        <p:spPr>
          <a:xfrm>
            <a:off x="4000680" y="4071960"/>
            <a:ext cx="1593720" cy="212400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37996" dir="589158" blurRad="0" rotWithShape="0">
              <a:srgbClr val="000000">
                <a:alpha val="40000"/>
              </a:srgbClr>
            </a:outerShdw>
          </a:effectLst>
        </p:spPr>
      </p:pic>
      <p:sp>
        <p:nvSpPr>
          <p:cNvPr id="262" name="Заголовок 3"/>
          <p:cNvSpPr/>
          <p:nvPr/>
        </p:nvSpPr>
        <p:spPr>
          <a:xfrm>
            <a:off x="5929200" y="3214800"/>
            <a:ext cx="3286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Изобразительное искусство и художественный труд «Шпикалова Т. Я. и др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Рисунок 3" descr="3_3_.tif"/>
          <p:cNvPicPr/>
          <p:nvPr/>
        </p:nvPicPr>
        <p:blipFill>
          <a:blip r:embed="rId8"/>
          <a:stretch/>
        </p:blipFill>
        <p:spPr>
          <a:xfrm>
            <a:off x="6286680" y="4286160"/>
            <a:ext cx="1593720" cy="212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142560"/>
            <a:ext cx="707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риентация содержания и структуры учебника и всех компонентов УМК на основные этапы урок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Oval 4"/>
          <p:cNvSpPr/>
          <p:nvPr/>
        </p:nvSpPr>
        <p:spPr>
          <a:xfrm>
            <a:off x="928800" y="1917720"/>
            <a:ext cx="2663640" cy="1368360"/>
          </a:xfrm>
          <a:prstGeom prst="rect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тивацио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9"/>
          <p:cNvSpPr/>
          <p:nvPr/>
        </p:nvSpPr>
        <p:spPr>
          <a:xfrm>
            <a:off x="3571920" y="5477040"/>
            <a:ext cx="2736720" cy="1166760"/>
          </a:xfrm>
          <a:prstGeom prst="rect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информац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0"/>
          <p:cNvSpPr/>
          <p:nvPr/>
        </p:nvSpPr>
        <p:spPr>
          <a:xfrm>
            <a:off x="928800" y="3833640"/>
            <a:ext cx="2663640" cy="1368720"/>
          </a:xfrm>
          <a:prstGeom prst="rect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блем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11"/>
          <p:cNvSpPr/>
          <p:nvPr/>
        </p:nvSpPr>
        <p:spPr>
          <a:xfrm>
            <a:off x="6194520" y="3822840"/>
            <a:ext cx="2663640" cy="1368360"/>
          </a:xfrm>
          <a:prstGeom prst="rect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налит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12"/>
          <p:cNvSpPr/>
          <p:nvPr/>
        </p:nvSpPr>
        <p:spPr>
          <a:xfrm>
            <a:off x="6194520" y="1917720"/>
            <a:ext cx="2663640" cy="1368360"/>
          </a:xfrm>
          <a:prstGeom prst="rect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флексив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4"/>
          <p:cNvSpPr/>
          <p:nvPr/>
        </p:nvSpPr>
        <p:spPr>
          <a:xfrm flipH="1">
            <a:off x="2428920" y="1390680"/>
            <a:ext cx="684000" cy="3952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6"/>
          <p:cNvSpPr/>
          <p:nvPr/>
        </p:nvSpPr>
        <p:spPr>
          <a:xfrm>
            <a:off x="5072040" y="1697040"/>
            <a:ext cx="1008000" cy="23036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7"/>
          <p:cNvSpPr/>
          <p:nvPr/>
        </p:nvSpPr>
        <p:spPr>
          <a:xfrm>
            <a:off x="4929120" y="1722600"/>
            <a:ext cx="0" cy="349236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7031160" y="1390680"/>
            <a:ext cx="684000" cy="3952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6"/>
          <p:cNvSpPr/>
          <p:nvPr/>
        </p:nvSpPr>
        <p:spPr>
          <a:xfrm flipH="1">
            <a:off x="3778200" y="1697040"/>
            <a:ext cx="1008000" cy="23036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Подзаголовок 4"/>
          <p:cNvSpPr/>
          <p:nvPr/>
        </p:nvSpPr>
        <p:spPr>
          <a:xfrm>
            <a:off x="928800" y="1357200"/>
            <a:ext cx="7858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зволяет  достичь высоких результат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ответствующих  задачам соврем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четает лучшие традиции россий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ния и проверенные практ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тельного процесса иннов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иболее востребованный в России и понят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чите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3"/>
          <p:cNvSpPr/>
          <p:nvPr/>
        </p:nvSpPr>
        <p:spPr>
          <a:xfrm>
            <a:off x="857160" y="142920"/>
            <a:ext cx="807264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УМК «Школа России»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рямоугольник 10"/>
          <p:cNvSpPr/>
          <p:nvPr/>
        </p:nvSpPr>
        <p:spPr>
          <a:xfrm>
            <a:off x="428760" y="571680"/>
            <a:ext cx="8286480" cy="1000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2"/>
          <p:cNvSpPr/>
          <p:nvPr/>
        </p:nvSpPr>
        <p:spPr>
          <a:xfrm>
            <a:off x="1114560" y="0"/>
            <a:ext cx="6889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одернизация системы заданий учеб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3"/>
          <p:cNvSpPr/>
          <p:nvPr/>
        </p:nvSpPr>
        <p:spPr>
          <a:xfrm>
            <a:off x="1128600" y="1776240"/>
            <a:ext cx="2500560" cy="16434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остановка учебной задачи на каждом уроке (тема-вопрос, проблемная ситуац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4"/>
          <p:cNvSpPr/>
          <p:nvPr/>
        </p:nvSpPr>
        <p:spPr>
          <a:xfrm>
            <a:off x="5715000" y="1755720"/>
            <a:ext cx="2428920" cy="16430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величение заданий и вопросов, инициирующих детское дей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5"/>
          <p:cNvSpPr/>
          <p:nvPr/>
        </p:nvSpPr>
        <p:spPr>
          <a:xfrm>
            <a:off x="5743440" y="3525840"/>
            <a:ext cx="2428920" cy="15717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величение заданий по поиску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6"/>
          <p:cNvSpPr/>
          <p:nvPr/>
        </p:nvSpPr>
        <p:spPr>
          <a:xfrm>
            <a:off x="1114560" y="3525840"/>
            <a:ext cx="2500200" cy="15717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величение заданий для работы в парах и/или групп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7"/>
          <p:cNvSpPr/>
          <p:nvPr/>
        </p:nvSpPr>
        <p:spPr>
          <a:xfrm>
            <a:off x="1000080" y="5286240"/>
            <a:ext cx="7143840" cy="12146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величение количества заданий, раскрывающих связи учебного материала с реальной действительностью и другими школьными предметами  на основе формирования У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9"/>
          <p:cNvSpPr/>
          <p:nvPr/>
        </p:nvSpPr>
        <p:spPr>
          <a:xfrm>
            <a:off x="285840" y="555480"/>
            <a:ext cx="850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лавный принцип — ориентирование учебного материа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пособов его представления, методов обучения на максимальное включение учащихся в учебную 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0" y="71280"/>
            <a:ext cx="914400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йт учебно-методического комплекса  «Школа России»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school-russia.ru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3" descr="C:\Documents and Settings\KNovitskaya\Desktop\site.JPG"/>
          <p:cNvPicPr/>
          <p:nvPr/>
        </p:nvPicPr>
        <p:blipFill>
          <a:blip r:embed="rId1"/>
          <a:stretch/>
        </p:blipFill>
        <p:spPr>
          <a:xfrm>
            <a:off x="214200" y="1000080"/>
            <a:ext cx="8736120" cy="56437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71720" y="428760"/>
            <a:ext cx="78580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c99ff"/>
                </a:solidFill>
                <a:latin typeface="Arial"/>
                <a:ea typeface="Arial"/>
              </a:rPr>
              <a:t>Планируемые результаты начального общего образования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2285640" y="2500200"/>
            <a:ext cx="500076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  <a:ea typeface="Arial"/>
              </a:rPr>
              <a:t>Личностные 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  <a:ea typeface="Arial"/>
              </a:rPr>
              <a:t>Метапредметные 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  <a:ea typeface="Arial"/>
              </a:rPr>
              <a:t>Предметные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57160" y="1142640"/>
            <a:ext cx="8143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инцип  преемственност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инцип  творчеств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инцип дифференциации и индивидуализации  обучения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инцип деятельност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инцип целостного представления о мир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инцип психологической комфортност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инцип вариативност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285560" y="21420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3ddff"/>
                </a:solidFill>
                <a:latin typeface="Arial"/>
                <a:ea typeface="Arial"/>
              </a:rPr>
              <a:t>Основополагающие дидактические принципы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УМК «Школа России»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Скругленный прямоугольник 7"/>
          <p:cNvSpPr/>
          <p:nvPr/>
        </p:nvSpPr>
        <p:spPr>
          <a:xfrm>
            <a:off x="857160" y="2643120"/>
            <a:ext cx="8143920" cy="3286080"/>
          </a:xfrm>
          <a:prstGeom prst="roundRect">
            <a:avLst>
              <a:gd name="adj" fmla="val 1029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2"/>
          <p:cNvSpPr/>
          <p:nvPr/>
        </p:nvSpPr>
        <p:spPr>
          <a:xfrm>
            <a:off x="1357200" y="142920"/>
            <a:ext cx="7429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дущая целевая устан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МК «Школа России» и ФГ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Скругленный прямоугольник 8"/>
          <p:cNvSpPr/>
          <p:nvPr/>
        </p:nvSpPr>
        <p:spPr>
          <a:xfrm>
            <a:off x="985680" y="3214800"/>
            <a:ext cx="7872480" cy="2571480"/>
          </a:xfrm>
          <a:prstGeom prst="roundRect">
            <a:avLst>
              <a:gd name="adj" fmla="val 12963"/>
            </a:avLst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3"/>
          <p:cNvSpPr/>
          <p:nvPr/>
        </p:nvSpPr>
        <p:spPr>
          <a:xfrm>
            <a:off x="1071720" y="1285920"/>
            <a:ext cx="7715160" cy="50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оспитание гуманного, творческого, социально активного человека – гражданина и патриота России, уважительно и бережно относящегося к среде своего обитания, к своей семье, к природному и культурному достоянию своей малой Родины, своей много-национальной страны и всего челове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овременный национальный воспитательный идеа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ысоконравственный, творческий, компетентный гражданин России, принимающий судьбу Отечества как свою личную, осознающий ответственность за  настоящее  и будущее своей страны, укорененный в духовных и культурных традициях многонационального народа Российской Феде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"/>
          <p:cNvSpPr/>
          <p:nvPr/>
        </p:nvSpPr>
        <p:spPr>
          <a:xfrm>
            <a:off x="928800" y="834480"/>
            <a:ext cx="8072280" cy="57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Значительны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воспитательный  потенци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истемно выстроенный потенциал для вклю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младших школьников в учебную дея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Возможности для дифференцированного и личностн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ориентированного образования школь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Преобладание проблемно-поискового методов обу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Практическая направленность содержания материала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опорой на социальный опыт уче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Творческие,  проектные  задания, учебные  диал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Возможности для моделирования  изучаемых  объ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и  явлений окружающего  м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Возможности для разнообразия организационных фо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обучения, в т.ч. с использованием электронных ресурс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4"/>
          <p:cNvSpPr/>
          <p:nvPr/>
        </p:nvSpPr>
        <p:spPr>
          <a:xfrm>
            <a:off x="1428840" y="142920"/>
            <a:ext cx="735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Основные средства реализации ведущ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целевой установк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Calibri"/>
              </a:rPr>
              <a:t>УМК «Школа России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999720" y="1142640"/>
            <a:ext cx="7929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4e2ff"/>
                </a:solidFill>
                <a:latin typeface="Arial"/>
                <a:ea typeface="Arial"/>
              </a:rPr>
              <a:t>	</a:t>
            </a:r>
            <a:r>
              <a:rPr b="1" lang="ru-RU" sz="2100" spc="-1" strike="noStrike">
                <a:solidFill>
                  <a:srgbClr val="4c99ff"/>
                </a:solidFill>
                <a:latin typeface="Arial"/>
                <a:ea typeface="Arial"/>
              </a:rPr>
              <a:t>Под   личностными  результатами   в стандарте   понимается   </a:t>
            </a:r>
            <a:r>
              <a:rPr b="1" lang="ru-RU" sz="2100" spc="-1" strike="noStrike">
                <a:solidFill>
                  <a:srgbClr val="4c99ff"/>
                </a:solidFill>
                <a:latin typeface="Arial"/>
              </a:rPr>
              <a:t>становление    самоопределения   личности</a:t>
            </a:r>
            <a:r>
              <a:rPr b="0" lang="ru-RU" sz="2100" spc="-1" strike="noStrike">
                <a:solidFill>
                  <a:srgbClr val="4c99ff"/>
                </a:solidFill>
                <a:latin typeface="Arial"/>
              </a:rPr>
              <a:t>, </a:t>
            </a:r>
            <a:r>
              <a:rPr b="1" lang="ru-RU" sz="2100" spc="-1" strike="noStrike">
                <a:solidFill>
                  <a:srgbClr val="4c99ff"/>
                </a:solidFill>
                <a:latin typeface="Arial"/>
                <a:ea typeface="Arial"/>
              </a:rPr>
              <a:t>включая: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формирование основ российской гражданской и этнической  идентичности младшего школьника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формирование внутренней позиции школьника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развитие  мотивов и смыслов учебно-образовательной деятельности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развитие системы ценностных ориентаций, в т.ч. морально-этических, отражающих индивидуально-личностные позиции, социальные чувства и личностные качества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285920" y="213840"/>
            <a:ext cx="750096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Результаты освоения основной образовательной программы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643040" y="499680"/>
            <a:ext cx="71438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99ff"/>
                </a:solidFill>
                <a:latin typeface="Arial"/>
                <a:ea typeface="Arial"/>
              </a:rPr>
              <a:t>Под   метапредметными  результатами  в стандарте   понимаются </a:t>
            </a:r>
            <a:r>
              <a:rPr b="1" lang="ru-RU" sz="2800" spc="-1" strike="noStrike">
                <a:solidFill>
                  <a:srgbClr val="4c99ff"/>
                </a:solidFill>
                <a:latin typeface="Arial"/>
              </a:rPr>
              <a:t>универсальные способы деятельности</a:t>
            </a:r>
            <a:r>
              <a:rPr b="1" lang="ru-RU" sz="2800" spc="-1" strike="noStrike">
                <a:solidFill>
                  <a:srgbClr val="4c99ff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познавательные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коммуникативные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регулятивные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1000080" y="500040"/>
            <a:ext cx="78580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d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Основное содержание оценки метапредметных результато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в начальной школе строится  вокруг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умения  учиться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– совокупности  способов  действий, обеспечивающих  способность обучающихся  к  самостоятельному усвоению  новых  знаний  и  умений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Nach_Moro_1-4_3"/>
          <p:cNvPicPr/>
          <p:nvPr/>
        </p:nvPicPr>
        <p:blipFill>
          <a:blip r:embed="rId1"/>
          <a:stretch/>
        </p:blipFill>
        <p:spPr>
          <a:xfrm>
            <a:off x="7456320" y="861840"/>
            <a:ext cx="973440" cy="1297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Nach_Moro_1-4_9"/>
          <p:cNvPicPr/>
          <p:nvPr/>
        </p:nvPicPr>
        <p:blipFill>
          <a:blip r:embed="rId2"/>
          <a:stretch/>
        </p:blipFill>
        <p:spPr>
          <a:xfrm>
            <a:off x="6384960" y="2286000"/>
            <a:ext cx="973080" cy="1297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Nach_Moro_1_1_2"/>
          <p:cNvPicPr/>
          <p:nvPr/>
        </p:nvPicPr>
        <p:blipFill>
          <a:blip r:embed="rId3"/>
          <a:stretch/>
        </p:blipFill>
        <p:spPr>
          <a:xfrm>
            <a:off x="1027080" y="857160"/>
            <a:ext cx="973080" cy="1297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Nach_Moro_1_2_1"/>
          <p:cNvPicPr/>
          <p:nvPr/>
        </p:nvPicPr>
        <p:blipFill>
          <a:blip r:embed="rId4"/>
          <a:stretch/>
        </p:blipFill>
        <p:spPr>
          <a:xfrm>
            <a:off x="2098800" y="857160"/>
            <a:ext cx="973080" cy="1297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Nach_Moro_1_4"/>
          <p:cNvPicPr/>
          <p:nvPr/>
        </p:nvPicPr>
        <p:blipFill>
          <a:blip r:embed="rId5"/>
          <a:stretch/>
        </p:blipFill>
        <p:spPr>
          <a:xfrm>
            <a:off x="3170160" y="857160"/>
            <a:ext cx="973080" cy="1297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2" descr="Nach_Moro_1_7"/>
          <p:cNvPicPr/>
          <p:nvPr/>
        </p:nvPicPr>
        <p:blipFill>
          <a:blip r:embed="rId6"/>
          <a:stretch/>
        </p:blipFill>
        <p:spPr>
          <a:xfrm>
            <a:off x="4241880" y="873000"/>
            <a:ext cx="973080" cy="1297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3" descr="Nach_Moro_1_8"/>
          <p:cNvPicPr/>
          <p:nvPr/>
        </p:nvPicPr>
        <p:blipFill>
          <a:blip r:embed="rId7"/>
          <a:stretch/>
        </p:blipFill>
        <p:spPr>
          <a:xfrm>
            <a:off x="5313240" y="873000"/>
            <a:ext cx="973440" cy="12970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4" descr="Nach_Moro_1_9"/>
          <p:cNvPicPr/>
          <p:nvPr/>
        </p:nvPicPr>
        <p:blipFill>
          <a:blip r:embed="rId8"/>
          <a:stretch/>
        </p:blipFill>
        <p:spPr>
          <a:xfrm>
            <a:off x="6384960" y="857160"/>
            <a:ext cx="973080" cy="1297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6" descr="Nach_Moro_2_1_2"/>
          <p:cNvPicPr/>
          <p:nvPr/>
        </p:nvPicPr>
        <p:blipFill>
          <a:blip r:embed="rId9"/>
          <a:stretch/>
        </p:blipFill>
        <p:spPr>
          <a:xfrm>
            <a:off x="1027080" y="2286000"/>
            <a:ext cx="973080" cy="1297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8" descr="Nach_Moro_2_2_2"/>
          <p:cNvPicPr/>
          <p:nvPr/>
        </p:nvPicPr>
        <p:blipFill>
          <a:blip r:embed="rId10"/>
          <a:stretch/>
        </p:blipFill>
        <p:spPr>
          <a:xfrm>
            <a:off x="2098800" y="2286000"/>
            <a:ext cx="973080" cy="12970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9" descr="Nach_Moro_2_4"/>
          <p:cNvPicPr/>
          <p:nvPr/>
        </p:nvPicPr>
        <p:blipFill>
          <a:blip r:embed="rId11"/>
          <a:stretch/>
        </p:blipFill>
        <p:spPr>
          <a:xfrm>
            <a:off x="3170160" y="2286000"/>
            <a:ext cx="973080" cy="1297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0" descr="Nach_Moro_2_6"/>
          <p:cNvPicPr/>
          <p:nvPr/>
        </p:nvPicPr>
        <p:blipFill>
          <a:blip r:embed="rId12"/>
          <a:stretch/>
        </p:blipFill>
        <p:spPr>
          <a:xfrm>
            <a:off x="7456320" y="2286000"/>
            <a:ext cx="973440" cy="1297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1" descr="Nach_Moro_2_7"/>
          <p:cNvPicPr/>
          <p:nvPr/>
        </p:nvPicPr>
        <p:blipFill>
          <a:blip r:embed="rId13"/>
          <a:stretch/>
        </p:blipFill>
        <p:spPr>
          <a:xfrm>
            <a:off x="4241880" y="2286000"/>
            <a:ext cx="973080" cy="1297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2" descr="Nach_Moro_2_8"/>
          <p:cNvPicPr/>
          <p:nvPr/>
        </p:nvPicPr>
        <p:blipFill>
          <a:blip r:embed="rId14"/>
          <a:stretch/>
        </p:blipFill>
        <p:spPr>
          <a:xfrm>
            <a:off x="5313240" y="2286000"/>
            <a:ext cx="973440" cy="1297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3" descr="Nach_Moro_2_9"/>
          <p:cNvPicPr/>
          <p:nvPr/>
        </p:nvPicPr>
        <p:blipFill>
          <a:blip r:embed="rId15"/>
          <a:stretch/>
        </p:blipFill>
        <p:spPr>
          <a:xfrm>
            <a:off x="5384880" y="3774960"/>
            <a:ext cx="973080" cy="1297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5" descr="Nach_Moro_3_1_2"/>
          <p:cNvPicPr/>
          <p:nvPr/>
        </p:nvPicPr>
        <p:blipFill>
          <a:blip r:embed="rId16"/>
          <a:stretch/>
        </p:blipFill>
        <p:spPr>
          <a:xfrm>
            <a:off x="1027080" y="3774960"/>
            <a:ext cx="971640" cy="1295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6" descr="Nach_Moro_3_2_1"/>
          <p:cNvPicPr/>
          <p:nvPr/>
        </p:nvPicPr>
        <p:blipFill>
          <a:blip r:embed="rId17"/>
          <a:stretch/>
        </p:blipFill>
        <p:spPr>
          <a:xfrm>
            <a:off x="2108160" y="3774960"/>
            <a:ext cx="971640" cy="1295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8" descr="Nach_Moro_3_4"/>
          <p:cNvPicPr/>
          <p:nvPr/>
        </p:nvPicPr>
        <p:blipFill>
          <a:blip r:embed="rId18"/>
          <a:stretch/>
        </p:blipFill>
        <p:spPr>
          <a:xfrm>
            <a:off x="3187800" y="3774960"/>
            <a:ext cx="971280" cy="1295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9" descr="Nach_Moro_3_6"/>
          <p:cNvPicPr/>
          <p:nvPr/>
        </p:nvPicPr>
        <p:blipFill>
          <a:blip r:embed="rId19"/>
          <a:stretch/>
        </p:blipFill>
        <p:spPr>
          <a:xfrm>
            <a:off x="6456240" y="3774960"/>
            <a:ext cx="971640" cy="12956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0" descr="Nach_Moro_3_8"/>
          <p:cNvPicPr/>
          <p:nvPr/>
        </p:nvPicPr>
        <p:blipFill>
          <a:blip r:embed="rId20"/>
          <a:stretch/>
        </p:blipFill>
        <p:spPr>
          <a:xfrm>
            <a:off x="4313160" y="3774960"/>
            <a:ext cx="971640" cy="12956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5" descr="Nach_Moro_4_2_2"/>
          <p:cNvPicPr/>
          <p:nvPr/>
        </p:nvPicPr>
        <p:blipFill>
          <a:blip r:embed="rId21"/>
          <a:stretch/>
        </p:blipFill>
        <p:spPr>
          <a:xfrm>
            <a:off x="3241800" y="5302080"/>
            <a:ext cx="1000080" cy="1332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6" descr="Nach_Moro_4_4"/>
          <p:cNvPicPr/>
          <p:nvPr/>
        </p:nvPicPr>
        <p:blipFill>
          <a:blip r:embed="rId22"/>
          <a:stretch/>
        </p:blipFill>
        <p:spPr>
          <a:xfrm>
            <a:off x="4313160" y="5302080"/>
            <a:ext cx="971640" cy="1295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7" descr="Nach_Moro_4_6"/>
          <p:cNvPicPr/>
          <p:nvPr/>
        </p:nvPicPr>
        <p:blipFill>
          <a:blip r:embed="rId23"/>
          <a:stretch/>
        </p:blipFill>
        <p:spPr>
          <a:xfrm>
            <a:off x="6456240" y="5286240"/>
            <a:ext cx="973440" cy="12970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8" descr="Nach_Moro_4_8"/>
          <p:cNvPicPr/>
          <p:nvPr/>
        </p:nvPicPr>
        <p:blipFill>
          <a:blip r:embed="rId24"/>
          <a:stretch/>
        </p:blipFill>
        <p:spPr>
          <a:xfrm>
            <a:off x="1098720" y="5302080"/>
            <a:ext cx="971280" cy="1295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9" descr="Nach_Moro_4_9"/>
          <p:cNvPicPr/>
          <p:nvPr/>
        </p:nvPicPr>
        <p:blipFill>
          <a:blip r:embed="rId25"/>
          <a:stretch/>
        </p:blipFill>
        <p:spPr>
          <a:xfrm>
            <a:off x="5384880" y="5302080"/>
            <a:ext cx="974520" cy="12970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85920" y="71280"/>
            <a:ext cx="7858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нии УМК «Математика» 1- 4 кл., авт. Моро М.И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9" name="Picture 33" descr="Nach_Moro_4_1_2"/>
          <p:cNvPicPr/>
          <p:nvPr/>
        </p:nvPicPr>
        <p:blipFill>
          <a:blip r:embed="rId26"/>
          <a:stretch/>
        </p:blipFill>
        <p:spPr>
          <a:xfrm>
            <a:off x="2158920" y="5311800"/>
            <a:ext cx="95904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10:07:24Z</dcterms:created>
  <dc:creator>MAntoshin</dc:creator>
  <dc:description/>
  <dc:language>en-US</dc:language>
  <cp:lastModifiedBy>RePack by Diakov</cp:lastModifiedBy>
  <dcterms:modified xsi:type="dcterms:W3CDTF">2019-05-18T17:59:59Z</dcterms:modified>
  <cp:revision>147</cp:revision>
  <dc:subject/>
  <dc:title>Слайд 1</dc:title>
</cp:coreProperties>
</file>