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B0D-E297-4FB3-A6F7-C810FF3F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0A1-116E-4D3D-A4B8-3FE6A323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763-8C0F-427E-B80C-524DA805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2ED-0804-41E3-819F-353C5919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4E96-55CE-41D5-B6B8-7C540A78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6047-0D27-488F-A353-1C5E794A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3522-C04E-49E9-AD06-39BFFC81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FAD5-DACD-4988-97FD-3164DE5A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C4CC-A103-4C7C-8605-B02BFF56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3C79-A90C-47C9-846B-2322EC33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4CCF-55F3-4147-A289-46011DDD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2C4-3525-4E5A-A9E7-3CC21952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F3B1-A1A9-430E-8E8E-564AB1C2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78C9-10E5-418C-AA60-0141156D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A725-BBC0-4B87-AD32-6B0C0A0E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366D-394C-459B-ABEC-B60BEF13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5376-6D59-41F6-A5B3-16E98682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4A7-197B-4A12-B864-B63D9ABD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FE2-D18B-49A5-9A24-B70EB84A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3C0-FDD9-484D-A4D9-026C0B1E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C6A-C3D9-4CA8-8456-CF64B61B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7AD-C650-445E-A2B7-2156CF41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8E7-9918-4237-A4C3-CF58ADF1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DCF-3BDA-4718-AA04-2F9184ED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2320-C308-4878-A8D4-93175AB1AA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D27F-3CD3-4272-A394-59FEA7297B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рок русского языка 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2 клас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536400" y="755640"/>
            <a:ext cx="8242560" cy="296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clker.com/cliparts/Q/r/R/t/o/t/school-boy-hi.png"/>
          <p:cNvPicPr/>
          <p:nvPr/>
        </p:nvPicPr>
        <p:blipFill>
          <a:blip r:embed="rId2"/>
          <a:stretch/>
        </p:blipFill>
        <p:spPr>
          <a:xfrm>
            <a:off x="6012000" y="4005360"/>
            <a:ext cx="216036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76E2-A5BA-4B6C-A5F2-C2A3682D0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>
            <a:hlinkClick r:id="rId3" action="ppaction://hlinksldjump"/>
          </p:cNvPr>
          <p:cNvSpPr/>
          <p:nvPr/>
        </p:nvSpPr>
        <p:spPr>
          <a:xfrm>
            <a:off x="687708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karanda16"/>
          <p:cNvPicPr/>
          <p:nvPr/>
        </p:nvPicPr>
        <p:blipFill>
          <a:blip r:embed="rId4"/>
          <a:stretch/>
        </p:blipFill>
        <p:spPr>
          <a:xfrm flipH="1" rot="20562600">
            <a:off x="6372000" y="458136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3"/>
          <p:cNvSpPr/>
          <p:nvPr/>
        </p:nvSpPr>
        <p:spPr>
          <a:xfrm>
            <a:off x="179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0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665280" y="828720"/>
            <a:ext cx="848520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536400" y="755640"/>
            <a:ext cx="8242560" cy="3328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ds128.centerstart.ru/sites/default/files/u19/81866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9045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entury Schoolbook"/>
              </a:rPr>
              <a:t>Физкульт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9640" y="692280"/>
          <a:ext cx="7920000" cy="548928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39880"/>
              </a:tblGrid>
              <a:tr h="35100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5840">
                <a:tc>
                  <a:txBody>
                    <a:bodyPr lIns="44640" rIns="44640" tIns="0" bIns="0" anchor="t">
                      <a:noAutofit/>
                    </a:bodyPr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к какой части речи относятся слова: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День, хорошая, друг, думает, смелый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ак вы определяли часть речи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 в каждой строчке лишнее слово, определи его часть речи и подпиши.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)Берёза, пчела, лёгкий, малина.                                                                                                                              2) Зелёная, сочная, свежая, растёт.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) Думает, считает, ученик, знает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вы находили лишнее слово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уй от данных существительных однокоренные слова, являющиеся прилагательным и глаголом.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елье – … , … .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ум – … , … .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оль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… , … 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ак вы подбирали однокоренные слова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39640" y="692280"/>
          <a:ext cx="7920000" cy="446544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39880"/>
              </a:tblGrid>
              <a:tr h="31572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1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2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7640">
                <a:tc>
                  <a:txBody>
                    <a:bodyPr lIns="44640" rIns="44640" tIns="0" bIns="0" anchor="t">
                      <a:noAutofit/>
                    </a:bodyPr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День, друг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– имя существительно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хорошая, смелый –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мя прилагательно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думает –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глаго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)Берёза, пчела, 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лёгкий,</a:t>
                      </a:r>
                      <a:r>
                        <a:rPr b="0" lang="ru-RU" sz="2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алина.                                                                                                                              2) Зелёная, сочная, свежая, 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растёт.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) Думает, считает, 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ученик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знае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елье –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есёлый, веселить;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ум –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шумный, шуметь;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оль –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больной,  болеть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ihidl.ru/files/comment/comment_1019025.jpg"/>
          <p:cNvPicPr/>
          <p:nvPr/>
        </p:nvPicPr>
        <p:blipFill>
          <a:blip r:embed="rId1"/>
          <a:stretch/>
        </p:blipFill>
        <p:spPr>
          <a:xfrm>
            <a:off x="1692360" y="692280"/>
            <a:ext cx="674532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dc:language>en-US</dc:language>
  <cp:lastModifiedBy>Пользователь</cp:lastModifiedBy>
  <dcterms:modified xsi:type="dcterms:W3CDTF">2019-05-19T07:36:46Z</dcterms:modified>
  <cp:revision>343</cp:revision>
  <dc:subject/>
  <dc:title>Слайд 1</dc:title>
</cp:coreProperties>
</file>