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C0C-F0BC-43A1-A4E1-F692133C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65A-3D8A-4015-A512-F3380F95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AF7-3C07-492E-B1B0-F8C4E1A7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936-39D0-469B-B4B7-B8788875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D49C-7675-4ED7-859B-82CA21B2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D90-B053-40FC-AE93-EEBC05C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2958-1A8E-4888-A447-B1D3A340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A93-7CC4-42C1-A644-84D6F3F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1EAD-3E22-4261-B7DA-C49CB63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0B6-4C6E-4E7D-8D8C-FF40E7E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D108-8715-40AA-9FDA-A21FD29A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B1A-0E00-47F2-A913-9450FC4B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C4E7-8424-45D8-98EE-2F8133B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0BC1-6420-480E-B0FA-00B9675B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536A-E708-4282-BED5-2F717A58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A8AF-BC4C-4731-9773-918313C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7AB5-C135-4A65-AA71-E28CAFAA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95D-56AD-4956-9110-9989842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148-3D9E-4BCA-B8FF-EF6C29D0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275-62EB-433C-97C8-6611FE9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EAE-41AD-45C6-85C6-18FFE40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E53-879E-4802-8F34-251BC5C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06F-75C5-4A2D-A13B-D755637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6A6-8599-4A50-94D8-5CE973BD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C053-5B75-4A35-BAD4-07A7839230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AFA-F3F6-48B4-BD78-AF86ADBFA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рок русского языка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 клас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536400" y="755640"/>
            <a:ext cx="8242560" cy="296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clker.com/cliparts/Q/r/R/t/o/t/school-boy-hi.png"/>
          <p:cNvPicPr/>
          <p:nvPr/>
        </p:nvPicPr>
        <p:blipFill>
          <a:blip r:embed="rId2"/>
          <a:stretch/>
        </p:blipFill>
        <p:spPr>
          <a:xfrm>
            <a:off x="6012000" y="4005360"/>
            <a:ext cx="216036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3348-1F2D-40E6-AA66-AE6F3670E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3" action="ppaction://hlinksldjump"/>
          </p:cNvPr>
          <p:cNvSpPr/>
          <p:nvPr/>
        </p:nvSpPr>
        <p:spPr>
          <a:xfrm>
            <a:off x="68770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179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665280" y="828720"/>
            <a:ext cx="848520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536400" y="755640"/>
            <a:ext cx="8242560" cy="3328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ds128.centerstart.ru/sites/default/files/u19/81866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045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9640" y="692280"/>
          <a:ext cx="7920000" cy="548928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3510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5840"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к какой части речи относятся слова: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ень, хорошая, друг, думает, смелый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вы определяли часть речи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 в каждой строчке лишнее слово, определи его часть речи и подпиши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)Берёза, пчела, лёгкий, малина.                                                                                                                              2) Зелёная, сочная, свежая, растёт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) Думает, считает, ученик, знает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вы находили лишнее слово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й от данных существительных однокоренные слова, являющиеся прилагательным и глаголом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елье – … , … 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ум – … , … . 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ль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… , … 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вы подбирали однокоренные слова?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39640" y="692280"/>
          <a:ext cx="7920000" cy="4465440"/>
        </p:xfrm>
        <a:graphic>
          <a:graphicData uri="http://schemas.openxmlformats.org/drawingml/2006/table">
            <a:tbl>
              <a:tblPr/>
              <a:tblGrid>
                <a:gridCol w="2640240"/>
                <a:gridCol w="2639880"/>
                <a:gridCol w="2639880"/>
              </a:tblGrid>
              <a:tr h="3157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2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7640"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ень, друг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– имя существительн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хорошая, смелый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мя прилагательн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умает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глаго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)Берёза, пчела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лёгкий,</a:t>
                      </a:r>
                      <a:r>
                        <a:rPr b="0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алина.                                                                                                                              2) Зелёная, сочная, свежая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растёт.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) Думает, считает, 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ученик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знае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8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селье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есёлый, веселить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ум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шумный, шуметь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оль – </a:t>
                      </a:r>
                      <a:r>
                        <a:rPr b="0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больной,  болеть</a:t>
                      </a: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ihidl.ru/files/comment/comment_1019025.jpg"/>
          <p:cNvPicPr/>
          <p:nvPr/>
        </p:nvPicPr>
        <p:blipFill>
          <a:blip r:embed="rId1"/>
          <a:stretch/>
        </p:blipFill>
        <p:spPr>
          <a:xfrm>
            <a:off x="1692360" y="692280"/>
            <a:ext cx="674532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Пользователь</cp:lastModifiedBy>
  <dcterms:modified xsi:type="dcterms:W3CDTF">2019-05-19T07:36:46Z</dcterms:modified>
  <cp:revision>343</cp:revision>
  <dc:subject/>
  <dc:title>Слайд 1</dc:title>
</cp:coreProperties>
</file>