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30F-D78C-409E-959A-AF3BE669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74D-2D83-4E94-988D-67DC9A03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900DE-FF22-44B3-AA8D-CD7794E9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71D26-99D8-45E8-9516-08059743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FE79C-CF75-4BAE-B883-197C3C2F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6D778-8AE6-471A-B03D-ABB59EEF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41130-C0B8-4B98-8970-3651A222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907C9-7A38-41CE-BFCC-1377DE2E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B71DE-C6E6-4BAC-8608-591BE1F1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456FE-7DB5-477D-9A1E-323B577F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87F45-0CC5-44FA-8D58-30028707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DA125-28F7-4B53-B282-8B9CE669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BDE-0A39-476E-960F-34A8B444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806AF-3062-4C50-9B25-BE0CA250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2A267-BA35-49EB-AA46-C4430334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B3B88-07BB-4B30-A6BD-550B827B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EC2F9-AB91-4D91-A93B-645E0DE5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65644-E8CB-479D-A5FA-A860A603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41FB3-F527-4262-97D7-050AD5E6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8765F-6C88-44C4-859E-FCAE8E00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C7E06-0070-4CA4-8E62-3716759B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34EF1-7B0A-4801-A2FE-F0263D55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02841-A3F4-4527-BF5B-B01EE61C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EC0-D9D4-43F2-AB0C-B69616A8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020EA-A227-4D95-A1A8-A976307C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868DD-22F0-403D-918E-303FDF5A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341F5-7BBF-496B-B497-A1C9A15F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91718-6C8B-498A-B4F4-E119CBE0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FD772-1D60-492A-AC6A-9CDEF543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210DC-EF7E-4633-A62B-0CD78A07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441F2-22B5-4012-9537-68042187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4C639-AC17-49A3-B0AF-C3D681E2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29444-F271-4D9B-AA19-62349C74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88E86-7518-468E-AE3D-B3A014A4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93BB-0B11-4FBA-BA3D-B9C51D25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87C25-75E7-457E-9C15-F9F08FB9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1871F-96E3-4635-A579-01471A41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15593-7215-4CAD-9F6F-CF9DA991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1F3E7-BB1E-4D32-9407-4F10014A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BE1E0-4A6E-428B-A413-DE9DFAE2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8AD8E-3D62-42DA-9D5D-34CD377D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E1AFC-A996-47BA-9580-C0452E21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7E110-DD94-4C6B-9DFD-71281A1A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981C3-652E-446F-B918-EC61328F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9C2CD-F88C-4F7A-9D20-EBDE02F5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408A-1CC7-49BE-849C-F35CC1A5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B33C1-E62F-4E41-9524-D3859020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EFF34-8853-44B9-A77F-C801937A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0BFC1-351B-4A75-8812-3FA06709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72FF6-D79C-42CE-AF84-E8119F9B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7E9C7-5C14-4FA8-B947-2AEED81A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EC2E2-DEB9-480B-8259-E0350CA0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5FE3D-3089-4696-9311-F952231B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F3FE7-107F-44BC-A964-2368CC30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2AF8A-8EF8-45F6-BA6E-BB4B388E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5229F-66F8-4381-B047-3B0615E1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EFEE-B2C0-42DB-9C2C-9F9E1486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5F117-DC3C-4067-B4D2-DCC47F18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D80CC-76B6-4DE7-A4CB-BB6CDFF6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73DB9-4DD5-40D6-B135-6DC27655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15A1D-E890-4B46-944B-5E162C0D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C63CF-6591-477A-8DAA-00FFDA21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E9FA2-62A0-4184-B218-89C023EE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BD92E-A145-42B3-B9F1-C801FAAF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8816-EB62-4AE5-9B82-541C4AB4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ECBF-ECD8-4CF2-B42F-632A07A1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EBD7-13FE-43CE-BBF2-B1865FEC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638F-490F-444D-890B-F88F06C0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3D2-FB53-4052-A275-9F603F2D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C6D9-0C15-4E74-853C-DB27E4E0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A346-0732-4962-95EF-4648C22A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E2EA-6017-4868-A142-7CC7E8A4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C1E0-20AC-479C-8337-519F7065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910D-C018-48D7-8B58-715FE067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7A23-19ED-40A4-A7A5-601CA2C7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C4A70-F21A-43D2-AD06-A95439EC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4B4F0-D70F-4DBF-9885-8A301D77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59952-D6CD-47E0-82B1-BF58A4D3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DCD9B-BAAF-4F54-9B0C-32BC3037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1DB-9C08-4850-99CD-F76C5A2D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8A130-698D-4070-BE19-847BB0F4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96F41-8DCE-49AF-91E0-F7F73AFA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ED285-F379-40AE-A6E2-E55C6B30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3B405-06DD-4680-80B5-A9F76427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5416-1754-4B79-9FBA-D67125FB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EEEE-6453-4385-A46F-E256C3F8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3742A-66EB-4654-A4C0-24BDC36D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3BC69-9F72-4B7D-AC44-66649AEB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4BC40-492B-4578-A839-65F75FB2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A6F34-94E4-45C1-ADBC-7F6F1C34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26F-7085-40FF-A72C-3013BA47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8881E-D3B3-4E28-8140-1C4F4BF3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C7943-A6D9-4A54-99B8-67236F7A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C66E6-C428-4ED1-AFF5-DFE25F77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0B691-9C61-418A-8DDE-D9673A88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F6456-5BF4-49B9-B322-61360411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D8FAA-2998-40FB-BD46-70DC2EEC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88610-D66A-4441-97BA-B99DCA0C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08750-BC96-4E9D-BAB4-B82F73CD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77ECC-C302-4876-92AD-795F0DE6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F9E7-C925-4717-8696-31AEC60C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808-98C2-443A-8078-D30D7559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9CC31-CC5B-477C-866D-BB0F2F15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1DB87-D9C0-4BC7-9353-3D5C7924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6DE36-426A-4389-A0CC-2CE4E2CE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C71E6-EB63-469C-A882-4864175D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5C749-60C8-4686-A2C6-8EF0BC0B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AF2F7-F952-43D6-BCD5-F4E42DEF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C4BE2-C77B-4D89-9D18-C426B517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D4A9C-A85F-461A-9E75-EEF43472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3C9FB-2A4B-4B9E-BA7D-35B33BF8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DB1AD-5FF7-41E8-82CB-1DA5AD66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2B1-A143-45CA-A069-F8E91324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E259A-DEA3-4769-9602-034ACDD3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12706-B2A6-4621-9B1A-9C4FBC66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A25ED-113C-4915-A333-260A74F4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F8E99-8350-4E88-B062-2CD78FB0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A5513-1A08-4B83-BB16-9D1A4ED5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5BDF1-738D-40E0-AF16-F229ED1E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2F0B1-2B4C-4747-8F7C-57B47C76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EAC40-28BE-424B-9C74-BFB5C342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D3C94-5C3B-41FA-8E74-019EF27D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15246-13C8-4831-9B8A-B4DB4360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C7E-713F-4C5F-B70F-6393B2D2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46B85-0106-4C69-9644-1059DA7A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B370A-50D6-45AD-B5DE-AB42825A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E582C-1000-4157-AFF4-DBCE0587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C3CAB-8357-40E3-AEEE-793317D2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C9F70-E593-49F2-8911-EE418CB8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A7518-6E55-45E9-A200-6BB08413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23302-A3A1-48B7-993F-96D61AAE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5AC3A-3B7E-479B-9CA3-E3B16D2E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6BCCF-5DBC-4ABC-9C8A-37464D8C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587B5-E2CD-4488-995D-3CD52D4F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686-434A-45B8-9E29-337B9A4B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BF086-0C1A-472E-95C4-F2F44441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DC05C-8507-428C-831A-6CB62E2D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169ED-420B-4BEB-BEB8-E7717241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5A9E2-E1A1-4F57-ACD2-3426B273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97579-344B-4BAA-9E5B-1F9EC334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55F08-8B19-422E-A233-6813953F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CAD44-7F9A-4381-AE76-AC1503A2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059E1-14CC-4475-B012-3C4D51F0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E3054-FA22-413F-B0E7-39736645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AF7B6-87D9-4837-9206-BBBFBD0D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999-8182-4D67-B9CC-EC98AF2F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E4A50-14C0-4BE2-9619-A7F3CA1D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6EDEC-2C85-4CA6-BD35-BFA4F276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1D0EC-0FAF-4C13-BE0E-6F2DB29E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B7DD1-AFF0-4B2E-8A8A-C5B14E04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AB24A-75F1-4E79-BA65-32C4F5F2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7789D-1EAF-4ADD-90D5-D60885A4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CCB43-2B64-48D8-A712-B657EE0F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3076D-4F2E-486E-974F-D648B6A4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546FC-FA2D-432A-A525-12523539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69595-DFF5-4543-AAC1-DFB02A95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D72A-3275-4A1C-802E-8B1F45AD90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FD63-2EA1-4EFC-B370-A21AFE1D8D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FA62-5DD5-448F-B0D2-327C50F778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60D0-CCE7-4826-8DE8-038C6963DA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5323-9127-4F0D-9D4B-4D9EB773E6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икитина Н.Н., учитель химии, МАОУ "Средняя общеобразовательная школа №1" г.Нур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61D5-486E-4934-B3B3-017E5686DBA3}" type="slidenum">
              <a:rPr b="0" lang="es-U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8C00-A4BB-47C9-A136-4272B6FF3A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EADA-4B84-4EFC-8722-516063F51C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273D-1FB4-47DD-8C33-238EF8FA6B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090D-C833-4055-B67E-83196E84DA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CF45-CF75-4CF3-92CC-BB57E9D64A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C7FA-5F80-4AE1-8BA0-464A1EF31A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6AAC-60CB-40FA-91FF-B6BE7AB5E1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Рисунок 4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76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Уже близко…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икитина Н.Н., учитель химии, МАОУ "Средняя общеобразовательная школа №1" г.Нурл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Рисунок 2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" descr="Screenshot_6.jpg"/>
          <p:cNvPicPr/>
          <p:nvPr/>
        </p:nvPicPr>
        <p:blipFill>
          <a:blip r:embed="rId2"/>
          <a:stretch/>
        </p:blipFill>
        <p:spPr>
          <a:xfrm>
            <a:off x="609480" y="401760"/>
            <a:ext cx="7869240" cy="60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Рисунок 2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sp>
        <p:nvSpPr>
          <p:cNvPr id="567" name="TextBox 2"/>
          <p:cNvSpPr/>
          <p:nvPr/>
        </p:nvSpPr>
        <p:spPr>
          <a:xfrm>
            <a:off x="971640" y="620640"/>
            <a:ext cx="72723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итер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ос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образц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сть выполнения игруш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Рисунок 2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sp>
        <p:nvSpPr>
          <p:cNvPr id="569" name="Заголовок 1"/>
          <p:cNvSpPr/>
          <p:nvPr/>
        </p:nvSpPr>
        <p:spPr>
          <a:xfrm>
            <a:off x="1042920" y="1268280"/>
            <a:ext cx="7777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получилось…</a:t>
            </a:r>
            <a:br>
              <a:rPr sz="5500"/>
            </a:br>
            <a:r>
              <a:rPr b="1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не получилось…</a:t>
            </a:r>
            <a:br>
              <a:rPr sz="5500"/>
            </a:br>
            <a:r>
              <a:rPr b="1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…</a:t>
            </a:r>
            <a:br>
              <a:rPr sz="5500"/>
            </a:br>
            <a:r>
              <a:rPr b="1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…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Рисунок 5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икитина Н.Н., учитель химии, МАОУ "Средняя общеобразовательная школа №1" г.Нурл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Рисунок 8" descr=""/>
          <p:cNvPicPr/>
          <p:nvPr/>
        </p:nvPicPr>
        <p:blipFill>
          <a:blip r:embed="rId2"/>
          <a:stretch/>
        </p:blipFill>
        <p:spPr>
          <a:xfrm>
            <a:off x="19080" y="3778200"/>
            <a:ext cx="4076640" cy="304812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10" descr=""/>
          <p:cNvPicPr/>
          <p:nvPr/>
        </p:nvPicPr>
        <p:blipFill>
          <a:blip r:embed="rId3"/>
          <a:stretch/>
        </p:blipFill>
        <p:spPr>
          <a:xfrm>
            <a:off x="3951360" y="0"/>
            <a:ext cx="5037120" cy="377820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11" descr=""/>
          <p:cNvPicPr/>
          <p:nvPr/>
        </p:nvPicPr>
        <p:blipFill>
          <a:blip r:embed="rId4"/>
          <a:stretch/>
        </p:blipFill>
        <p:spPr>
          <a:xfrm>
            <a:off x="4030560" y="3397320"/>
            <a:ext cx="5094360" cy="339552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9" descr=""/>
          <p:cNvPicPr/>
          <p:nvPr/>
        </p:nvPicPr>
        <p:blipFill>
          <a:blip r:embed="rId5"/>
          <a:srcRect l="0" t="0" r="20562" b="0"/>
          <a:stretch/>
        </p:blipFill>
        <p:spPr>
          <a:xfrm>
            <a:off x="-254160" y="165240"/>
            <a:ext cx="4303800" cy="36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Объект 5" descr=""/>
          <p:cNvPicPr/>
          <p:nvPr/>
        </p:nvPicPr>
        <p:blipFill>
          <a:blip r:embed="rId1"/>
          <a:stretch/>
        </p:blipFill>
        <p:spPr>
          <a:xfrm>
            <a:off x="-195120" y="-84240"/>
            <a:ext cx="9339120" cy="694224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Мир на земле – самая главная ценность!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икитина Н.Н., учитель химии, МАОУ "Средняя общеобразовательная школа №1" г.Нурл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2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324000" y="692280"/>
            <a:ext cx="8516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удожественное вырезание. Открытка к 9 мая»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Рисунок 2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468360" y="620280"/>
            <a:ext cx="8207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открытк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НЕМ ПОБЕДЫ!!!»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Рисунок 8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Группа компаний &quot;Аванта&quot; - Клей-карандаш ErichKrause 8гр"/>
          <p:cNvPicPr/>
          <p:nvPr/>
        </p:nvPicPr>
        <p:blipFill>
          <a:blip r:embed="rId2"/>
          <a:stretch/>
        </p:blipFill>
        <p:spPr>
          <a:xfrm>
            <a:off x="6178680" y="3726000"/>
            <a:ext cx="2952720" cy="29509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6" descr="Карандаш с ластиком &quot;Koh-I-Noor&quot;, НВ, круглый цветной корпус, ассорти 09-0751 в продаже по низкой цене с доставкой по Москве в и"/>
          <p:cNvPicPr/>
          <p:nvPr/>
        </p:nvPicPr>
        <p:blipFill>
          <a:blip r:embed="rId3"/>
          <a:stretch/>
        </p:blipFill>
        <p:spPr>
          <a:xfrm rot="2406600">
            <a:off x="2663640" y="254628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553" name="TextBox 8"/>
          <p:cNvSpPr/>
          <p:nvPr/>
        </p:nvSpPr>
        <p:spPr>
          <a:xfrm>
            <a:off x="324000" y="18900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И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Рисунок 9" descr="1031951_w900h900.jpg"/>
          <p:cNvPicPr/>
          <p:nvPr/>
        </p:nvPicPr>
        <p:blipFill>
          <a:blip r:embed="rId4"/>
          <a:stretch/>
        </p:blipFill>
        <p:spPr>
          <a:xfrm>
            <a:off x="395280" y="1268280"/>
            <a:ext cx="3218040" cy="32180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Эволюция.com - Канцелярия"/>
          <p:cNvPicPr/>
          <p:nvPr/>
        </p:nvPicPr>
        <p:blipFill>
          <a:blip r:embed="rId5"/>
          <a:stretch/>
        </p:blipFill>
        <p:spPr>
          <a:xfrm>
            <a:off x="4861080" y="476280"/>
            <a:ext cx="1871640" cy="18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Рисунок 5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1" descr=""/>
          <p:cNvPicPr/>
          <p:nvPr/>
        </p:nvPicPr>
        <p:blipFill>
          <a:blip r:embed="rId2"/>
          <a:srcRect l="23284" t="0" r="25226" b="0"/>
          <a:stretch/>
        </p:blipFill>
        <p:spPr>
          <a:xfrm>
            <a:off x="1763640" y="263520"/>
            <a:ext cx="5616720" cy="613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икитина Н.Н., учитель химии, МАОУ "Средняя общеобразовательная школа №1" г.Нурл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3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4" descr=""/>
          <p:cNvPicPr/>
          <p:nvPr/>
        </p:nvPicPr>
        <p:blipFill>
          <a:blip r:embed="rId2"/>
          <a:srcRect l="0" t="10547" r="0" b="15821"/>
          <a:stretch/>
        </p:blipFill>
        <p:spPr>
          <a:xfrm>
            <a:off x="1692360" y="723960"/>
            <a:ext cx="5616360" cy="55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Рисунок 3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1"/>
          <p:cNvSpPr/>
          <p:nvPr/>
        </p:nvSpPr>
        <p:spPr>
          <a:xfrm>
            <a:off x="468360" y="911160"/>
            <a:ext cx="8280360" cy="55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Работай ножницами только на своем рабочем месте.</a:t>
            </a: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Следи за движением лезвий во время работы.</a:t>
            </a: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Ножницы клади кольцами к себе.</a:t>
            </a: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 Подавай ножницы кольцами вперед.</a:t>
            </a: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Не оставляй ножницы открытыми.</a:t>
            </a: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Храни ножницы в чехле лезвиями вниз.</a:t>
            </a: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Не играй с ножницами, не подноси ножницы к лицу.</a:t>
            </a: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 Используй ножницы по назначен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2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работы с ножни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9T15:19:01Z</dcterms:created>
  <dc:creator>Полиночка</dc:creator>
  <dc:description/>
  <dc:language>en-US</dc:language>
  <cp:lastModifiedBy>Юля</cp:lastModifiedBy>
  <dcterms:modified xsi:type="dcterms:W3CDTF">2019-05-19T08:07:08Z</dcterms:modified>
  <cp:revision>19</cp:revision>
  <dc:subject/>
  <dc:title>Солнечного вам дня!</dc:title>
</cp:coreProperties>
</file>