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08C-EB1E-4C9A-907C-FAC7A3EC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964-3E28-4D9B-84F1-444718B2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53211-380E-4AF1-95FC-5B9C1A1E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6A3F4-BFB9-41C7-8E1F-06463BC9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36E34-71E5-484C-B7A8-F6AAEDF5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C14AC-0274-4A57-8477-2072F59D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B2314-EDC9-49C0-9963-2FEED1A9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6D656-0E2D-4BC0-8108-68D0F226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44A18-6DCD-4A5E-A9FF-591943CA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F0164-5A74-4615-9994-415BE2E0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ACA3B-80F1-4756-ABD5-0E29B6FA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15894-B2EE-4A9C-AA54-0B0AF8B4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2E6-438E-415D-A408-F7FF07A1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B9033-5481-499B-AFAB-DE8F6E00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82D3F-177F-4B29-BFF7-51011C6D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5FA0E-BE5E-4650-8F74-44B96374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6A1F3-7E00-4DF3-BD92-E6B36D72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089E3-2750-4C77-B167-F8B62070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FAE86-6868-4A11-A9A8-468E0B1F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B5B1C-3476-444F-8395-930F7D60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6B49A-2184-4CCB-92B9-A3305C96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5C26D-632E-4231-A9B7-36A976FA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F789B-ABC8-4FDF-9FFF-F63E13F2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7E3-56DD-42A4-B7CE-88C6F1ED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38C43-5AFB-4681-A2A5-C4C0DBF3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B392C-74F0-4573-BD61-7FF2490A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B27D1-0EE8-43D3-9E8C-14A4023C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562CB-6A8D-472A-8D36-FF95FB92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331DA-AEBF-4B70-98DD-DC498636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41F87-83AA-4C58-9335-0E39837A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C896F-03D7-464D-9EC7-9E1332B6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45747-0A54-4B5E-B5F0-F6CB7A2C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EF82F-CA4B-4A3B-B6BE-46AF7B8B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3A211-361A-4B7C-95E7-3A203870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4C56-16DD-4AB9-9B78-041340B4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D8469-ACB1-45C6-81C0-52FA9F21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02A16-E2CC-455B-8ED0-7B094B4C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A7629-874C-47DD-8356-46936BA9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E80E8-21DE-4C3B-92A8-07525AA0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C9A70-ABD3-4CCD-9D2A-2BD8BE58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FA84F-4616-4B21-8361-5E0C5014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4F6E9-C2A4-466F-B73F-1E799635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B0D3E-DBE5-4667-9B84-DB652373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73834-5304-42D8-AEEC-C5B343AC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EA9C5-83EF-432A-B06B-78A7CDD9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308D-A001-4C73-9647-217BAEB3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24E4D-8FC9-48E3-8286-7708544D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D1E31-9E86-41FE-AA0F-06BC39A0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41495-401A-4882-80CA-778D6A19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F98C3-0E6D-405D-B9E7-660485BA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D3751-14EB-4898-92A7-3948E142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51E6C-B148-4754-8BB4-912FB4BC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B30E1-5E79-4FE1-81AE-5DE375F2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83CDF-CB0F-4A70-9F4B-AE7193E4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59DD6-E31E-4DEE-9557-8465974D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932B1-4FC4-4092-9AB2-612BF6C4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C0BC-B5EA-4435-A3FC-7A6C82BF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900B0-BD8A-44B2-B13A-20047504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DAF923-2060-445E-B091-F93F4722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5722C-7A12-4003-A6A9-2EDE2E9B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BF0DB-24F9-479E-9067-34FF9C11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1F4C2-FD6A-4380-927C-E2F1B465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BC034-BF20-4BAE-89F1-D9A4F8AC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105E7-7E4F-4FB3-A16B-F554E97E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C0D7-DCE6-47E0-ABF3-C44B2AAD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6557-E3CE-472A-9120-D85B4E6F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B735-5840-4008-9DB1-F96AB34F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4376-30A3-49E8-91E0-6CC02325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833-C773-4E71-BF6F-099E3A9A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EADB-31EA-4AB0-97DF-BE00733E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43FE-D0D0-4BDE-8BE9-559D05A2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9221-5F31-4463-B087-53DF4E5B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8E80-D519-40F9-919E-B1754F50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CF23-18E5-4893-892A-77259999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3047-8BFD-4751-B994-89EB3CE3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A43A1-7C3F-4038-9359-85CA5167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B7C0B-4F34-4160-AA6D-FA59A2B5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C90C7-1947-4A09-BC90-19B13CCD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8A668-603E-4CB1-9FF0-6E7F53B1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F69-BE38-4258-942B-62F4F57C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162A-FCD7-4EDC-9584-7094B787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E68C-D324-4280-ADFB-05BEFBC9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273AE-49E9-4872-BAEF-52390E32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9C42F-DA31-496E-B6D6-A0C26F01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C3DE7-F1D8-484B-9E8D-4559F81D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1252-E992-4556-8161-2C3C964C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6014C-AA4D-4F3E-8D61-C66A6A70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9BBEA-03AB-4CC3-B77F-D8330DFB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D8CF5-7B9D-473B-A8F2-A8AAF10D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E2375-7074-4632-B7C7-DF07ED79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97E-D572-4329-AFB7-B81DE556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DCCCD-66B3-4893-9FF2-21F57293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3F589-5948-4B0A-8F9C-E1488473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DDB31-9F0C-457F-AB74-DF34692B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C7C1D-CC30-4456-A991-8A3C9DC4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963F0-763A-4EEE-96B2-0FB61B5E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63884-58BD-4F07-970A-F92534D2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5A70A-0795-4BE0-A667-682D8F49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D8C61-821E-4695-ABB6-0609FB6A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01A8A-A5E2-45B0-8726-07A91645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A21AB-C6EB-48B0-B29A-8DAD0433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905-4CE6-486F-8AF0-B3776B71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28772-E438-4176-B44F-F100113A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B7065-E2E1-4841-97F4-4793DEAC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41E1D-2682-4DAF-B6C4-0F716A74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B2DAE-783C-49D3-B09F-4969F3CE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F3FDC-B843-4E6F-B8B1-CC26102A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59DB1-9DF9-453D-BF06-99CE4375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24DD2-521B-427B-92FF-D997870F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0978E-15D7-408E-AAAD-A5139A83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E735C-4816-4C44-BA74-37E4DF06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22D5F-A157-471B-92EC-0779CC2D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5AB-F6CA-4B5E-B290-20597731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71155-49E7-42F3-9799-022CF214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7AD09-D057-4D71-AACC-76400540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FB2EC-34E9-4CB1-8DAA-6A1B8918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5C482-01E5-4EC3-B30F-B6756312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564C5-5873-48CC-A743-A5DD72D8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6ECE8-B446-4DB9-9D3F-881C5C26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83D4E-E2FF-436D-83C4-E30430BE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73803-0605-407F-90C7-B2EFD3FF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9AF40-27B9-4E41-827E-0B1740F6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FDA78-1836-4E40-B49D-6F06274D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AC4-929A-49BA-88CC-91746D4B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AA04B-4933-4D2D-B671-DC01B61E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A8BD2-CBAE-468A-9482-73C34A5E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B2EEF-ED0E-40E4-A00E-63A3935F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29949-1E42-4BCF-8A11-1B3F2429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39838-E115-4C9E-850F-EA87FAF5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C40CC-139F-4961-BBF5-8DA3870B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837DE-3434-4ACB-910E-52662562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8F8CC-D999-4C9D-985B-F4767CC8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AB1DA-EE3C-4DC2-A37A-A892D637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E28B9-B1F8-4290-BEF8-A1D1249F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37C-CF5B-4A6C-8173-C0C4E4A2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9572B-B1B9-4927-A549-059E0CDF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2AD2A-6423-4E33-B34B-4F1A2230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1963F-64E1-42F8-BF6E-56D477DD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F483E-2E12-4EF6-96A9-25FCC93A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91DDF-4C5F-4DFF-82FE-3D846416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87BAC-2C89-4861-9196-E7A5B9AB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8207A-DD6B-436B-B3C6-F23B9C4B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96B79-BD8C-4A27-AF4E-391F241C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DD5F8-7E17-4F68-9C38-09F74A56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CF15E-71D6-471D-94BF-882DD151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BC9-EDC2-405E-911C-EA2A6401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5D79D-B218-49F7-9A20-7140153F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46F5C-A1D3-4DEB-9CD9-3D540D26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53D9E-1508-45A6-BDB0-AF6B780E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D852E-184A-40C7-8E5E-87E30756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F80AC-45FF-42B7-BC61-27EE3002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37EC8-61AB-4A56-9210-642F70C3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F29B0-BBC6-40DE-988C-54D916B2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2823A-5887-4838-9F3E-6072E847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2C110-1FFE-4ADA-BF62-7D26E476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F22C0-F7C6-4531-8289-FD1FB958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CA8D-70EC-490B-B980-8E7D44E34F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93CB-8C1D-4BA3-9146-3E9A835104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B13C-AEF7-489D-85BA-60DB7DD255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15BF-19CF-4FD8-AEBF-87A56AA250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4A70-72EC-493F-9DEC-1F813DAF56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икитина Н.Н., учитель химии, МАОУ "Средняя общеобразовательная школа №1" г.Нур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EADB-7358-4816-95C8-9E72FB0752C6}" type="slidenum">
              <a:rPr b="0" lang="es-U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74CD-2CA7-4181-8832-811140848B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ADE1-C3D6-4B4F-BB93-17125A2D3C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0498-A4C7-45FC-B7F6-ABB14A3DFC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F1A4-DA9E-40F8-9390-5B94CBA0F0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87E4-C060-431B-8A42-6467774ED8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96DF-2A87-456C-BA47-7C6E6003F2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95C8-115D-43CD-9E7B-7A8829FB73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Рисунок 4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76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Уже близко…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икитина Н.Н., учитель химии, МАОУ "Средняя общеобразовательная школа №1" г.Нурл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Рисунок 2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" descr="Screenshot_6.jpg"/>
          <p:cNvPicPr/>
          <p:nvPr/>
        </p:nvPicPr>
        <p:blipFill>
          <a:blip r:embed="rId2"/>
          <a:stretch/>
        </p:blipFill>
        <p:spPr>
          <a:xfrm>
            <a:off x="609480" y="401760"/>
            <a:ext cx="7869240" cy="60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Рисунок 2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sp>
        <p:nvSpPr>
          <p:cNvPr id="567" name="TextBox 2"/>
          <p:cNvSpPr/>
          <p:nvPr/>
        </p:nvSpPr>
        <p:spPr>
          <a:xfrm>
            <a:off x="971640" y="620640"/>
            <a:ext cx="72723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итер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ос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образц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сть выполнения игруш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Рисунок 2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sp>
        <p:nvSpPr>
          <p:cNvPr id="569" name="Заголовок 1"/>
          <p:cNvSpPr/>
          <p:nvPr/>
        </p:nvSpPr>
        <p:spPr>
          <a:xfrm>
            <a:off x="1042920" y="1268280"/>
            <a:ext cx="7777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получилось…</a:t>
            </a:r>
            <a:br>
              <a:rPr sz="5500"/>
            </a:br>
            <a:r>
              <a:rPr b="1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не получилось…</a:t>
            </a:r>
            <a:br>
              <a:rPr sz="5500"/>
            </a:br>
            <a:r>
              <a:rPr b="1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…</a:t>
            </a:r>
            <a:br>
              <a:rPr sz="5500"/>
            </a:br>
            <a:r>
              <a:rPr b="1" lang="ru-RU" sz="5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…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Рисунок 5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икитина Н.Н., учитель химии, МАОУ "Средняя общеобразовательная школа №1" г.Нурл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Рисунок 8" descr=""/>
          <p:cNvPicPr/>
          <p:nvPr/>
        </p:nvPicPr>
        <p:blipFill>
          <a:blip r:embed="rId2"/>
          <a:stretch/>
        </p:blipFill>
        <p:spPr>
          <a:xfrm>
            <a:off x="19080" y="3778200"/>
            <a:ext cx="4076640" cy="304812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10" descr=""/>
          <p:cNvPicPr/>
          <p:nvPr/>
        </p:nvPicPr>
        <p:blipFill>
          <a:blip r:embed="rId3"/>
          <a:stretch/>
        </p:blipFill>
        <p:spPr>
          <a:xfrm>
            <a:off x="3951360" y="0"/>
            <a:ext cx="5037120" cy="377820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11" descr=""/>
          <p:cNvPicPr/>
          <p:nvPr/>
        </p:nvPicPr>
        <p:blipFill>
          <a:blip r:embed="rId4"/>
          <a:stretch/>
        </p:blipFill>
        <p:spPr>
          <a:xfrm>
            <a:off x="4030560" y="3397320"/>
            <a:ext cx="5094360" cy="339552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9" descr=""/>
          <p:cNvPicPr/>
          <p:nvPr/>
        </p:nvPicPr>
        <p:blipFill>
          <a:blip r:embed="rId5"/>
          <a:srcRect l="0" t="0" r="20562" b="0"/>
          <a:stretch/>
        </p:blipFill>
        <p:spPr>
          <a:xfrm>
            <a:off x="-254160" y="165240"/>
            <a:ext cx="4303800" cy="36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Объект 5" descr=""/>
          <p:cNvPicPr/>
          <p:nvPr/>
        </p:nvPicPr>
        <p:blipFill>
          <a:blip r:embed="rId1"/>
          <a:stretch/>
        </p:blipFill>
        <p:spPr>
          <a:xfrm>
            <a:off x="-195120" y="-84240"/>
            <a:ext cx="9339120" cy="694224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Мир на земле – самая главная ценность!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икитина Н.Н., учитель химии, МАОУ "Средняя общеобразовательная школа №1" г.Нурл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2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324000" y="692280"/>
            <a:ext cx="8516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удожественное вырезание. Открытка к 9 мая»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Рисунок 2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 txBox="1"/>
          <p:nvPr/>
        </p:nvSpPr>
        <p:spPr>
          <a:xfrm>
            <a:off x="468360" y="620280"/>
            <a:ext cx="8207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открытк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НЕМ ПОБЕДЫ!!!»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Рисунок 8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Группа компаний &quot;Аванта&quot; - Клей-карандаш ErichKrause 8гр"/>
          <p:cNvPicPr/>
          <p:nvPr/>
        </p:nvPicPr>
        <p:blipFill>
          <a:blip r:embed="rId2"/>
          <a:stretch/>
        </p:blipFill>
        <p:spPr>
          <a:xfrm>
            <a:off x="6178680" y="3726000"/>
            <a:ext cx="2952720" cy="29509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6" descr="Карандаш с ластиком &quot;Koh-I-Noor&quot;, НВ, круглый цветной корпус, ассорти 09-0751 в продаже по низкой цене с доставкой по Москве в и"/>
          <p:cNvPicPr/>
          <p:nvPr/>
        </p:nvPicPr>
        <p:blipFill>
          <a:blip r:embed="rId3"/>
          <a:stretch/>
        </p:blipFill>
        <p:spPr>
          <a:xfrm rot="2406600">
            <a:off x="2663640" y="254628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553" name="TextBox 8"/>
          <p:cNvSpPr/>
          <p:nvPr/>
        </p:nvSpPr>
        <p:spPr>
          <a:xfrm>
            <a:off x="324000" y="18900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И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Рисунок 9" descr="1031951_w900h900.jpg"/>
          <p:cNvPicPr/>
          <p:nvPr/>
        </p:nvPicPr>
        <p:blipFill>
          <a:blip r:embed="rId4"/>
          <a:stretch/>
        </p:blipFill>
        <p:spPr>
          <a:xfrm>
            <a:off x="395280" y="1268280"/>
            <a:ext cx="3218040" cy="32180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Эволюция.com - Канцелярия"/>
          <p:cNvPicPr/>
          <p:nvPr/>
        </p:nvPicPr>
        <p:blipFill>
          <a:blip r:embed="rId5"/>
          <a:stretch/>
        </p:blipFill>
        <p:spPr>
          <a:xfrm>
            <a:off x="4861080" y="476280"/>
            <a:ext cx="1871640" cy="18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Рисунок 5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1" descr=""/>
          <p:cNvPicPr/>
          <p:nvPr/>
        </p:nvPicPr>
        <p:blipFill>
          <a:blip r:embed="rId2"/>
          <a:srcRect l="23284" t="0" r="25226" b="0"/>
          <a:stretch/>
        </p:blipFill>
        <p:spPr>
          <a:xfrm>
            <a:off x="1763640" y="263520"/>
            <a:ext cx="5616720" cy="613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Никитина Н.Н., учитель химии, МАОУ "Средняя общеобразовательная школа №1" г.Нурл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3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4" descr=""/>
          <p:cNvPicPr/>
          <p:nvPr/>
        </p:nvPicPr>
        <p:blipFill>
          <a:blip r:embed="rId2"/>
          <a:srcRect l="0" t="10547" r="0" b="15821"/>
          <a:stretch/>
        </p:blipFill>
        <p:spPr>
          <a:xfrm>
            <a:off x="1692360" y="723960"/>
            <a:ext cx="5616360" cy="55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Рисунок 3" descr=""/>
          <p:cNvPicPr/>
          <p:nvPr/>
        </p:nvPicPr>
        <p:blipFill>
          <a:blip r:embed="rId1"/>
          <a:stretch/>
        </p:blipFill>
        <p:spPr>
          <a:xfrm>
            <a:off x="19080" y="165240"/>
            <a:ext cx="9144000" cy="652752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1"/>
          <p:cNvSpPr/>
          <p:nvPr/>
        </p:nvSpPr>
        <p:spPr>
          <a:xfrm>
            <a:off x="468360" y="911160"/>
            <a:ext cx="8280360" cy="55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Работай ножницами только на своем рабочем месте.</a:t>
            </a: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Следи за движением лезвий во время работы.</a:t>
            </a: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Ножницы клади кольцами к себе.</a:t>
            </a: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 Подавай ножницы кольцами вперед.</a:t>
            </a: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Не оставляй ножницы открытыми.</a:t>
            </a: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Храни ножницы в чехле лезвиями вниз.</a:t>
            </a: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Не играй с ножницами, не подноси ножницы к лицу.</a:t>
            </a: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 Используй ножницы по назначен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2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работы с ножни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9T15:19:01Z</dcterms:created>
  <dc:creator>Полиночка</dc:creator>
  <dc:description/>
  <dc:language>en-US</dc:language>
  <cp:lastModifiedBy>Юля</cp:lastModifiedBy>
  <dcterms:modified xsi:type="dcterms:W3CDTF">2019-05-19T08:07:08Z</dcterms:modified>
  <cp:revision>19</cp:revision>
  <dc:subject/>
  <dc:title>Солнечного вам дня!</dc:title>
</cp:coreProperties>
</file>