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1ECEE-A872-4D13-9B04-FD5C11D47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C38CC-0C65-4BD4-937E-BCCA9CBA662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EF7CDA-8179-48BC-AA06-78C08AB6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26D419-AC20-4583-9454-D163F5E0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BD7AD8-D32A-4394-9B47-6EB63912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6DD727-5685-400E-81FB-8AA14388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052891-B7C0-4DB6-825B-B2FB9C86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9B9EDA-8FC9-48E8-ACFB-1668C394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3A213A-E27A-4CBE-9874-BE379BF8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F31AB7-9BBA-4776-8D86-58520938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4602A6-8E70-47EA-8ED8-819BFE68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647B69-B09F-4B82-AC9B-D0936B3F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49763-7E36-427A-AA36-0C1F8B7A143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6D87FD-9055-449D-81F0-B16299F4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C0B920-472C-423F-9FAA-C9E45A2D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D7FED8-DB11-4DDF-A696-4161CCA9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1B650E-5340-4E38-8B5A-29F949F9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04656B-6E1A-4C62-93E3-E2D6238B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EE6EFC-C494-40F4-B2A5-69293529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6C01D9-6781-43E5-BE3A-BD37EAA6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997323-BCDB-462B-A7FF-72E5B255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677256-2995-4B19-A8ED-ABD0E6FA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BE5CEE-98B1-4ACF-B8FA-CE5D830E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3AEC7-A499-45BD-A4BE-05FA82756D6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DD23D9-2D12-4195-BDAC-C6647B24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194F5-F7FE-492F-98EE-BA2F618C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BBF4D-EEEA-4CE6-A831-DCB78472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B6513-B352-4414-AACA-4795DDC7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C9E97-B52A-4E5B-B3A1-8C71EB16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82DC3-5B59-4692-89C0-C548020A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21BF5-3AA9-412E-B983-17BAC55F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AC184-E375-4A18-9DFF-843D8B91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4C9C-22F7-4F61-A5E9-72C3B7CBA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F6B18-9A48-4095-87AD-602EB1D0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9B584-82CA-4A5B-BC64-79066897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974D6-608B-474F-A07C-DF85A7F9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C8C94-AC88-4E7B-932A-92A2EEBF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3A15E-9F46-40AC-AF26-4AE3B5AB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C0C1FA-A62B-445C-AB40-F662A1BF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A51600-2D3E-478F-88E8-1EBD82EF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789957-2F2B-4B22-896C-FBF639AF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5E8DDB-F9AD-4703-81A4-AA010B19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D698F8-24D3-4927-96B8-9A5BDED3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2EE2-208E-4104-88B3-8BA79EB6D1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CE29AD-57EF-41FD-A38A-51272891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542CE1-1871-40C7-B7BA-12C2EF8B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ED5028-2226-4CA8-80A5-D4DBE0BB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7025C6-D664-4546-90F9-5FCACBDF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1D2859-F4F2-4C4E-A8FE-F56AE6F9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2B1F4F-E5B2-40F1-AC8C-BABB819E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2E8A46-382C-40D5-B553-E0CB327C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B6645A-8037-4FCD-84FE-FA3DE321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3889E3-2577-4D66-A909-970857F7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930292-AF5C-4CDA-992B-B365EF03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7A8A2-B703-4D88-849E-D1B7370F7D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649C99-560C-4CBA-9E28-B7F718C6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E948F8-233A-4979-8231-74B1C26C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13CA0F-5936-46E2-A3C0-5E5B6F6B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494F37-284D-4F0C-9EA8-7F1C1961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785E49-D371-49C4-8190-D5D7BE60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B4AB60-F121-4FC0-A0EA-097147A6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01F3DB-E7AA-468F-BD67-2969F22C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655FC9-5128-4B17-BF17-09BAEC71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569395-51B1-4648-B1F3-5899DABE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31F31C-F183-4E60-A793-0E875A756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E22E5-3120-4EF4-9FBF-CD14F7960D4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41E239-5112-4DEA-B7ED-F07693D8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1B58F1-8E47-46F8-817F-68FF3EC1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800E36-0AC7-4A98-836A-D695056A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84BE50-7C19-4A58-8328-2D9C9922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82F03D-A12F-498A-9677-6BA3E9CE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6A6B02-D555-496B-B173-52C2550D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51B4BB-3CE1-4EAE-A83E-3A232981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07D834-2184-44C2-9F67-356DCEE8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EDCF6D-D9DD-442C-9B7A-3D0A4587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5FF254-396C-4CF2-9C78-4706BA7F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BC580-7575-4725-8E78-7F8162F200D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D80A1F-09F2-4665-BCD5-3F787DBD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E16728-2FAF-4DBF-941C-1C5C0DD8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FC28C3-62DF-4067-B293-DAE9E374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92187A-21C0-4CD9-8CDB-C252CCA4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5D0D6B-7960-4E27-819C-DB2F8091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DBAECF-E837-4187-B848-1D758B3A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D1A754-4C34-4D3B-99FF-74F23107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150AA2-B7CF-400A-B85F-5825BCEF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F42DFA-B905-47C2-9B89-CFD6E4FD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186529-0735-4AEA-ADD5-4795109C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11EB9-AFCA-4335-83C5-261A0DED10D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BAED84-F478-4EE6-B2C0-AE1FECC5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AB3377-09F1-41BB-8A1C-5139BFD0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290B35-F5B9-44FB-A547-53AA22D9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B086D5-CD47-4B80-BD07-AEE7CEF6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700398-2612-4AB2-A82F-94ECF1B4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5EF32D-C33E-4548-A5FE-6DBDC2EF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14BB17-93EE-4169-965C-2878F09B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184FE2-6EE9-40A3-BAEA-81721E3D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705323-40A4-4B26-8AE8-908A7BEB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13E32F-AC67-442A-A80C-25063EFB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54F05-4077-4A6C-A1C9-226C651B2A6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331B88-A838-45C4-BD2F-8922B810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D04D3A-FE2B-4100-B064-13C8BF94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74C8A2-DAF1-4BAF-B040-3EF86DA9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C25DE1-4FE9-4305-8CB8-25890713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6DEE1A-0219-419C-905A-90AB1DE0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59D513-877C-4A2A-99EA-F27D76FE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287203-0508-4291-A7CE-535C8E76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479DB9-50D9-4413-BF78-3DEE27E1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EE974F-F73A-45A8-9CED-AB1C15C7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8EDB9D-69F8-4C10-A378-9CBF643F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693DA-EAFF-4282-A34E-32F34848419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9C43C4-4810-476C-A3D1-849D1BFC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94D733-51DB-40DD-857A-92CC9C99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F3C2B1-7A34-4B3D-BF0F-CE5ACCC0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89B314-BDF5-4B05-97EE-DA8721B4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9C98E0-8EA3-42AA-BC71-A3958B84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391E83-C690-4AFB-A3D8-EB337F79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B0AA6C-1D12-4982-8F68-8A071CEC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D48414-F0DE-4FFC-88C7-AAE2AB53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62CA0A-5C1A-4417-B0F0-947B2AF7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364D08-FDD0-411C-A0F2-25AC6B92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5864040" cy="6854760"/>
            <a:chOff x="0" y="0"/>
            <a:chExt cx="5864040" cy="685476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4569120" cy="68547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685440" y="990360"/>
              <a:ext cx="5178600" cy="1902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Group 4"/>
          <p:cNvGrpSpPr/>
          <p:nvPr/>
        </p:nvGrpSpPr>
        <p:grpSpPr>
          <a:xfrm>
            <a:off x="3631680" y="4889520"/>
            <a:ext cx="4873680" cy="315720"/>
            <a:chOff x="3631680" y="4889520"/>
            <a:chExt cx="4873680" cy="315720"/>
          </a:xfrm>
        </p:grpSpPr>
        <p:sp>
          <p:nvSpPr>
            <p:cNvPr id="4" name="AutoShape 5"/>
            <p:cNvSpPr/>
            <p:nvPr/>
          </p:nvSpPr>
          <p:spPr>
            <a:xfrm flipH="1">
              <a:off x="3631320" y="4889520"/>
              <a:ext cx="4622760" cy="3139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8245440" y="4889520"/>
              <a:ext cx="259920" cy="3157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3040" y="747360"/>
            <a:ext cx="7775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8360" indent="-2811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Text Box 9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76320" y="6243120"/>
            <a:ext cx="58248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51C461E-FEB8-429E-890D-92FD3FAEACD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C42C20A-DA7F-4EFC-9D91-ED1AD4C78DC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8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72CB25-5C0B-4872-A288-BCE23F657A2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55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6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9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98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7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4477CD-D88F-4E1C-89AF-40B6E8FD559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5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48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9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0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0649D0-6A3D-4DB9-9ECA-18265D55DBC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92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7061AC-8DA2-4ADD-89AE-496C9382F37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6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8356AE-2F2F-484F-BFA2-ACDEA2A1F73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4D347C-5D78-4E0E-9A89-3A3F9C1BBA6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2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DAECA3-FB06-4AAF-8628-F8AFDBD0161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0EE9BF-BA51-4F93-A607-C854BCA160A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ctr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нновационные формы методической работы в ДО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500040" y="14292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1. Мастер-класс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2"/>
          <p:cNvSpPr/>
          <p:nvPr/>
        </p:nvSpPr>
        <p:spPr>
          <a:xfrm>
            <a:off x="428760" y="1285920"/>
            <a:ext cx="76928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сновные преимущества мастер-класса – это сочетание короткой теоретической части с индивидуальной работой педагогов, направленной на приобретение и закрепление практических знаний и навы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то компактные курсы повышения квалификации. Это возможность познакомиться с новой технологией, новыми методиками и авторскими наработк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тличается от семинара тем, что во время мастер-класса ведущий специалист рассказывает и показывает как применять на практике новую технологию или мет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Мастер-класс –ярко выраженная форма ученичества именно у Мастера, то есть передача мастером ученикам опыта, мастерства, искусства…» (М.М.Поташник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начение Мастер-класс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Font typeface="Arial"/>
              <a:buAutoNum type="arabicParenR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еспечивает формирование мотивации и познавательной потребности в конкретной де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Font typeface="Arial"/>
              <a:buAutoNum type="arabicParenR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тимулирует познавательный интерес и отрабатываются умения по планированию, самоорганизации и самоконтролю педагогической де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Font typeface="Arial"/>
              <a:buAutoNum type="arabicParenR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существляется индивидуальный подход по отношению к каждому участнику мастер-класса, отслеживаются позитивные результаты учебно-познавательной деятельности каждого учите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Font typeface="Arial"/>
              <a:buAutoNum type="arabicParenR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"/>
          <p:cNvSpPr/>
          <p:nvPr/>
        </p:nvSpPr>
        <p:spPr>
          <a:xfrm>
            <a:off x="642960" y="285840"/>
            <a:ext cx="778032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2. Творческие микрогрупп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785880" y="1285920"/>
            <a:ext cx="76928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Цель: 1) создание в коллективе обстановки для творческого поиска наиболее эффективных форм и методов в работе с деть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) формирование у педагогов потребностей во владении современными технологиями в области дошкольной педагогики и психологи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) выделение наиболее перспективных идей в организации воспитательно-образовательного процесса с деть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) внедрение новых образовательных технологий, способствующих мотивации и активации профессиональной деятельности педагогического коллекти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ворческие микрогруппы создаются  в ДОУ для решения проблем, связанных с организацией образовательного процес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бор участников творческих групп организовывается на добровольной основ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3. «Круглый стол»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одна из форм общения педагогов, в процессе которой обсуждаются  важные психолого-педагогические, методические проблемы и вырабатывается общее мнение, принимается реш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форма позволяет сплотить коллектив, научить педагогов прислушиваться к мнениям коллег, уметь слушать и слышать их, выработать общую точку зр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рганизатор «круглого стола» продумывает и готовит вопросы к обсужден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просы должны быть нацелены на достижение конкретной ц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ычно продумывается 1-3 вопроса. Каждый вопрос обсуждается отдельн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571680" y="1714680"/>
            <a:ext cx="76928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оставляется слово педагогам, имеющим опыт работы по пробл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едущий обобщает итоги обсуждения каждого вопрос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конце обсуждения ведущий предлагает общую позицию с учетом замечаний, дополн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4. Литературная или педагогическая газет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Цель: развитие творческих возможностей взрослых, а также детей и родите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спитатели пишут статьи, рассказы, сочиняют стихи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5. Эвристическая бесед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спользуется при обмене опытом между педагогами, анализе конкретной ситуации, при обсуждении методической литературы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1000080" y="142884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словия эффективности ЭБ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предметом беседы лучше избирать практически значимый, актуальный вопро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) необходимо чтобы  воспитатели располагали достаточным запасом теоретических знаний и профессиональным опы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"/>
          <p:cNvSpPr/>
          <p:nvPr/>
        </p:nvSpPr>
        <p:spPr>
          <a:xfrm>
            <a:off x="785880" y="214200"/>
            <a:ext cx="77803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Литер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"/>
          <p:cNvSpPr/>
          <p:nvPr/>
        </p:nvSpPr>
        <p:spPr>
          <a:xfrm>
            <a:off x="857160" y="85716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. Белая К.Ю.Методическая работа в ДОУ: анализ, планирование, формы и методы – М., 20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. Белая К.Ю. Методическая деятельность в ДОО. ФГОС ДО. – М., 201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. Савченко В.И.Организация системы методической работы в ДОО по сопровождению ФГОС. – М, 201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3366"/>
              </a:buClr>
              <a:buFont typeface="Arial"/>
              <a:buAutoNum type="arabicPeriod" startAt="4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фонькина Ю. Индивидуальный методический  маршрут воспитателя ДОО. Журнал для проектирования. ФГОС ДО. – М., 201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3366"/>
              </a:buClr>
              <a:buFont typeface="Arial"/>
              <a:buAutoNum type="arabicPeriod" startAt="4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монина Л.В., Зайцева О.И. Инновационные технологии в методической работе ДОУ. Планирование, формы работы. ФГОС. – М, 201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руктура ЭБ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 ставится проблема, вопрос и т.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способ реш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дается пошаговая инструкция деятельности педагогов по решению пробл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результат реш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6. Деловая игр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это метод иммитации (подражания) принятия управленческих решений в различных ситуациях, путем игры по заданным или вырабатываемым самим участниками игры правил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еловая игра повышает интерес, вызывает высокую активность, совершенствует умение в разрешении реальных педагогических  и управленческих проблем и способствует  формированию профессионального творческого мыш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2"/>
          <p:cNvSpPr/>
          <p:nvPr/>
        </p:nvSpPr>
        <p:spPr>
          <a:xfrm>
            <a:off x="1071720" y="1643040"/>
            <a:ext cx="76928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ап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создание проекта деловой иг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) описание последовательности действ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) описание организации проведения иг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4) составление задания для участни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5) подготовка оборуд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7. Методический ден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Цель: стимулирование педагогического коллектива к повышению профессионально-педагогического мастер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ознакомление педагогов с технологией работы воспитателей ДО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) создание «копилки» внутрисадовских методических находо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785880" y="1357200"/>
            <a:ext cx="769284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ходе этого мероприятия проводятся открытые занятия воспитателей с детьми, анкетирование участников образовательного процесса (воспитателей, детей, родителе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вершается методический день собранием педагогического коллектива с подведением итогов работы и с выработкой реш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8. Конкурс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Цель: стимулирование педагогического коллектива к повышению профессионально-педагогического мастер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нкурс – соревнование, имеющее целью выделить наилучших из числа участ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мотр-конкурс – способ проверки профессиональных знаний, умений, навыков, педагогической эрудиции, демонстрация и оценка творческих достижений педагог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"/>
          <p:cNvSpPr/>
          <p:nvPr/>
        </p:nvSpPr>
        <p:spPr>
          <a:xfrm>
            <a:off x="928800" y="1214280"/>
            <a:ext cx="769284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успешного проведения конкурса необходимо соблюдать ряд услов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создать мотивацию для участия в конкурс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разработать Положение о конкурс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) обеспечить методическое сопровождение участников (консультации, методическая литература и др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4) обеспечить по возможности необходимыми материалами (канцтовары, костюмы и др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785880" y="1428840"/>
            <a:ext cx="76928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5) поощрить всех участников морально (вручение грамот, дипломов) и материальн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6) предоставить возможность ознакомления с лучшими конкурсными материал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7) познакомить с аналитическими материалами конкурса (справки, экспертные заключения и др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8) опубликовать итоги конкурса для общественности (в газете ДОУ, информационном листе и др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9. Фестиваль педагогических иде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Цель: знакомство с педагогическими находками, творчеством отдельных педагогов; стимулировать развитие инициативы и творчества педагог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ставляются практические работы (например, результат ручного труда педагогов)и  теоретические работы (педагогический опыт работы; педагогические проекты и др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10. Аукцион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публичная продажа товара («идей») с использованием торгов. Товар продается в присутствии многих желающих (педагогов). Цена товара определяется в процессе того, как покупатели торгуются между собой за право купить това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дагоги покупают только те идеи, которые не только заслуживают внимания, но и наиболее реальны, жизнеспособны в условиях работы дошкольного учре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714240" y="1143000"/>
            <a:ext cx="769320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етодическая работа – это целостная, основанная на достижениях науки и передового педагогического опыта система взаимосвязанных мер, направленных на повышение профессионального мастерства каждого педагога, повышение качества и эффективности учебного процес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укционеры имеют право ознакомиться и приобрести тот или иной заинтересовавший их лот (идею). Идея достанется тому, кто правильно ответит на 3 вопроса. Если педагог не отвечает на вопросы, то идея остается в банке методического кабин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1. Консультация –парадокс или консультация с запланированными ошибками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Цель: повышение активности, побуждения к размышлению, анализу и привлечения внимания педагогов к наиболее сложным аспектам излагаемой 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714240" y="92880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1 вариант консультаци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арший воспитатель читает текст консультации, где допущено определенное количество ошибок (не более 10 для двухчасовой консультации, не более 5 для часовой консультации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дагоги фиксируют неправильные положения консульт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тем проводится работа над ошибками: педагоги называют те положения, которые они посчитали неверны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785880" y="1500120"/>
            <a:ext cx="76928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2 вариант консультаци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дагогам дается текст консульт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дагоги должны распределить материал на листе бумаги по двум колонкам: слева -достоверный, справа – ошибочный, который затем анализируе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2. Педагогический рин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Цель: совершенствование профессиональных знаний педагогов, выявление общей эрудиции.; помогает уточнить и систематизировать знания педагог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десь предлагается атаковать соперника вопросами, на которые должен  оперативно быть дан ответ: «да» или «нет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акая форма используется только среди опытных педагог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3. Тренин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Цель: отработка профессиональных навыков и ум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 проведении используются педагогические ситуации, раздаточный материал, технические средства обу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ренинги целесообразно проводить в небольших группах численностью от 6 до 12 челов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4. Метод проек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етод проектов как педагогическая технология – это совокупность исследовательских, поисковых, проблемных методов, приемов и действий педагога в определенной последовательности для достижения поставленной задачи – решения пробл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мение пользоваться проектным методом – показатель высокой квалификации педаго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5. Дискуссионные качели (дискусс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удитория делится на группы (2 и более). Каждая группа защищает противоположные мнения по одной пробле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6. Квест-иг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вест – это игры, в которых игрокам необходимо искать различные предметы, находить им применение, разговаривать с различными персонажами в игре, решать головоломки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гру можно проводить как в помещении, так и на улиц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500040" y="714240"/>
            <a:ext cx="769320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вест – это командная игра. Идея игры проста –команда, перемещаясь по точкам, выполняет различные задания. «Изюминка» квеста – выполнив одно задание, играющие получают подсказку к выполнению следующего, что является эффективным средством повышения двигательной активности и мотивационной готовности к познанию и исследованию, развитию творче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857160" y="1143000"/>
            <a:ext cx="769320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ктивизация творческой деятельности педагогов возможна через нетрадиционные, интерактивные методы и формы работы с педагог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лово «интерактив» пришло к нам из английского языка. Понятие «интеракция»  (взаимодействие – пер с анг.) возникло впервые в социологии и социальной психолог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2"/>
          <p:cNvSpPr/>
          <p:nvPr/>
        </p:nvSpPr>
        <p:spPr>
          <a:xfrm>
            <a:off x="826920" y="2349360"/>
            <a:ext cx="76932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785880" y="1000080"/>
            <a:ext cx="769284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Интерактивный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значает способность действовать или находиться в режиме беседы, диалога с чем-либо (например, компьютером) или с кем-либо (например, человеком). Отсюда вывод, что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интерактивное обучение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это прежде всего, диалоговое обучение. В ходе которого осуществляется взаимодействие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педагогов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чение использования интерактивных методов в дошкольном учрежден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вышение качества воспитательно-образовательного процесса в дошкольном учрежден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имулирование интереса и мотивации педагогов к самообразовани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вышение уровня активности и самостоятель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витие стремления к сотрудничеству, эмпат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овые формы методической работ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астер-класс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ворческие микрогрупп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Круглый стол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вристическая бесе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искуссионные качели (дискуссия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овая иг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курс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укцио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2"/>
          <p:cNvSpPr/>
          <p:nvPr/>
        </p:nvSpPr>
        <p:spPr>
          <a:xfrm>
            <a:off x="1000080" y="92880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ставка -Фестиваль педагогических идей (ярмарка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сультация-парадокс или консультация с запланированными ошибк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дагогический ринг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ренинг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 проек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блемные психологические и педагогические ситуации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857160" y="714240"/>
            <a:ext cx="769320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Киношкола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ультимедийные презент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стандартные зад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ртфоли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вес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кспресс-тестирование или экспресс-опрос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нстантин Кузнецов</dc:creator>
  <dc:description/>
  <dc:language>en-US</dc:language>
  <cp:lastModifiedBy>Юля</cp:lastModifiedBy>
  <dcterms:modified xsi:type="dcterms:W3CDTF">2019-05-19T09:04:56Z</dcterms:modified>
  <cp:revision>50</cp:revision>
  <dc:subject/>
  <dc:title>Слайд 1</dc:title>
</cp:coreProperties>
</file>