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7B28D-7E64-47B6-B1C7-3A040D6FF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664E-F6C5-4728-8FE7-7A064365834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60D657-3E3F-47D2-9B73-195273C2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CA2F07-8CF4-4D0C-B92C-D465DE40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557F0C-CC8A-46A4-906D-C4923716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09EE1E-A975-491C-9204-EBD09759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E38047-21A4-4293-92E9-A8DAD7C9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0ADDDF-9F99-4ACF-9716-42340270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89FD6E-9EA0-446C-A1DE-04A31D0C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70611E-54F3-4FD1-9B80-2D631EC7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F5E8C-7777-4B2B-9390-E6B51965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2EB835-CB24-47DB-9081-85724DBE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5635-6579-4F48-B228-A2C40DE7CD6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C79BC3-EDEA-4E36-B808-511D596A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D1DE8B-F15B-4695-B520-6EA6C584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87B756-6F8F-4B85-A558-B85FB737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3CA16-0F9F-4401-A86B-CDC2EEA8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898088-C757-454C-9CCB-61193CF5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7F49B-70A3-47B0-B628-5A12568B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AB0E72-922E-4CB6-93BC-A6E8DA4F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8DCF5-C219-43F7-8212-426371B5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65A62B-4F5F-491E-BF0D-8D2F8680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02E835-D33E-43AE-8056-C63893A3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DC32E-CDE5-41B1-ABBA-CE4B3BC4D74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67A980-2B69-467A-930F-DE57F0B0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323DE-0F03-4A83-9322-19B7F8450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BC0C3-9087-44DF-A066-F877DCE7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3F3F9-8A14-4CA6-9290-62D9FD3B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A542B-7F32-42DA-90BE-DCAA1CBB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037E1-FC57-44BA-906D-94943A38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FD330-3E9B-4335-8091-4127824D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82093-F9BB-4DEC-A1D4-1C664AEC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4C17-A459-4305-B590-409AFBB0D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182B0-FD97-4CFA-8C41-AEAA23E0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800AA-FF15-4845-9322-BCD08D12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8F9D8-89C8-4A3C-808F-21E11C94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3FA99-8949-42A7-9B94-8598CB20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F53EC-AD0D-4D28-9866-74A99DAB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D00950-F145-4894-AEB4-19906549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E5069E-C47D-47BE-86B8-F5317606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EB23A3-EE2C-47CE-8358-C1F3E66E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05CEC6-314D-48CB-8C2F-484062FC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0BD21E-D1A2-4EDF-BE79-D1F673AF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E1EF1-2673-4652-A346-6FA94BFC17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A0AAC1-4B4C-4EFC-AA64-8C143558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DAF6B5-5652-4EDA-B436-3676FBB9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6DCC93-8C9C-48F2-9D44-0AE88ADF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BB73EE-9B20-49EA-A824-B572DF78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834D0E-1BDB-4635-B64D-9CF328D8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969C2B-31EF-476C-9E1E-85D39F61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503A5B-8300-40A0-8DF5-8BA3A984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CA424D-AB24-480B-8B17-60E0A2C5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7B1FDC-A44E-4F82-B914-F6B04C28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317D12-22D4-4DAC-9FFF-986CF1A0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9CC4-2888-4EDC-8B23-E922B251C5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FBB77D-9082-447A-98A4-A1B1D680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2CC40F-0E77-41BE-B87C-1C597549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06988C-2173-4F87-8E36-9D4D4F39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8BEC57-C59C-4F98-B8BA-E19CDFF5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C5BD5C-09F5-4AF3-A487-E7F74A51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B464B1-D6BA-4C85-AC5F-47166107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A03C9B-B793-421C-92BC-48FDD5A2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4B5E9F-5212-4A17-8F3E-7C97A867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068F11-1563-4B98-AB30-EE76E8D4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E6A54B-B9EE-40CD-97AE-9B59B415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60AC-E344-4706-8E87-A6A6C2F1151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6C909E-8A08-4397-9460-8DCF9F61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1527E3-5F78-4B2F-993E-6CC01B0E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FA38C3-3DD1-46DA-96A9-6B9EA5AE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7F697E-7F1F-49DC-A7DC-E36A793A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65B8BB-0A3D-4559-9E5A-92F79262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704C90-8192-4DB0-9327-EB5C166D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87D651-6D5F-4676-8A32-E3ABD1A2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4E66F8-8B22-4365-AA74-95016F87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F0DFCF-D405-4A08-99F1-901A6247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DF970E-91E6-49C0-AAF3-828D00C0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A260-A4CC-464D-8B52-2846B81901F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8840E2-FA4D-4019-B60A-7904F5572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D6FC07-6798-408E-9BAD-11CCF915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D70D56-DA96-4BC5-A9E6-36B14BD3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959BF2-0303-403E-80B1-2C9DDCFD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7BFC15-4EDA-47FC-B4CF-D7CEF4C5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FCB17E-ADC2-4486-A796-F459D998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F99B61-C3BE-4D70-AE7E-EB9FA78A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82B7B2-25B8-40FC-978E-7736039E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F744B0-9FE6-4DE1-B82C-76351DCF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63373E-69AF-4BEC-AE06-1B71BF13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7099-71DC-4EDA-88FE-0E2305A30F2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CB48C3-428F-4871-BD31-562B3370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C10735-96E4-411C-914F-04FF3A92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FB537C-A918-42F9-B318-9E352860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023DA6-4643-400F-8F07-7D6E55A0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D6A9B0-DE21-4D71-98B0-E250E154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7CB34F-B086-43B7-9F54-49F6EDE2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71109B-98AB-4B8F-9722-552DDEFC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4AD97B-7D8B-4F1F-8373-89E95958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8D4400-C967-415B-8A73-82D2BE9D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E87A42-9DBA-4C8A-A6C0-CD4DC16B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D5261-E9E3-44F8-9511-4BAB74DD637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C17660-7F59-4466-9AE2-7D991213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488BCD-FCCD-421E-9F30-EF5CDBDB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148C91-A09C-45C7-B5FE-F08CEAF6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1CB914-7EF0-449F-80EF-F2CD0949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514B6C-14CF-4D37-BF28-536874E0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9D02DD-7A4F-4556-AD07-3ABB1278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BDD45A-6BC3-46B6-A897-C7FED8BB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F12B7A-A535-4E02-91B5-4AA246D9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106ADD-69DE-4F3B-8965-43FF7493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5DB08B-CEBF-4A90-BA59-0879AE86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E5E5-DAC6-4EEC-B081-6945CA15CD5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9A1AA3-A3DC-4392-A31D-391BB770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3A8E9C-B2A4-4323-83BA-017AF615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928692-465F-4DD2-B6A4-0C9653B5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15C941-F3D7-49D2-B63A-C7095556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BF9881-4B20-4BC5-BD64-093D3FD5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52929B-BA1C-4F82-A3DC-523E83B0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202563-4148-4876-8D6B-8F2EA433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4D333-D47E-4954-8202-4DC5C462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E9D4DB-2741-4E80-A0F5-2884A1C6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A34B86-94BD-4042-907C-B9616EB1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5864040" cy="6854760"/>
            <a:chOff x="0" y="0"/>
            <a:chExt cx="5864040" cy="685476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4569120" cy="68547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685440" y="990360"/>
              <a:ext cx="5178600" cy="1902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Group 4"/>
          <p:cNvGrpSpPr/>
          <p:nvPr/>
        </p:nvGrpSpPr>
        <p:grpSpPr>
          <a:xfrm>
            <a:off x="3631680" y="4889520"/>
            <a:ext cx="4873680" cy="315720"/>
            <a:chOff x="3631680" y="4889520"/>
            <a:chExt cx="4873680" cy="315720"/>
          </a:xfrm>
        </p:grpSpPr>
        <p:sp>
          <p:nvSpPr>
            <p:cNvPr id="4" name="AutoShape 5"/>
            <p:cNvSpPr/>
            <p:nvPr/>
          </p:nvSpPr>
          <p:spPr>
            <a:xfrm flipH="1">
              <a:off x="3631320" y="4889520"/>
              <a:ext cx="4622760" cy="3139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8245440" y="4889520"/>
              <a:ext cx="259920" cy="3157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3040" y="747360"/>
            <a:ext cx="7775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8360" indent="-2811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76320" y="6243120"/>
            <a:ext cx="58248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F83AC2-2A4B-4ED7-8734-CDF13488B74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13DA8E-3819-4CE1-8114-E4A2AE59E7A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8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E1D110-2536-45E3-8877-A90ADB20C8B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6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9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98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7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4A4919-CA7F-48A0-A51F-4A6C9F17BA3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5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8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9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0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4BC48E-CAA0-4633-889A-2EB26507D06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92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319600-63D7-4EF8-8619-35E555C0B9B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6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6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BF9E15-C6B5-437B-AB5B-1244726FE2C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28EE37-7B5E-40FA-B780-38A151BA5BA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2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6E360D-477D-4E3A-AA8F-5FC22B0D1ED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7F82B6-C9A3-4E45-BB20-B17CF1E7F7A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ctr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новационные формы методической работы в ДО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500040" y="14292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1. Мастер-класс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2"/>
          <p:cNvSpPr/>
          <p:nvPr/>
        </p:nvSpPr>
        <p:spPr>
          <a:xfrm>
            <a:off x="428760" y="1285920"/>
            <a:ext cx="76928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новные преимущества мастер-класса – это сочетание короткой теоретической части с индивидуальной работой педагогов, направленной на приобретение и закрепление практических знаний и навы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то компактные курсы повышения квалификации. Это возможность познакомиться с новой технологией, новыми методиками и авторскими наработ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тличается от семинара тем, что во время мастер-класса ведущий специалист рассказывает и показывает как применять на практике новую технологию или мет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«Мастер-класс –ярко выраженная форма ученичества именно у Мастера, то есть передача мастером ученикам опыта, мастерства, искусства…» (М.М.Поташник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чение Мастер-класс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Font typeface="Arial"/>
              <a:buAutoNum type="arabicParenR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беспечивает формирование мотивации и познавательной потребности в конкретной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Font typeface="Arial"/>
              <a:buAutoNum type="arabicParenR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тимулирует познавательный интерес и отрабатываются умения по планированию, самоорганизации и самоконтролю педагогической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Font typeface="Arial"/>
              <a:buAutoNum type="arabicParenR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существляется индивидуальный подход по отношению к каждому участнику мастер-класса, отслеживаются позитивные результаты учебно-познавательной деятельности каждого учи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Font typeface="Arial"/>
              <a:buAutoNum type="arabicParenR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642960" y="285840"/>
            <a:ext cx="778032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2. Творческие микрогрупп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785880" y="1285920"/>
            <a:ext cx="76928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Цель: 1) создание в коллективе обстановки для творческого поиска наиболее эффективных форм и методов в работе с деть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) формирование у педагогов потребностей во владении современными технологиями в области дошкольной педагогики и психологи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) выделение наиболее перспективных идей в организации воспитательно-образовательного процесса с деть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) внедрение новых образовательных технологий, способствующих мотивации и активации профессиональной деятельности педагогического коллект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ворческие микрогруппы создаются  в ДОУ для решения проблем, связанных с организацией образовательного процес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бор участников творческих групп организовывается на добровольной основ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3. «Круглый стол»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одна из форм общения педагогов, в процессе которой обсуждаются  важные психолого-педагогические, методические проблемы и вырабатывается общее мнение, принимается реш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форма позволяет сплотить коллектив, научить педагогов прислушиваться к мнениям коллег, уметь слушать и слышать их, выработать общую точку зр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рганизатор «круглого стола» продумывает и готовит вопросы к обсужде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просы должны быть нацелены на достижение конкретной ц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ычно продумывается 1-3 вопроса. Каждый вопрос обсуждается отдельн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571680" y="1714680"/>
            <a:ext cx="76928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оставляется слово педагогам, имеющим опыт работы по пробл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едущий обобщает итоги обсуждения каждого вопрос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конце обсуждения ведущий предлагает общую позицию с учетом замечаний, дополн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4. Литературная или педагогическая газет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Цель: развитие творческих возможностей взрослых, а также детей и родит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спитатели пишут статьи, рассказы, сочиняют стихи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5. Эвристическая бесед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спользуется при обмене опытом между педагогами, анализе конкретной ситуации, при обсуждении методической литературы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1000080" y="142884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словия эффективности ЭБ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предметом беседы лучше избирать практически значимый, актуальный вопро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необходимо чтобы  воспитатели располагали достаточным запасом теоретических знаний и профессиональным опы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785880" y="214200"/>
            <a:ext cx="77803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857160" y="85716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. Белая К.Ю.Методическая работа в ДОУ: анализ, планирование, формы и методы – М., 20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. Белая К.Ю. Методическая деятельность в ДОО. ФГОС ДО. – М., 201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. Савченко В.И.Организация системы методической работы в ДОО по сопровождению ФГОС. – М, 2016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3366"/>
              </a:buClr>
              <a:buFont typeface="Arial"/>
              <a:buAutoNum type="arabicPeriod" startAt="4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фонькина Ю. Индивидуальный методический  маршрут воспитателя ДОО. Журнал для проектирования. ФГОС ДО. – М., 201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3366"/>
              </a:buClr>
              <a:buFont typeface="Arial"/>
              <a:buAutoNum type="arabicPeriod" startAt="4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Шмонина Л.В., Зайцева О.И. Инновационные технологии в методической работе ДОУ. Планирование, формы работы. ФГОС. – М, 201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3366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руктура ЭБ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 ставится проблема, вопрос и т.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способ реш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дается пошаговая инструкция деятельности педагогов по решению пробл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результат ре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6. Деловая игр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это метод иммитации (подражания) принятия управленческих решений в различных ситуациях, путем игры по заданным или вырабатываемым самим участниками игры правил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еловая игра повышает интерес, вызывает высокую активность, совершенствует умение в разрешении реальных педагогических  и управленческих проблем и способствует  формированию профессионального творческого мыш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1071720" y="1643040"/>
            <a:ext cx="76928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ап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создание проекта деловой иг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описание последовательности действ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описание организации проведения иг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) составление задания для участни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5) подготовка оборуд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7. Методический ден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ель: стимулирование педагогического коллектива к повышению профессионально-педагогического мастер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ознакомление педагогов с технологией работы воспитателей ДО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создание «копилки» внутрисадовских методических находо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785880" y="1357200"/>
            <a:ext cx="769284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ходе этого мероприятия проводятся открытые занятия воспитателей с детьми, анкетирование участников образовательного процесса (воспитателей, детей, родителе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вершается методический день собранием педагогического коллектива с подведением итогов работы и с выработкой реш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8. Конкурс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ель: стимулирование педагогического коллектива к повышению профессионально-педагогического мастер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нкурс – соревнование, имеющее целью выделить наилучших из числа участ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мотр-конкурс – способ проверки профессиональных знаний, умений, навыков, педагогической эрудиции, демонстрация и оценка творческих достижений педагог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928800" y="1214280"/>
            <a:ext cx="769284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успешного проведения конкурса необходимо соблюдать ряд услов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создать мотивацию для участия в конкурс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разработать Положение о конкурс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обеспечить методическое сопровождение участников (консультации, методическая литература и др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) обеспечить по возможности необходимыми материалами (канцтовары, костюмы и др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785880" y="1428840"/>
            <a:ext cx="76928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5) поощрить всех участников морально (вручение грамот, дипломов) и материальн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6) предоставить возможность ознакомления с лучшими конкурсными материал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7) познакомить с аналитическими материалами конкурса (справки, экспертные заключения и др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8) опубликовать итоги конкурса для общественности (в газете ДОУ, информационном листе и др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9. Фестиваль педагогических иде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ель: знакомство с педагогическими находками, творчеством отдельных педагогов; стимулировать развитие инициативы и творчества педагог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ставляются практические работы (например, результат ручного труда педагогов)и  теоретические работы (педагогический опыт работы; педагогические проекты и др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10. Аукцион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публичная продажа товара («идей») с использованием торгов. Товар продается в присутствии многих желающих (педагогов). Цена товара определяется в процессе того, как покупатели торгуются между собой за право купить това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дагоги покупают только те идеи, которые не только заслуживают внимания, но и наиболее реальны, жизнеспособны в условиях работы дошкольного учре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714240" y="1143000"/>
            <a:ext cx="769320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тодическая работа – это целостная, основанная на достижениях науки и передового педагогического опыта система взаимосвязанных мер, направленных на повышение профессионального мастерства каждого педагога, повышение качества и эффективности учебного процес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укционеры имеют право ознакомиться и приобрести тот или иной заинтересовавший их лот (идею). Идея достанется тому, кто правильно ответит на 3 вопроса. Если педагог не отвечает на вопросы, то идея остается в банке методического кабин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1. Консультация –парадокс или консультация с запланированными ошибками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ель: повышение активности, побуждения к размышлению, анализу и привлечения внимания педагогов к наиболее сложным аспектам излагаемой т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714240" y="92880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1 вариант консультаци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арший воспитатель читает текст консультации, где допущено определенное количество ошибок (не более 10 для двухчасовой консультации, не более 5 для часовой консультации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дагоги фиксируют неправильные положения консульт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атем проводится работа над ошибками: педагоги называют те положения, которые они посчитали неверны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785880" y="1500120"/>
            <a:ext cx="76928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2 вариант консультаци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дагогам дается текст консульт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дагоги должны распределить материал на листе бумаги по двум колонкам: слева -достоверный, справа – ошибочный, который затем анализиру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2. Педагогический рин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ель: совершенствование профессиональных знаний педагогов, выявление общей эрудиции.; помогает уточнить и систематизировать знания педагог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десь предлагается атаковать соперника вопросами, на которые должен  оперативно быть дан ответ: «да» или «нет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акая форма используется только среди опытных педагог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3. Тренин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ель: отработка профессиональных навыков и ум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и проведении используются педагогические ситуации, раздаточный материал, технические средства обу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енинги целесообразно проводить в небольших группах численностью от 6 до 12 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4. Метод проек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тод проектов как педагогическая технология – это совокупность исследовательских, поисковых, проблемных методов, приемов и действий педагога в определенной последовательности для достижения поставленной задачи – решения пробле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мение пользоваться проектным методом – показатель высокой квалификации педаго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5. Дискуссионные качели (дискусс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удитория делится на группы (2 и более). Каждая группа защищает противоположные мнения по одной пробле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16. Квест-иг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вест – это игры, в которых игрокам необходимо искать различные предметы, находить им применение, разговаривать с различными персонажами в игре, решать головоломки и т.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гру можно проводить как в помещении, так и на улиц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500040" y="714240"/>
            <a:ext cx="769320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вест – это командная игра. Идея игры проста –команда, перемещаясь по точкам, выполняет различные задания. «Изюминка» квеста – выполнив одно задание, играющие получают подсказку к выполнению следующего, что является эффективным средством повышения двигательной активности и мотивационной готовности к познанию и исследованию, развитию творч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857160" y="1143000"/>
            <a:ext cx="769320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ктивизация творческой деятельности педагогов возможна через нетрадиционные, интерактивные методы и формы работы с педагог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лово «интерактив» пришло к нам из английского языка. Понятие «интеракция»  (взаимодействие – пер с анг.) возникло впервые в социологии и социальной психолог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2"/>
          <p:cNvSpPr/>
          <p:nvPr/>
        </p:nvSpPr>
        <p:spPr>
          <a:xfrm>
            <a:off x="826920" y="2349360"/>
            <a:ext cx="76932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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785880" y="1000080"/>
            <a:ext cx="769284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Интерактивный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значает способность действовать или находиться в режиме беседы, диалога с чем-либо (например, компьютером) или с кем-либо (например, человеком). Отсюда вывод, что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интерактивное обучение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это прежде всего, диалоговое обучение. В ходе которого осуществляется взаимодействие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педагогов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Значение использования интерактивных методов в дошкольном учрежден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вышение качества воспитательно-образовательного процесса в дошкольном учрежден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тимулирование интереса и мотивации педагогов к самообразован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вышение уровня активности и самостояте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витие стремления к сотрудничеству, эмпат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овые формы методической работ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астер-клас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ворческие микрогрупп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Круглый стол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вристическая бесе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искуссионные качели (дискуссия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ловая иг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курс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укцио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1000080" y="92880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ставка -Фестиваль педагогических идей (ярмарка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сультация-парадокс или консультация с запланированными ошибк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едагогический ринг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ренинг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 проек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блемные психологические и педагогические ситуации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857160" y="714240"/>
            <a:ext cx="769320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Киношкола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ультимедийные презент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стандартные зад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ртфоли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вес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кспресс-тестирование или экспресс-опрос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нстантин Кузнецов</dc:creator>
  <dc:description/>
  <dc:language>en-US</dc:language>
  <cp:lastModifiedBy>Юля</cp:lastModifiedBy>
  <dcterms:modified xsi:type="dcterms:W3CDTF">2019-05-19T09:04:56Z</dcterms:modified>
  <cp:revision>50</cp:revision>
  <dc:subject/>
  <dc:title>Слайд 1</dc:title>
</cp:coreProperties>
</file>