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CE56-3EC8-4D1D-B7A5-6BCE2DBD2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A7D7-0730-4FDA-A6FE-BE4A8E50182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E0386-7FD1-4390-8B5E-E8F12BF0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5F8871-02BD-4630-9AC0-8A9C568F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36DBD-28EC-4BBD-973A-E1D9A0AE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90C90-B9C2-46F6-AFED-993BDFA1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577B8-BA63-46DE-A8DC-7982919D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13E57-B8EA-4F15-A98A-AFC56DC2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281A1-7C72-4791-A054-91A092EE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05F41-C596-417A-BAFC-D67C7582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C103D-4E67-4638-A1D2-1F725C1E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393DC-B797-42F8-AE99-59E5C6C4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6681-3D11-450B-BCCD-75796BDEBDE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2E17C-4C7C-4D46-A127-DB6FCF08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70C91-EC3B-4D30-B47D-EFC51CB0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78F40-90BC-4076-AEDE-9CAD9392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E8460-AC16-478F-8B41-66F24AF2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9556D-158A-4275-84BE-73149004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50CDE8-8C78-48BA-8A92-88677323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34C44-DC8B-4DB4-B9ED-E93DA6C4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103E6-FD18-4C89-89C2-E4DCC38A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51A937-2438-4993-994F-5E0D86DA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03371-10BF-4B42-B2C9-4738C39E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AD5D-A981-4C80-ACDB-1A32F46628D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16517-CFA5-49CD-A8ED-C539425C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F2799-502D-4F24-9874-1EF14119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BEA14-D73E-4934-BCE9-C98065C9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35710-E495-475C-AAA3-64170DF6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81B06-128A-43C3-9CEE-3466F7C2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83FFE-6E50-40FA-8D51-C2D78B7A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8C2A7-D886-4086-890E-83236123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46C9C-2AE3-4413-BCB8-AE56A8ED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8306-ECCC-4B49-A3D4-382A241B3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8582D-A2A6-4E63-8747-C03DC5B7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1FD1A-A632-4A1E-8A99-60BF7439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C75DC-EFD7-4D0E-B3D5-064D8149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8441F-017F-4E24-819C-34671285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58F1C-56C2-4857-BD9A-072990A0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00E9F1-5C55-4508-BEFE-38AD59E2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3DB2B5-0A6A-406A-A39A-8843D773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CA78EF-1CF4-4D7B-8A73-CE7014B4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FEB847-EC44-41AE-A71A-620327D5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CE1C62-C676-451E-88CE-4AA36DD6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F8369-8CF5-4AD0-AD78-E1ADF3448D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981FE9-6668-482E-8472-9F3D7B29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CFDDD2-7FA3-4AF2-AC5B-A003CC60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81B379-230B-48C9-97CD-9AAAFF53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1650B7-EFAB-4405-B632-C873C185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6E887E-327A-47F5-93F8-9D3DD127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49C3E7-2B3A-41C1-8491-7363D08B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3E29BF-AADE-4364-B34F-24C7D430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873AC-5D50-4701-A6F7-5A135B2A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ED1F65-A933-45DB-8999-CC4649D2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4120FA-1F6D-490F-A27B-788681F8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7ABA-4F18-4997-A480-C5CB93E2FD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F227D5-EBBA-4E67-B915-EF8B0E58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EB27D8-0F9E-4A84-9EA6-091157A4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B86C32-B032-4A64-8D53-92F46389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F380BA-172A-4A41-91FE-3A4A9ACC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6E37DD-26E1-443A-9A16-50E58837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2127D-5F50-4ACB-A14B-8BC74A48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2A3468-7426-4DCF-A455-95AC6AC3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4D780C-87A6-473A-8433-CBF3A108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D20F3C-CA50-490F-9CCD-85DDF78E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0B9AC4-9EE6-4354-A22B-EEA08E79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997F-EF17-47A6-80A9-2789636C520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9B7DD8-3C3A-4459-BEEB-56644A7C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BEBA58-F6AC-49E9-9336-5C5FB9E9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D563EF-AC99-45EB-B7B2-937776E1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5DC244-0FDA-4928-9A4C-91A10015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050F03-BF33-4D6A-84E9-FF7D9045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C88D36-27E4-410E-8668-A3C97D57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CC3FA0-792C-40C3-B2EC-6B50002F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3D0070-0AA3-4E08-A17A-3E47EC20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C99634-EB66-43DC-8D9A-F0D6C7E6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48F5A5-A26B-463B-BDAD-77C004D8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92C9-8EFD-484D-82D9-1A17A0F040F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9DEEDB-76B2-4DC9-8E57-AE5033F2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E3E455-879A-444C-BE7A-0D2FF254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6969CF-4F39-4AFA-9FFF-BA51B861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1B2A8E-0683-49B3-9284-703AF417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C64C30-2E11-4FCA-A1F4-2988D4E2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DD5E26-21C8-43FD-B308-3B3170D0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2DB474-3EE7-4B3B-8C80-564D6959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CFE0CB-3164-4FEE-B920-26EDD936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7AE4BC-819F-420D-AD57-A78ABAE5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92B238-8E99-4243-B5D0-629EF5CB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3392-892F-4323-9052-5600CE16F04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387C90-4F81-4DA1-9FE7-188AF803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FE9C55-20C1-40E9-86C8-AE4C95AA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E40C3A-E095-42C7-8F3A-D459E577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874EE7-9425-4D9D-A460-3DA5A7EB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253865-F825-4411-9508-967131B8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EB5E1A-844D-4B41-B487-DF330B57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5BC455-BE53-46B2-9218-2DAF35B3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B1B968-4703-4391-A279-CE16EC9D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5261C7-F957-4BEE-A0F0-DA2A8B38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9BF102-7208-4243-8D87-9FF03EE7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B920-472C-4818-BF54-1BE6272C370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3EA074-CB77-49F8-ADB3-1FBA9C96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990180-59C1-4E92-B640-7091900E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BA5B54-AFD6-4F33-82B6-879518E0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690653-9F4E-402B-918F-7424B085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ED06D0-8AB8-4947-B4E0-8B191CE0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501BDD-B4A0-4477-8A38-3C3A239E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A000B3-29EC-4862-939F-D49D7B32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D76814-56B5-449F-8570-7B1C38D6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046B70-1662-406C-936D-144A9611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A0F23C-F6DD-4776-A00C-3CA26309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1628-050C-4143-89D3-6EB9887C3ED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9CB262-23C8-4B7E-80CB-C6842428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4E725C-68A7-44BB-85A3-F00BE98C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DC6027-293F-45E7-9729-22AE520A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689F73-6997-4949-8DA8-BFD3DAAA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9406DD-2415-4B2A-8D73-8F7B4956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353F5C-FBB7-4CC4-B70A-60F2D9EC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89262F-61EF-4EDC-8A69-5DC066D3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41FBD-658C-4604-8E87-017B9EF9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5BB8A-DD06-428C-B730-3F2F0ED2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9124C-F1B7-4322-ABE0-B3C51D14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5864040" cy="6854760"/>
            <a:chOff x="0" y="0"/>
            <a:chExt cx="5864040" cy="68547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4569120" cy="68547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685440" y="990360"/>
              <a:ext cx="5178600" cy="1902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Group 4"/>
          <p:cNvGrpSpPr/>
          <p:nvPr/>
        </p:nvGrpSpPr>
        <p:grpSpPr>
          <a:xfrm>
            <a:off x="3631680" y="4889520"/>
            <a:ext cx="4873680" cy="315720"/>
            <a:chOff x="3631680" y="4889520"/>
            <a:chExt cx="4873680" cy="315720"/>
          </a:xfrm>
        </p:grpSpPr>
        <p:sp>
          <p:nvSpPr>
            <p:cNvPr id="4" name="AutoShape 5"/>
            <p:cNvSpPr/>
            <p:nvPr/>
          </p:nvSpPr>
          <p:spPr>
            <a:xfrm flipH="1">
              <a:off x="3631320" y="4889520"/>
              <a:ext cx="4622760" cy="3139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8245440" y="4889520"/>
              <a:ext cx="259920" cy="3157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3040" y="747360"/>
            <a:ext cx="7775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6320" y="6243120"/>
            <a:ext cx="58248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DC4C22-435D-4206-9074-5E558F790A1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347CB3-B61D-4436-B26E-F672114DAE1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8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37B287-DB5B-4E44-9406-E033F94C6B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E38EE6-4F04-4C3F-AD06-B7E9DEF6D4B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9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0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AC8B93-131F-4146-A066-BC178302334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9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E448BF-27DF-4477-BECE-8422705C049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F77E84-89A4-4BC0-8E4A-7FE1B672625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192824-0D64-4204-B5E1-5D8CB9BC473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2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3CE5F3-12AB-4909-AD6B-FCFB76FC2C9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48F3E2-A86A-42F6-9252-5ADBBC3D06A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ctr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новационные формы методической работы в ДО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500040" y="14292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1. Мастер-класс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428760" y="128592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новные преимущества мастер-класса – это сочетание короткой теоретической части с индивидуальной работой педагогов, направленной на приобретение и закрепление практических знаний и навы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о компактные курсы повышения квалификации. Это возможность познакомиться с новой технологией, новыми методиками и авторскими наработ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личается от семинара тем, что во время мастер-класса ведущий специалист рассказывает и показывает как применять на практике новую технологию или мет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Мастер-класс –ярко выраженная форма ученичества именно у Мастера, то есть передача мастером ученикам опыта, мастерства, искусства…» (М.М.Поташни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чение Мастер-класс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arenR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еспечивает формирование мотивации и познавательной потребности в конкретн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arenR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имулирует познавательный интерес и отрабатываются умения по планированию, самоорганизации и самоконтролю педагогическ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arenR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уществляется индивидуальный подход по отношению к каждому участнику мастер-класса, отслеживаются позитивные результаты учебно-познавательной деятельности каждого учи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arenR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642960" y="285840"/>
            <a:ext cx="778032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2. Творческие микрогрупп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785880" y="128592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ль: 1) создание в коллективе обстановки для творческого поиска наиболее эффективных форм и методов в работе с деть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) формирование у педагогов потребностей во владении современными технологиями в области дошкольной педагогики и психолог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) выделение наиболее перспективных идей в организации воспитательно-образовательного процесса с деть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) внедрение новых образовательных технологий, способствующих мотивации и активации профессиональной деятельности педагогического коллект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ворческие микрогруппы создаются  в ДОУ для решения проблем, связанных с организацией образовательного процес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бор участников творческих групп организовывается на добровольной осно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3. «Круглый стол»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одна из форм общения педагогов, в процессе которой обсуждаются  важные психолого-педагогические, методические проблемы и вырабатывается общее мнение, принимается реш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форма позволяет сплотить коллектив, научить педагогов прислушиваться к мнениям коллег, уметь слушать и слышать их, выработать общую точку зр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рганизатор «круглого стола» продумывает и готовит вопросы к обсужд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просы должны быть нацелены на достижение конкретной ц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ычно продумывается 1-3 вопроса. Каждый вопрос обсуждается отдельн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571680" y="171468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оставляется слово педагогам, имеющим опыт работы по пробл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едущий обобщает итоги обсуждения каждого вопро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конце обсуждения ведущий предлагает общую позицию с учетом замечаний, дополн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4. Литературная или педагогическая газет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ель: развитие творческих возможностей взрослых, а также детей и роди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спитатели пишут статьи, рассказы, сочиняют стихи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5. Эвристическая бесед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пользуется при обмене опытом между педагогами, анализе конкретной ситуации, при обсуждении методической литературы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1000080" y="142884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ловия эффективности ЭБ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предметом беседы лучше избирать практически значимый, актуальный вопро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необходимо чтобы  воспитатели располагали достаточным запасом теоретических знаний и профессиональным опы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785880" y="214200"/>
            <a:ext cx="77803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857160" y="85716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. Белая К.Ю.Методическая работа в ДОУ: анализ, планирование, формы и методы – М., 20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. Белая К.Ю. Методическая деятельность в ДОО. ФГОС ДО. – М., 201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. Савченко В.И.Организация системы методической работы в ДОО по сопровождению ФГОС. – М, 201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3366"/>
              </a:buClr>
              <a:buFont typeface="Arial"/>
              <a:buAutoNum type="arabicPeriod" startAt="4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фонькина Ю. Индивидуальный методический  маршрут воспитателя ДОО. Журнал для проектирования. ФГОС ДО. – М., 201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3366"/>
              </a:buClr>
              <a:buFont typeface="Arial"/>
              <a:buAutoNum type="arabicPeriod" startAt="4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монина Л.В., Зайцева О.И. Инновационные технологии в методической работе ДОУ. Планирование, формы работы. ФГОС. – М, 20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уктура ЭБ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 ставится проблема, вопрос и т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способ реш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дается пошаговая инструкция деятельности педагогов по решению пробл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результат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6. Деловая игр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это метод иммитации (подражания) принятия управленческих решений в различных ситуациях, путем игры по заданным или вырабатываемым самим участниками игры правил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еловая игра повышает интерес, вызывает высокую активность, совершенствует умение в разрешении реальных педагогических  и управленческих проблем и способствует  формированию профессионального творческого мыш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1071720" y="164304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ап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создание проекта деловой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описание последовательности действ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описание организации проведения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) составление задания для участ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) подготовка оборуд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7. Методический ден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стимулирование педагогического коллектива к повышению профессионально-педагогического мастер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ознакомление педагогов с технологией работы воспитателей ДО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создание «копилки» внутрисадовских методических находо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785880" y="1357200"/>
            <a:ext cx="769284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ходе этого мероприятия проводятся открытые занятия воспитателей с детьми, анкетирование участников образовательного процесса (воспитателей, детей, родителе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вершается методический день собранием педагогического коллектива с подведением итогов работы и с выработкой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8. Конкурс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стимулирование педагогического коллектива к повышению профессионально-педагогического мастер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курс – соревнование, имеющее целью выделить наилучших из числа участ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мотр-конкурс – способ проверки профессиональных знаний, умений, навыков, педагогической эрудиции, демонстрация и оценка творческих достижений педагог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928800" y="1214280"/>
            <a:ext cx="769284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успешного проведения конкурса необходимо соблюдать ряд услов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создать мотивацию для участия в конкур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разработать Положение о конкур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обеспечить методическое сопровождение участников (консультации, методическая литература и д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) обеспечить по возможности необходимыми материалами (канцтовары, костюмы и д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785880" y="142884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) поощрить всех участников морально (вручение грамот, дипломов) и материаль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6) предоставить возможность ознакомления с лучшими конкурсными материал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7) познакомить с аналитическими материалами конкурса (справки, экспертные заключения и д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8) опубликовать итоги конкурса для общественности (в газете ДОУ, информационном листе и др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9. Фестиваль педагогических иде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знакомство с педагогическими находками, творчеством отдельных педагогов; стимулировать развитие инициативы и творчества педагог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ставляются практические работы (например, результат ручного труда педагогов)и  теоретические работы (педагогический опыт работы; педагогические проекты и др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10. Аукцион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убличная продажа товара («идей») с использованием торгов. Товар продается в присутствии многих желающих (педагогов). Цена товара определяется в процессе того, как покупатели торгуются между собой за право купить тов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дагоги покупают только те идеи, которые не только заслуживают внимания, но и наиболее реальны, жизнеспособны в условиях работы дошкольного учре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714240" y="1143000"/>
            <a:ext cx="769320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тодическая работа – это целостная, основанная на достижениях науки и передового педагогического опыта система взаимосвязанных мер, направленных на повышение профессионального мастерства каждого педагога, повышение качества и эффективности учебного процес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укционеры имеют право ознакомиться и приобрести тот или иной заинтересовавший их лот (идею). Идея достанется тому, кто правильно ответит на 3 вопроса. Если педагог не отвечает на вопросы, то идея остается в банке методического кабин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1. Консультация –парадокс или консультация с запланированными ошибкам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повышение активности, побуждения к размышлению, анализу и привлечения внимания педагогов к наиболее сложным аспектам излагаемой 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714240" y="92880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1 вариант консультац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рший воспитатель читает текст консультации, где допущено определенное количество ошибок (не более 10 для двухчасовой консультации, не более 5 для часовой консультации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дагоги фиксируют неправильные положения консульт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тем проводится работа над ошибками: педагоги называют те положения, которые они посчитали неверны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785880" y="150012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2 вариант консультац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дагогам дается текст консульт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дагоги должны распределить материал на листе бумаги по двум колонкам: слева -достоверный, справа – ошибочный, который затем анализиру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2. Педагогический р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совершенствование профессиональных знаний педагогов, выявление общей эрудиции.; помогает уточнить и систематизировать знания педагог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десь предлагается атаковать соперника вопросами, на которые должен  оперативно быть дан ответ: «да» или «нет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акая форма используется только среди опытных педагог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3. Тренин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отработка профессиональных навыков и ум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 проведении используются педагогические ситуации, раздаточный материал, технические средства обу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енинги целесообразно проводить в небольших группах численностью от 6 до 12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4. Метод проек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тод проектов как педагогическая технология – это совокупность исследовательских, поисковых, проблемных методов, приемов и действий педагога в определенной последовательности для достижения поставленной задачи – решения пробл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мение пользоваться проектным методом – показатель высокой квалификации педаго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5. Дискуссионные качели (дискусс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удитория делится на группы (2 и более). Каждая группа защищает противоположные мнения по одной пробле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6. Квест-иг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вест – это игры, в которых игрокам необходимо искать различные предметы, находить им применение, разговаривать с различными персонажами в игре, решать головоломк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гру можно проводить как в помещении, так и на улиц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500040" y="714240"/>
            <a:ext cx="769320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вест – это командная игра. Идея игры проста –команда, перемещаясь по точкам, выполняет различные задания. «Изюминка» квеста – выполнив одно задание, играющие получают подсказку к выполнению следующего, что является эффективным средством повышения двигательной активности и мотивационной готовности к познанию и исследованию, развитию творч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857160" y="1143000"/>
            <a:ext cx="769320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ктивизация творческой деятельности педагогов возможна через нетрадиционные, интерактивные методы и формы работы с педагог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лово «интерактив» пришло к нам из английского языка. Понятие «интеракция»  (взаимодействие – пер с анг.) возникло впервые в социологии и социальной психолог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826920" y="2349360"/>
            <a:ext cx="76932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785880" y="1000080"/>
            <a:ext cx="76928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Интерактивный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значает способность действовать или находиться в режиме беседы, диалога с чем-либо (например, компьютером) или с кем-либо (например, человеком). Отсюда вывод, что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интерактивное обучение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это прежде всего, диалоговое обучение. В ходе которого осуществляется взаимодействие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едагогов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чение использования интерактивных методов в дошкольном учрежден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ышение качества воспитательно-образовательного процесса в дошкольном учрежд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имулирование интереса и мотивации педагогов к самообразован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ышение уровня активности и самосто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витие стремления к сотрудничеству, эмпат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овые формы методической работ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стер-клас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ворческие микрогрупп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Круглый стол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вристическая бесе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искуссионные качели (дискусси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овая иг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кур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укцио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1000080" y="92880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ставка -Фестиваль педагогических идей (ярмарка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сультация-парадокс или консультация с запланированными ошибк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й рин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ренин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 проек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блемные психологические и педагогические ситуации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857160" y="714240"/>
            <a:ext cx="769320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Киношкола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ультимедийные презен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стандартные зад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ртфоли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вес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кспресс-тестирование или экспресс-опрос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нстантин Кузнецов</dc:creator>
  <dc:description/>
  <dc:language>en-US</dc:language>
  <cp:lastModifiedBy>Юля</cp:lastModifiedBy>
  <dcterms:modified xsi:type="dcterms:W3CDTF">2019-05-19T09:04:56Z</dcterms:modified>
  <cp:revision>50</cp:revision>
  <dc:subject/>
  <dc:title>Слайд 1</dc:title>
</cp:coreProperties>
</file>