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A81-E134-4DF5-961B-B9511376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E54-458D-4FB4-BA5E-7E62F3A4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A7E5-260A-4046-A646-0CED4DED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420-7969-4248-B849-04D93E97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BC3-8B7E-46BB-818B-722A22A0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479-28D6-46C3-B76D-39595ECD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703-CE2E-4B6C-A946-FD620D76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0F2-0F47-40CD-A9BF-1ABD4BEF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9F1-FC6A-4C2C-97F5-34DBE008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029-D894-4649-BE24-53C854C1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424-28A3-4081-A6BC-BD86ABE8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FE9-F5DC-4D7B-8789-49B27579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C655-7889-4F46-8950-4CAB268F76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1062000" y="0"/>
            <a:ext cx="70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565200" y="189000"/>
            <a:ext cx="855036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29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329440" cy="64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-25560" y="2060640"/>
            <a:ext cx="104886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14400" y="2349360"/>
            <a:ext cx="8974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5" descr=""/>
          <p:cNvPicPr/>
          <p:nvPr/>
        </p:nvPicPr>
        <p:blipFill>
          <a:blip r:embed="rId1"/>
          <a:stretch/>
        </p:blipFill>
        <p:spPr>
          <a:xfrm>
            <a:off x="-55440" y="1484280"/>
            <a:ext cx="9199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0T16:53:55Z</dcterms:created>
  <dc:creator>Юлия Воложанина</dc:creator>
  <dc:description/>
  <dc:language>en-US</dc:language>
  <cp:lastModifiedBy>Юля</cp:lastModifiedBy>
  <dcterms:modified xsi:type="dcterms:W3CDTF">2018-12-20T18:49:25Z</dcterms:modified>
  <cp:revision>6</cp:revision>
  <dc:subject/>
  <dc:title>Презентация PowerPoint</dc:title>
</cp:coreProperties>
</file>