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38C-403E-42FA-8D58-B5B0A679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189-03D6-48B1-A1EF-4BA4215E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BA7-C644-4DBB-AAF4-124CF56C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548-89B6-4ED1-A6BF-8EF89E56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43A-11DF-48A7-A361-85DFE9E9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FDF-BD79-43B7-A849-39682C8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175-B3C9-406B-B288-F62A18AF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32C-9CDC-4C09-A347-8345B310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6E1-24EA-4622-8126-307F7F14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7BE-FFB7-4C7D-B46E-F826294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59C-EBC3-44D5-9FBA-81E9530A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53F-7DB9-4FB3-879B-4777BBB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0ADD-5C94-4D5E-8988-FC7B928A0C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062000" y="0"/>
            <a:ext cx="70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565200" y="189000"/>
            <a:ext cx="85503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32944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-25560" y="2060640"/>
            <a:ext cx="104886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14400" y="2349360"/>
            <a:ext cx="8974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5" descr=""/>
          <p:cNvPicPr/>
          <p:nvPr/>
        </p:nvPicPr>
        <p:blipFill>
          <a:blip r:embed="rId1"/>
          <a:stretch/>
        </p:blipFill>
        <p:spPr>
          <a:xfrm>
            <a:off x="-55440" y="1484280"/>
            <a:ext cx="9199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0T16:53:55Z</dcterms:created>
  <dc:creator>Юлия Воложанина</dc:creator>
  <dc:description/>
  <dc:language>en-US</dc:language>
  <cp:lastModifiedBy>Юля</cp:lastModifiedBy>
  <dcterms:modified xsi:type="dcterms:W3CDTF">2018-12-20T18:49:25Z</dcterms:modified>
  <cp:revision>6</cp:revision>
  <dc:subject/>
  <dc:title>Презентация PowerPoint</dc:title>
</cp:coreProperties>
</file>