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4414-803C-482D-84A6-CCD49AB21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BC2E-610B-4BE9-A189-D31F2A4DC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E6D5-937A-4A69-A701-67F92BC06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08F5-6F01-4D30-AD9A-2C73AD3A9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73A6-5862-4F74-A725-2DFCB2F58D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E6A8-CF66-4EFC-BE76-A476466DDF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BDB8-B7CA-4CD5-9BD4-489F5DE5B9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4952-1126-49C9-A54A-65EFAD22E6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A7CD-B95E-45C1-A718-8228110992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C04A-8307-4689-8CE5-AE823E6F0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000C-9F23-41DD-AB4E-CED64F0A3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31A6-7477-498E-9BEB-712AD18FC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70E1-B2EC-4991-9844-7C5E2E6064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4422-139C-4A1A-99A6-66A73E75D6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0A29-5B45-491B-97DB-9757AB44F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A9F5-9F01-4613-A83B-E651EB19A8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8C90-EAF3-448D-A10E-BB9C7D296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6E4F-6939-4B36-B684-B40FFA27A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1B33-2832-4893-99D8-64D3DE00D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6044-AF6C-4293-82B5-C7B217183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2CBC-7E81-44C4-896E-A25E2E628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4DD5-1519-4D10-BDC9-98F4C045B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D469-E584-4225-A83E-01C5A282A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FF10-640C-468E-9E21-3160B6D89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ABAEF-0FD6-43A0-898B-952F0B73065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9085E1-210E-4E64-B462-F8FA6AC5AA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136520" y="501480"/>
            <a:ext cx="743112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обенности рабочей программы по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изическая культура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для учащихся 1-11классов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д редакцией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. И. Ля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835280" y="538200"/>
            <a:ext cx="5545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дательство «Просвещение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20720" y="2886120"/>
            <a:ext cx="1828800" cy="229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7067520" y="3297240"/>
            <a:ext cx="157320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549360"/>
            <a:ext cx="871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ческого воспитания в школе состоит в том, чтобы содействовать формированию всесторонне развитой лич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средство достижения этой цели – овладение школьниками основами личной физической культуры, под которой понимается органическое единство знаний, потребностей и мотивов, оптимальный уровень здоровья, физического развития, разностороннее развитие двигательных (координационных и кондиционных) способностей, умения осуществлять собственно двигательную, физкультурно-оздоровительную и спортивную деятельность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Концепция физического воспитания и здоровья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детей и подростков»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4292640"/>
            <a:ext cx="163656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-289080" y="331920"/>
            <a:ext cx="9433080" cy="1512720"/>
          </a:xfrm>
          <a:prstGeom prst="rect">
            <a:avLst/>
          </a:prstGeom>
          <a:solidFill>
            <a:srgbClr val="def6f1">
              <a:alpha val="70000"/>
            </a:srgbClr>
          </a:solidFill>
          <a:ln cap="sq" w="25560">
            <a:solidFill>
              <a:srgbClr val="8dc6f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50920" y="189000"/>
            <a:ext cx="8424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Основные отличия и</a:t>
            </a:r>
            <a:br>
              <a:rPr sz="3000"/>
            </a:b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преимущества программы физического воспитания  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В. И. Ля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0920" y="2205000"/>
            <a:ext cx="88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ы в недел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1857240" cy="266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268720" cy="297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6804000" y="3241800"/>
            <a:ext cx="2266920" cy="2923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700360" y="3645000"/>
            <a:ext cx="1969920" cy="302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231444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2195640" y="907920"/>
            <a:ext cx="172692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7"/>
          <a:stretch/>
        </p:blipFill>
        <p:spPr>
          <a:xfrm>
            <a:off x="3924360" y="47628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8"/>
          <a:stretch/>
        </p:blipFill>
        <p:spPr>
          <a:xfrm>
            <a:off x="4897440" y="1916280"/>
            <a:ext cx="212256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9"/>
          <a:stretch/>
        </p:blipFill>
        <p:spPr>
          <a:xfrm>
            <a:off x="4643280" y="3860640"/>
            <a:ext cx="18734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0:44:21Z</dcterms:created>
  <dc:creator>Lena</dc:creator>
  <dc:description/>
  <dc:language>en-US</dc:language>
  <cp:lastModifiedBy>Валерия Гробова</cp:lastModifiedBy>
  <dcterms:modified xsi:type="dcterms:W3CDTF">2019-05-19T16:00:56Z</dcterms:modified>
  <cp:revision>42</cp:revision>
  <dc:subject/>
  <dc:title>Издательство «Просвещение» представляет</dc:title>
</cp:coreProperties>
</file>