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7793D-3E83-474C-9F76-A3975FEE7F0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B1731-F9A4-4370-8165-BE7935A5236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FB0F-1BF5-4A29-B4F4-546162E44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DC87-22FE-4B34-8F08-3DDD6FB40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FA29-7B92-4960-9728-0A9484672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3DD2-8E57-4ABE-B083-1B278BD79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6504-474B-414A-9B26-F5BDCCE98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B4E1-A647-4273-A4D2-E1EE7F8AA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D137-4EA4-488C-A58F-D9973565B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9E56-177D-478D-A34E-C2B281959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339B-44B9-4B10-8086-C05C1FC49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9281-67D3-442C-9FEF-B32606EFB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D908-D016-4092-955E-2064A877B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3610-9F69-470F-9B47-7AADBC050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D50EC-3C5B-48AF-AA5A-6657F12F29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58920" y="692280"/>
            <a:ext cx="5887800" cy="41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импиады для учащихся </a:t>
            </a:r>
            <a:br>
              <a:rPr sz="6000"/>
            </a:b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льной </a:t>
            </a:r>
            <a:br>
              <a:rPr sz="6000"/>
            </a:b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00360" y="115560"/>
            <a:ext cx="3527280" cy="64908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нгуру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оугольник 3"/>
          <p:cNvSpPr/>
          <p:nvPr/>
        </p:nvSpPr>
        <p:spPr>
          <a:xfrm>
            <a:off x="142920" y="1901880"/>
            <a:ext cx="873432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нкурс по математике. Сложность заданий делится по возрастным группам: 2 класс, 3-4 классы. После подведения итогов всем участникам выдаётся сертификат участника с указанием места, занятого в школе, в районе, в стран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4"/>
          <p:cNvSpPr/>
          <p:nvPr/>
        </p:nvSpPr>
        <p:spPr>
          <a:xfrm>
            <a:off x="601200" y="981000"/>
            <a:ext cx="82396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s://russian-kenguru.ru/konkursy/kenguru</a:t>
            </a:r>
            <a:r>
              <a:rPr b="0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Рисунок 6" descr="Картинки по запросу олимпиада кенгуру"/>
          <p:cNvPicPr/>
          <p:nvPr/>
        </p:nvPicPr>
        <p:blipFill>
          <a:blip r:embed="rId2"/>
          <a:stretch/>
        </p:blipFill>
        <p:spPr>
          <a:xfrm>
            <a:off x="2389320" y="3780000"/>
            <a:ext cx="4194000" cy="31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920" y="115560"/>
            <a:ext cx="7058160" cy="64908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ий медвежонок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3"/>
          <p:cNvSpPr/>
          <p:nvPr/>
        </p:nvSpPr>
        <p:spPr>
          <a:xfrm>
            <a:off x="200160" y="1535040"/>
            <a:ext cx="874368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нкурс школьников по русскому языку. Он проводится в пяти разных возрастных группах, в том числе для учащихся 2, 3 и 4 классо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Участникам в игровой форме предлагается в каждом из заданий выбрать один из пяти предложенных вариантов ответ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оугольник 4"/>
          <p:cNvSpPr/>
          <p:nvPr/>
        </p:nvSpPr>
        <p:spPr>
          <a:xfrm>
            <a:off x="250920" y="981000"/>
            <a:ext cx="866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s://russian-kenguru.ru/konkursy/russkii-medvezhonok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ÐÐ¾ÑÐ¾Ð¶ÐµÐµ Ð¸Ð·Ð¾Ð±ÑÐ°Ð¶ÐµÐ½Ð¸Ðµ"/>
          <p:cNvPicPr/>
          <p:nvPr/>
        </p:nvPicPr>
        <p:blipFill>
          <a:blip r:embed="rId2"/>
          <a:stretch/>
        </p:blipFill>
        <p:spPr>
          <a:xfrm>
            <a:off x="3068640" y="3481560"/>
            <a:ext cx="236700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54080" y="334800"/>
            <a:ext cx="7058160" cy="64944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Золотое руно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угольник 3"/>
          <p:cNvSpPr/>
          <p:nvPr/>
        </p:nvSpPr>
        <p:spPr>
          <a:xfrm>
            <a:off x="380880" y="1989000"/>
            <a:ext cx="840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еждународный игровой конкурс по истории мировой культу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4"/>
          <p:cNvSpPr/>
          <p:nvPr/>
        </p:nvSpPr>
        <p:spPr>
          <a:xfrm>
            <a:off x="250920" y="981000"/>
            <a:ext cx="866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runodog.ru/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Рисунок 6" descr=""/>
          <p:cNvPicPr/>
          <p:nvPr/>
        </p:nvPicPr>
        <p:blipFill>
          <a:blip r:embed="rId2"/>
          <a:stretch/>
        </p:blipFill>
        <p:spPr>
          <a:xfrm>
            <a:off x="1865160" y="2901960"/>
            <a:ext cx="623124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42920" y="115560"/>
            <a:ext cx="7058160" cy="64908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и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3"/>
          <p:cNvSpPr/>
          <p:nvPr/>
        </p:nvSpPr>
        <p:spPr>
          <a:xfrm>
            <a:off x="223920" y="4265640"/>
            <a:ext cx="866592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еждународные интеллектуальные детские конкурсы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оугольник 4"/>
          <p:cNvSpPr/>
          <p:nvPr/>
        </p:nvSpPr>
        <p:spPr>
          <a:xfrm>
            <a:off x="250920" y="907920"/>
            <a:ext cx="866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www.perspektiva-olymp.ru/pony/main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Рисунок 6" descr="poni_logo2015"/>
          <p:cNvPicPr/>
          <p:nvPr/>
        </p:nvPicPr>
        <p:blipFill>
          <a:blip r:embed="rId2"/>
          <a:stretch/>
        </p:blipFill>
        <p:spPr>
          <a:xfrm>
            <a:off x="2225520" y="1712880"/>
            <a:ext cx="500400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920" y="115560"/>
            <a:ext cx="7058160" cy="64908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Т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оугольник 3"/>
          <p:cNvSpPr/>
          <p:nvPr/>
        </p:nvSpPr>
        <p:spPr>
          <a:xfrm>
            <a:off x="-98280" y="4581360"/>
            <a:ext cx="911700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сероссийский творческий конкурс по информатике и компьютерным наука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рямоугольник 4"/>
          <p:cNvSpPr/>
          <p:nvPr/>
        </p:nvSpPr>
        <p:spPr>
          <a:xfrm>
            <a:off x="250920" y="981000"/>
            <a:ext cx="866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konkurskit.org/index.html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Рисунок 3" descr=""/>
          <p:cNvPicPr/>
          <p:nvPr/>
        </p:nvPicPr>
        <p:blipFill>
          <a:blip r:embed="rId2"/>
          <a:stretch/>
        </p:blipFill>
        <p:spPr>
          <a:xfrm>
            <a:off x="1979640" y="1515960"/>
            <a:ext cx="496260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06T15:59:14Z</dcterms:created>
  <dc:creator>Анна Евшина</dc:creator>
  <dc:description/>
  <dc:language>en-US</dc:language>
  <cp:lastModifiedBy>Юля</cp:lastModifiedBy>
  <dcterms:modified xsi:type="dcterms:W3CDTF">2019-05-19T18:46:16Z</dcterms:modified>
  <cp:revision>8</cp:revision>
  <dc:subject/>
  <dc:title>Олимпиады для учащихся  начальной  школы</dc:title>
</cp:coreProperties>
</file>