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7A19-DE9E-47DB-8ABF-987AF6278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2757-2214-4749-BCC1-CD8AB6D5CC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60C-DFA3-4E9B-B4AE-49ECD47F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77C-6F49-4430-ADCA-3DF2DEBD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5F8-2EF3-41C9-96A0-8C86FD73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5FC-AED1-4DED-AF32-5B0F8473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4D4-E5E8-4FFB-80BD-72D20EB0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FE4-BA6A-4A2E-8744-D20962C9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BB2-B496-4E75-A839-43D51F2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6BA-7FB7-4634-B5A8-4C1AD0E2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8C7-AA85-44EF-94C5-B4578C5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CFD-66DB-4118-A775-BDF3B89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F25-C764-486D-8014-A446437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BF3-AD86-4BB0-9D63-DA1A719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151-6019-4F45-BBB4-A628F0DCE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8920" y="692280"/>
            <a:ext cx="58878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ы для учащихся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52728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нгуру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42920" y="1901880"/>
            <a:ext cx="8734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курс по математике. Сложность заданий делится по возрастным группам: 2 класс, 3-4 классы. После подведения итогов всем участникам выдаётся сертификат участника с указанием места, занятого в школе, в районе, в стр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601200" y="981000"/>
            <a:ext cx="8239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kenguru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6" descr="Картинки по запросу олимпиада кенгуру"/>
          <p:cNvPicPr/>
          <p:nvPr/>
        </p:nvPicPr>
        <p:blipFill>
          <a:blip r:embed="rId2"/>
          <a:stretch/>
        </p:blipFill>
        <p:spPr>
          <a:xfrm>
            <a:off x="2389320" y="3780000"/>
            <a:ext cx="4194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медвежоно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200160" y="1535040"/>
            <a:ext cx="87436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курс школьников по русскому языку. Он проводится в пяти разных возрастных группах, в том числе для учащихся 2, 3 и 4 клас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никам в игровой форме предлагается в каждом из заданий выбрать один из пяти предложенных вариантов отв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ssian-kenguru.ru/konkursy/russkii-medvezhono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068640" y="3481560"/>
            <a:ext cx="2367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54080" y="334800"/>
            <a:ext cx="7058160" cy="649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олотое ру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80880" y="1989000"/>
            <a:ext cx="84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дународный игровой конкурс по истории мировой куль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nodog.ru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/>
          <a:stretch/>
        </p:blipFill>
        <p:spPr>
          <a:xfrm>
            <a:off x="1865160" y="2901960"/>
            <a:ext cx="62312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3920" y="4265640"/>
            <a:ext cx="8665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ждународные интеллектуальные детские конкурсы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250920" y="90792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erspektiva-olymp.ru/pony/mai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6" descr="poni_logo2015"/>
          <p:cNvPicPr/>
          <p:nvPr/>
        </p:nvPicPr>
        <p:blipFill>
          <a:blip r:embed="rId2"/>
          <a:stretch/>
        </p:blipFill>
        <p:spPr>
          <a:xfrm>
            <a:off x="2225520" y="1712880"/>
            <a:ext cx="500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58160" cy="6490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-98280" y="4581360"/>
            <a:ext cx="9117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российский творческий конкурс по информатике и компьютерным нау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50920" y="98100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konkurskit.org/index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2"/>
          <a:stretch/>
        </p:blipFill>
        <p:spPr>
          <a:xfrm>
            <a:off x="1979640" y="1515960"/>
            <a:ext cx="4962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Юля</cp:lastModifiedBy>
  <dcterms:modified xsi:type="dcterms:W3CDTF">2019-05-19T18:46:16Z</dcterms:modified>
  <cp:revision>8</cp:revision>
  <dc:subject/>
  <dc:title>Олимпиады для учащихся  начальной  школы</dc:title>
</cp:coreProperties>
</file>