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761-E336-4711-9004-610D558F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178-8357-405D-BB95-F2CD6694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081-1356-473B-9800-4B154602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EA2-BD7B-4876-8E55-6E06DD52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D62-4380-4616-B4B7-05A46CBE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FAA-BFF0-4FAF-8C02-FC0E4FDE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415-B46A-4BC8-A1E0-7854AA12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443-E657-4E65-93A4-1FF7AE2B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04C-A8EA-414A-AEE7-D22DDA15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BA0-DFAB-43F2-971C-825FBD33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18E-10B4-4C7F-BBC3-9D0F0013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88D-F501-4CD3-B20F-1D5A8DC2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BD63D7-99B2-40AA-B004-ABCC2D593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53440" cy="20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Опасные химические вещества и объек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681880" cy="42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913440" cy="4562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373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аварии на  АО “Нитрон” возможен выброс 40 тонн хлора и 645 тонн акриловой кисл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З «О промышленной безопасности опасных производственных объектов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1 июля 1997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ласс опасности и размер санитарно-защищённой з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11280" y="213372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асс – 100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асс – 50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асс – 30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ласс – 10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– 5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НАЯ ЦЕЛЕВ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ИСТЕМА ХИМИЧЕСКОЙ И БИОЛОГИЧЕСКОЙ  БЕЗОПАСНОСТИ САРАТ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2010-2013 ГО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аратов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алашов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алаков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Вольс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Энгельс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.Гор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ичество ХОО по регионам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3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12120" cy="630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2960" y="12600"/>
            <a:ext cx="640548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71760" y="1928880"/>
            <a:ext cx="6108480" cy="40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ция опасных химических веще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химические вещества делятся на четыре кла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9d190b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d190b"/>
                </a:solidFill>
                <a:latin typeface="Arial"/>
              </a:rPr>
              <a:t>чрезвычайно опа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фтористый водород, хлорокись фосфора, этиленимин, рт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9d190b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d190b"/>
                </a:solidFill>
                <a:latin typeface="Arial"/>
              </a:rPr>
              <a:t>высокоопа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кролеин, мышьяковистый водород, синильная кислота, диметиламин, сероуглерод, фтор, хл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9d190b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d190b"/>
                </a:solidFill>
                <a:latin typeface="Arial"/>
              </a:rPr>
              <a:t>умеренноопа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хлористый водород, бромистый водород, сероводород, триметилам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9d190b"/>
              </a:buClr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d190b"/>
                </a:solidFill>
                <a:latin typeface="Arial"/>
              </a:rPr>
              <a:t>малоопас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ммиак, метилакрилат, аце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210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арактеристики 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йк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сительная пл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токсического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асное химическое веще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химическое вещество, прямое или опосредованное воздействие которого на человека может вызвать острые и хронические заболевания людей или их гиб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191628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варийно химически опасные вещества</a:t>
            </a:r>
            <a:r>
              <a:rPr b="0" i="1" lang="ru-RU" sz="2400" spc="-1" strike="noStrike">
                <a:solidFill>
                  <a:srgbClr val="000000"/>
                </a:solidFill>
                <a:latin typeface="Meiryo"/>
                <a:ea typeface="Meiryo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eiryo"/>
                <a:ea typeface="Meiryo"/>
              </a:rPr>
              <a:t>боевые отравляющие ве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eiryo"/>
                <a:ea typeface="Meiryo"/>
              </a:rPr>
              <a:t>вещества, вызывающие преимущественно хронические заболе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4365720"/>
            <a:ext cx="2019600" cy="2133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4000" y="4437000"/>
            <a:ext cx="1805040" cy="1806480"/>
          </a:xfrm>
          <a:prstGeom prst="rect">
            <a:avLst/>
          </a:prstGeom>
          <a:ln cap="sq" w="9360">
            <a:solidFill>
              <a:srgbClr val="ff0066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611280" y="54936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иды химически опасных вещест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варийно химически опасные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пасные химические вещества или соединения, которые при проливе или выбросе в окружающую среду способны вызвать поражение людей, животных, а также заражение воздуха, почвы, воды, почвы, растений и других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Химически-опасный объект (ХО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3529080" cy="2817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916280"/>
            <a:ext cx="49687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это предприятие, на котором  при аварии могут произойти массовые поражения людей, животных и растений, а также химическое заражение окружающей сре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900000" y="2276640"/>
            <a:ext cx="7631280" cy="3769920"/>
            <a:chOff x="900000" y="2276640"/>
            <a:chExt cx="7631280" cy="3769920"/>
          </a:xfrm>
        </p:grpSpPr>
        <p:sp>
          <p:nvSpPr>
            <p:cNvPr id="55" name=""/>
            <p:cNvSpPr/>
            <p:nvPr/>
          </p:nvSpPr>
          <p:spPr>
            <a:xfrm>
              <a:off x="1044720" y="2276640"/>
              <a:ext cx="2301840" cy="1191240"/>
            </a:xfrm>
            <a:prstGeom prst="rect">
              <a:avLst/>
            </a:prstGeom>
            <a:noFill/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объекты химической промышл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0360" y="2276640"/>
              <a:ext cx="2448000" cy="916920"/>
            </a:xfrm>
            <a:prstGeom prst="rect">
              <a:avLst/>
            </a:prstGeom>
            <a:noFill/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объе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нефтехимическ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промышл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00000" y="3758040"/>
              <a:ext cx="7631280" cy="2288520"/>
            </a:xfrm>
            <a:prstGeom prst="rect">
              <a:avLst/>
            </a:prstGeom>
            <a:noFill/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doni MT Condense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целлюлозно-бумажная, текстильная, пищевая, металлургическая промышленность, коммунальные предприят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doni MT Condense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исследовательские центры, склады (хранилища) и терминалы, транспортные средства и трубопрово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odoni MT Condense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Bodoni MT Condensed"/>
                </a:rPr>
                <a:t>военно-химические объекты (склады и полигоны, заводы по уничтожению химических боеприпасов, спецтранспорт, склады и объекты ракетных топлив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92360" y="2276640"/>
              <a:ext cx="2303640" cy="1191240"/>
            </a:xfrm>
            <a:prstGeom prst="rect">
              <a:avLst/>
            </a:prstGeom>
            <a:noFill/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объе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нехимическ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doni MT Condensed"/>
                </a:rPr>
                <a:t>промышлен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40000" y="3193200"/>
              <a:ext cx="0" cy="1393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40000" y="3334680"/>
              <a:ext cx="4680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7021440" y="3191760"/>
              <a:ext cx="0" cy="1425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5080" y="3193200"/>
              <a:ext cx="0" cy="1393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45080" y="3334680"/>
              <a:ext cx="0" cy="4201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5092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иды опасных химических объе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упнейшие потреб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ёрная и цветная металлург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хлор, аммиак, соляную кислоту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люлозно-бумажная промышлен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хлор, аммиак, сернистый ангидрид, сероводород, соляная кисло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шиностроительная и оборонная промышлен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хлор, аммиак, соляная кислота, водород фторист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мунальное хозяйст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хлор, аммиа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дицинская промышлен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ммиак, хлор, фосген, нитрил акриловые кислоты, соляная кисло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ельское хозяйст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аммиак, хлорпикрин, сернистый ангидр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2000" cy="391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4760" y="5734080"/>
            <a:ext cx="80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АО “Крекинг” использует серную кислоту для очистки нефтепродукт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961320" cy="4478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76360" y="544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 “СЭПО”  и другие предприятия используют амми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12:47Z</dcterms:created>
  <dc:creator>Оля</dc:creator>
  <dc:description/>
  <dc:language>en-US</dc:language>
  <cp:lastModifiedBy/>
  <dcterms:modified xsi:type="dcterms:W3CDTF">2019-05-19T08:45:47Z</dcterms:modified>
  <cp:revision>8</cp:revision>
  <dc:subject/>
  <dc:title>Слайд 1</dc:title>
</cp:coreProperties>
</file>