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5ECC-CEC2-4080-A388-FD25D6A6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60B6-AA27-4360-B40A-EF8E95DC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64EA-9A29-4B9A-AFF0-D3D366F5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5567-226F-4FF5-933A-234158FE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C98A-9E5A-4853-A6B7-BD63F343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0B6-0FC6-46A6-AE7C-855DAFE4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DE72-1527-46AD-909B-C51B8C76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260F-8F19-44FD-94BC-ACB03D53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E67-2F69-445C-84A7-235BE96F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0DD8-EDBC-4520-9719-DF795890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ACD0-6D13-4D76-A544-9B05178A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1ED9-3946-44A7-8840-4F1428E8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A962ED-6A45-42DB-B64A-A4BC179BFB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353440" cy="20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Опасные химические вещества и объек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681880" cy="42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58920" y="692280"/>
            <a:ext cx="6913440" cy="4562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5373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лучае аварии на  АО “Нитрон” возможен выброс 40 тонн хлора и 645 тонн акриловой кисл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З «О промышленной безопасности опасных производственных объектов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1 июля 1997 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ласс опасности и размер санитарно-защищённой зо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11280" y="213372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ласс – 1000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ласс – 500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ласс – 300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ласс – 100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 – 50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ЛАСТНАЯ ЦЕЛЕВ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ИСТЕМА ХИМИЧЕСКОЙ И БИОЛОГИЧЕСКОЙ  БЕЗОПАСНОСТИ САРАТ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2010-2013 ГОД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Саратов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Балашов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Балаково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Вольс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Энгельс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.Гор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личество ХОО по регионам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231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12120" cy="63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42960" y="12600"/>
            <a:ext cx="6405480" cy="2011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71760" y="1928880"/>
            <a:ext cx="6108480" cy="407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ификация опасных химических вещест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химические вещества делятся на четыре кла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9d190b"/>
              </a:buClr>
              <a:buFont typeface="Arial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d190b"/>
                </a:solidFill>
                <a:latin typeface="Arial"/>
              </a:rPr>
              <a:t>чрезвычайно опас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фтористый водород, хлорокись фосфора, этиленимин, рту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9d190b"/>
              </a:buClr>
              <a:buFont typeface="Arial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d190b"/>
                </a:solidFill>
                <a:latin typeface="Arial"/>
              </a:rPr>
              <a:t>высокоопас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акролеин, мышьяковистый водород, синильная кислота, диметиламин, сероуглерод, фтор, хл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9d190b"/>
              </a:buClr>
              <a:buFont typeface="Arial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d190b"/>
                </a:solidFill>
                <a:latin typeface="Arial"/>
              </a:rPr>
              <a:t>умеренноопас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хлористый водород, бромистый водород, сероводород, триметилами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9d190b"/>
              </a:buClr>
              <a:buFont typeface="Arial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d190b"/>
                </a:solidFill>
                <a:latin typeface="Arial"/>
              </a:rPr>
              <a:t>малоопас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аммиак, метилакрилат, ацет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280360" cy="6210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Характеристики АХ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йк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носительная пло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рость токсического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асное химическое веществ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химическое вещество, прямое или опосредованное воздействие которого на человека может вызвать острые и хронические заболевания людей или их гиб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00000" y="1916280"/>
            <a:ext cx="77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варийно химически опасные вещества</a:t>
            </a:r>
            <a:r>
              <a:rPr b="0" i="1" lang="ru-RU" sz="2400" spc="-1" strike="noStrike">
                <a:solidFill>
                  <a:srgbClr val="000000"/>
                </a:solidFill>
                <a:latin typeface="Meiryo"/>
                <a:ea typeface="Meiryo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Meiryo"/>
                <a:ea typeface="Meiryo"/>
              </a:rPr>
              <a:t>боевые отравляющие вещ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Meiryo"/>
                <a:ea typeface="Meiryo"/>
              </a:rPr>
              <a:t>вещества, вызывающие преимущественно хронические заболе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8000" y="4365720"/>
            <a:ext cx="2019600" cy="2133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64000" y="4437000"/>
            <a:ext cx="1805040" cy="1806480"/>
          </a:xfrm>
          <a:prstGeom prst="rect">
            <a:avLst/>
          </a:prstGeom>
          <a:ln cap="sq" w="9360">
            <a:solidFill>
              <a:srgbClr val="ff0066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611280" y="549360"/>
            <a:ext cx="70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иды химически опасных вещест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варийно химически опасные ве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пасные химические вещества или соединения, которые при проливе или выбросе в окружающую среду способны вызвать поражение людей, животных, а также заражение воздуха, почвы, воды, почвы, растений и других объ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Химически-опасный объект (ХО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2565360"/>
            <a:ext cx="3529080" cy="2817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1916280"/>
            <a:ext cx="496872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 это предприятие, на котором  при аварии могут произойти массовые поражения людей, животных и растений, а также химическое заражение окружающей сре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900000" y="2276640"/>
            <a:ext cx="7631280" cy="3769920"/>
            <a:chOff x="900000" y="2276640"/>
            <a:chExt cx="7631280" cy="3769920"/>
          </a:xfrm>
        </p:grpSpPr>
        <p:sp>
          <p:nvSpPr>
            <p:cNvPr id="55" name=""/>
            <p:cNvSpPr/>
            <p:nvPr/>
          </p:nvSpPr>
          <p:spPr>
            <a:xfrm>
              <a:off x="1044720" y="2276640"/>
              <a:ext cx="2301840" cy="1191240"/>
            </a:xfrm>
            <a:prstGeom prst="rect">
              <a:avLst/>
            </a:prstGeom>
            <a:noFill/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doni MT Condensed"/>
                </a:rPr>
                <a:t>объекты химической промышлен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40360" y="2276640"/>
              <a:ext cx="2448000" cy="916920"/>
            </a:xfrm>
            <a:prstGeom prst="rect">
              <a:avLst/>
            </a:prstGeom>
            <a:noFill/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doni MT Condensed"/>
                </a:rPr>
                <a:t>объек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doni MT Condensed"/>
                </a:rPr>
                <a:t>нефтехимическ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doni MT Condensed"/>
                </a:rPr>
                <a:t>промышлен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00000" y="3758040"/>
              <a:ext cx="7631280" cy="2288520"/>
            </a:xfrm>
            <a:prstGeom prst="rect">
              <a:avLst/>
            </a:prstGeom>
            <a:noFill/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doni MT Condense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doni MT Condensed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Bodoni MT Condensed"/>
                </a:rPr>
                <a:t>целлюлозно-бумажная, текстильная, пищевая, металлургическая промышленность, коммунальные предприят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doni MT Condense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doni MT Condensed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Bodoni MT Condensed"/>
                </a:rPr>
                <a:t>исследовательские центры, склады (хранилища) и терминалы, транспортные средства и трубопровод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doni MT Condense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doni MT Condensed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Bodoni MT Condensed"/>
                </a:rPr>
                <a:t>военно-химические объекты (склады и полигоны, заводы по уничтожению химических боеприпасов, спецтранспорт, склады и объекты ракетных топлив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92360" y="2276640"/>
              <a:ext cx="2303640" cy="1191240"/>
            </a:xfrm>
            <a:prstGeom prst="rect">
              <a:avLst/>
            </a:prstGeom>
            <a:noFill/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doni MT Condensed"/>
                </a:rPr>
                <a:t>объек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doni MT Condensed"/>
                </a:rPr>
                <a:t>нехимическ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doni MT Condensed"/>
                </a:rPr>
                <a:t>промышлен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340000" y="3193200"/>
              <a:ext cx="0" cy="1393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40000" y="3334680"/>
              <a:ext cx="46800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7021440" y="3191760"/>
              <a:ext cx="0" cy="14256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5080" y="3193200"/>
              <a:ext cx="0" cy="1393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45080" y="3334680"/>
              <a:ext cx="0" cy="4201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50920" y="404640"/>
            <a:ext cx="84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иды опасных химических объек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упнейшие потреби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ёрная и цветная металлург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хлор, аммиак, соляную кислоту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ллюлозно-бумажная промышленнос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хлор, аммиак, сернистый ангидрид, сероводород, соляная кисло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шиностроительная и оборонная промышленнос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хлор, аммиак, соляная кислота, водород фторист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ммунальное хозяйств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хлор, аммиа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дицинская промышленнос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аммиак, хлор, фосген, нитрил акриловые кислоты, соляная кисло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ельское хозяйств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аммиак, хлорпикрин, сернистый ангидри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2000" cy="3916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4760" y="5734080"/>
            <a:ext cx="80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АО “Крекинг” использует серную кислоту для очистки нефтепродукто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6961320" cy="4478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76360" y="5445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 “СЭПО”  и другие предприятия используют амми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4:12:47Z</dcterms:created>
  <dc:creator>Оля</dc:creator>
  <dc:description/>
  <dc:language>en-US</dc:language>
  <cp:lastModifiedBy/>
  <dcterms:modified xsi:type="dcterms:W3CDTF">2019-05-19T08:45:47Z</dcterms:modified>
  <cp:revision>8</cp:revision>
  <dc:subject/>
  <dc:title>Слайд 1</dc:title>
</cp:coreProperties>
</file>