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A450A-4AD1-4100-BAAD-02D502B48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51204-97A2-48ED-8802-3FBD0D3B8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33D43-3FEC-41C2-893E-EB26D1A36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3624C-E1C1-4E51-AF8B-3F6A7523C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16A75-C78B-43B8-A6C8-00A293691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D1214-DB5D-4D79-94BF-0AF3FF717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780C8-1353-445D-AD63-356A4C413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4D75F-7681-42C6-8070-7D2DFE7B3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81EF2-649C-4DEE-9F89-192AEBA75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7A9DD-BF51-4960-A4CE-64AB8A522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0E396-357B-41A3-B748-EF181D613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E7F60-06F5-4425-94B3-6D65EB3AC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B2E4E-5B28-4E67-8886-0F018B484C5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5" descr="Слайд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Рисунок 1" descr="Слайд1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Рисунок 2" descr="Слайд1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Рисунок 1" descr="Слайд1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Рисунок 1" descr="Слайд18.JPG"/>
          <p:cNvPicPr/>
          <p:nvPr/>
        </p:nvPicPr>
        <p:blipFill>
          <a:blip r:embed="rId1"/>
          <a:stretch/>
        </p:blipFill>
        <p:spPr>
          <a:xfrm>
            <a:off x="21420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Рисунок 1" descr="Слайд2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Рисунок 1" descr="Слайд2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Рисунок 1" descr="Слайд2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Рисунок 1" descr="Слайд2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Рисунок 1" descr="Слайд2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Рисунок 1" descr="Слайд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Рисунок 1" descr="Слайд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Рисунок 1" descr="Слайд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Рисунок 1" descr="Слайд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Рисунок 1" descr="Слайд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Рисунок 1" descr="Слайд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Рисунок 1" descr="Слайд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Рисунок 1" descr="Слайд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3T08:47:24Z</dcterms:created>
  <dc:creator>Администратор</dc:creator>
  <dc:description/>
  <dc:language>en-US</dc:language>
  <cp:lastModifiedBy>RePack by Diakov</cp:lastModifiedBy>
  <dcterms:modified xsi:type="dcterms:W3CDTF">2019-05-19T09:01:15Z</dcterms:modified>
  <cp:revision>3</cp:revision>
  <dc:subject/>
  <dc:title>Слайд 1</dc:title>
</cp:coreProperties>
</file>