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310-C44E-4F16-803D-2096A6DC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C0C-E2F4-48BC-8D0A-43A83441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7A6-84CC-415A-8F57-8079696E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A44-70AA-474A-8562-63546F82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4EF-D80B-45B9-A478-F04DE1E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C62-6FCE-463F-ADD8-EB1BFA33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6EA-DD5C-4255-8BE8-97EE258A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37E-3912-46CC-B035-78B1ABA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716-BAD8-42F3-8C5B-DB2F4EF4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AB8-3A2D-4021-B3E1-D016BEC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FE3-2507-4A89-B3C5-583EEEB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FC-2261-4315-8FF6-6A3636A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70F9-BFCC-4531-A425-79C6985B2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лайд18.JPG"/>
          <p:cNvPicPr/>
          <p:nvPr/>
        </p:nvPicPr>
        <p:blipFill>
          <a:blip r:embed="rId1"/>
          <a:stretch/>
        </p:blipFill>
        <p:spPr>
          <a:xfrm>
            <a:off x="214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Слайд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лайд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Слайд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лайд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Слайд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8:47:24Z</dcterms:created>
  <dc:creator>Администратор</dc:creator>
  <dc:description/>
  <dc:language>en-US</dc:language>
  <cp:lastModifiedBy>RePack by Diakov</cp:lastModifiedBy>
  <dcterms:modified xsi:type="dcterms:W3CDTF">2019-05-19T09:01:15Z</dcterms:modified>
  <cp:revision>3</cp:revision>
  <dc:subject/>
  <dc:title>Слайд 1</dc:title>
</cp:coreProperties>
</file>